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2162-BCB3-4508-BB55-4F59C504F1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58FD-32A8-42BF-9DD3-603CA7A586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4D0-F5F5-4143-8014-0BE1A388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F66-F0E8-4420-A73B-DBFA07A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B60-CB26-4C0D-BD7B-C837F017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916-F98D-43F6-AD89-C34FE0CA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2FD-9E7F-4632-AF52-93B0E8F9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77A-18B8-4040-B2E3-61CEA4E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BF3-3795-4B44-9DD0-815AA35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5D3-3D5D-422E-A1E3-87BCB16A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97E-1A61-4C1C-8B1C-D84F1C77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F78-0910-4E5D-A2A3-9A7E3AC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672-96B6-44DB-B9F1-52DC63B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E2A-DE1B-425B-B9F6-04B86E8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80C7-90AB-4CAF-930B-6E3005AC4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1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sp>
        <p:nvSpPr>
          <p:cNvPr id="49" name="Oval 3"/>
          <p:cNvSpPr/>
          <p:nvPr/>
        </p:nvSpPr>
        <p:spPr>
          <a:xfrm>
            <a:off x="5208480" y="4410000"/>
            <a:ext cx="285840" cy="28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4 Ways We Help Our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Oval 11"/>
          <p:cNvGrpSpPr/>
          <p:nvPr/>
        </p:nvGrpSpPr>
        <p:grpSpPr>
          <a:xfrm>
            <a:off x="4035600" y="2925720"/>
            <a:ext cx="1042920" cy="1042920"/>
            <a:chOff x="4035600" y="2925720"/>
            <a:chExt cx="1042920" cy="1042920"/>
          </a:xfrm>
        </p:grpSpPr>
        <p:pic>
          <p:nvPicPr>
            <p:cNvPr id="52" name="Oval 11" descr=""/>
            <p:cNvPicPr/>
            <p:nvPr/>
          </p:nvPicPr>
          <p:blipFill>
            <a:blip r:embed="rId2"/>
            <a:stretch/>
          </p:blipFill>
          <p:spPr>
            <a:xfrm>
              <a:off x="4035600" y="2925720"/>
              <a:ext cx="1042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30720" y="3100320"/>
              <a:ext cx="6573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2"/>
          <p:cNvSpPr/>
          <p:nvPr/>
        </p:nvSpPr>
        <p:spPr>
          <a:xfrm>
            <a:off x="3836880" y="3243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443640" y="1628640"/>
            <a:ext cx="2735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ersonal Income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mpany Income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yroll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AS, IAS, G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apital Gain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ringe Benefit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perann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6443640" y="3645000"/>
            <a:ext cx="2735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ax Effective Structu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usiness Structur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ole Trader &amp; Partner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mpany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Discretionary Trust  &amp; Unit Trust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lf-Managed Super Fund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84360" y="3716280"/>
            <a:ext cx="2519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Year End Tax Retur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Year End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ookkeeping Monthly/Quarte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XERO Accounting Software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MYOB Accounting Software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71640" y="191628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ccession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Retiremen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stat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059280" y="233028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Reti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500720" y="2185920"/>
            <a:ext cx="158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Minimisation</a:t>
            </a:r>
            <a:br>
              <a:rPr sz="1400"/>
            </a:b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132000" y="4005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Tax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4788000" y="3933720"/>
            <a:ext cx="110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Calibri"/>
              </a:rPr>
              <a:t>Tax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9"/>
          <p:cNvSpPr/>
          <p:nvPr/>
        </p:nvSpPr>
        <p:spPr>
          <a:xfrm>
            <a:off x="2406600" y="5383080"/>
            <a:ext cx="4397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Calibri"/>
              </a:rPr>
              <a:t>Everything revolves around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4:52:18Z</dcterms:created>
  <dc:creator>Michael Carter</dc:creator>
  <dc:description/>
  <dc:language>en-US</dc:language>
  <cp:lastModifiedBy>Nada and Tony</cp:lastModifiedBy>
  <dcterms:modified xsi:type="dcterms:W3CDTF">2012-09-15T04:34:23Z</dcterms:modified>
  <cp:revision>165</cp:revision>
  <dc:subject/>
  <dc:title>Slide 1</dc:title>
</cp:coreProperties>
</file>