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3E45-741A-4E04-8531-9D771D1778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F526-2FD2-4278-8E13-5692382617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D768-90D9-46AA-87D3-A7378DE45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8663-398A-4CFA-947E-DF978653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E175-B93D-4491-8225-60AD4A26A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8ACB-2D3C-4ABC-AAB3-7B70C11FF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575D-A4C5-4BA0-83C9-676DDE5E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B1F1-5775-4382-9323-A779E67C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2097-5FD6-40B6-A33D-2F525BAD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38E1-B10C-4F66-AAD0-77646DCD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6B43-3E4F-4D3A-B9E3-3618D65C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CDFD-B342-476C-8D0F-06F57000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11AC-1150-4069-A122-B3318027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C4F0-9888-4E53-A2B0-522105EA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36BD-059B-475C-9F65-B440BC0F83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iagram 1" descr=""/>
          <p:cNvPicPr/>
          <p:nvPr/>
        </p:nvPicPr>
        <p:blipFill>
          <a:blip r:embed="rId1"/>
          <a:stretch/>
        </p:blipFill>
        <p:spPr>
          <a:xfrm>
            <a:off x="1517760" y="1390680"/>
            <a:ext cx="6108480" cy="4076640"/>
          </a:xfrm>
          <a:prstGeom prst="rect">
            <a:avLst/>
          </a:prstGeom>
          <a:ln w="0">
            <a:noFill/>
          </a:ln>
        </p:spPr>
      </p:pic>
      <p:sp>
        <p:nvSpPr>
          <p:cNvPr id="49" name="Oval 3"/>
          <p:cNvSpPr/>
          <p:nvPr/>
        </p:nvSpPr>
        <p:spPr>
          <a:xfrm>
            <a:off x="5208480" y="4410000"/>
            <a:ext cx="285840" cy="285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4 Ways We Help Our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Oval 11"/>
          <p:cNvGrpSpPr/>
          <p:nvPr/>
        </p:nvGrpSpPr>
        <p:grpSpPr>
          <a:xfrm>
            <a:off x="4035600" y="2925720"/>
            <a:ext cx="1042920" cy="1042920"/>
            <a:chOff x="4035600" y="2925720"/>
            <a:chExt cx="1042920" cy="1042920"/>
          </a:xfrm>
        </p:grpSpPr>
        <p:pic>
          <p:nvPicPr>
            <p:cNvPr id="52" name="Oval 11" descr=""/>
            <p:cNvPicPr/>
            <p:nvPr/>
          </p:nvPicPr>
          <p:blipFill>
            <a:blip r:embed="rId2"/>
            <a:stretch/>
          </p:blipFill>
          <p:spPr>
            <a:xfrm>
              <a:off x="4035600" y="2925720"/>
              <a:ext cx="104292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230720" y="3100320"/>
              <a:ext cx="65736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Box 12"/>
          <p:cNvSpPr/>
          <p:nvPr/>
        </p:nvSpPr>
        <p:spPr>
          <a:xfrm>
            <a:off x="3836880" y="32432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7"/>
          <p:cNvSpPr/>
          <p:nvPr/>
        </p:nvSpPr>
        <p:spPr>
          <a:xfrm>
            <a:off x="6443640" y="1628640"/>
            <a:ext cx="27352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Personal Income 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Company Income 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Payroll 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BAS, IAS, G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Capital Gains 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Fringe Benefits 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uperann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8"/>
          <p:cNvSpPr/>
          <p:nvPr/>
        </p:nvSpPr>
        <p:spPr>
          <a:xfrm>
            <a:off x="6443640" y="3645000"/>
            <a:ext cx="2735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Tax Effective Structur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Business Structure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ole Trader &amp; Partnershi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Company Set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Discretionary Trust  &amp; Unit Trust Set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elf-Managed Super Fund Set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1"/>
          <p:cNvSpPr/>
          <p:nvPr/>
        </p:nvSpPr>
        <p:spPr>
          <a:xfrm>
            <a:off x="684360" y="3716280"/>
            <a:ext cx="25192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Year End Tax Retur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Year End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Bookkeeping Monthly/Quarter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XERO Accounting Software Set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MYOB Accounting Software Set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971640" y="1916280"/>
            <a:ext cx="237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uccession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Retirement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Estate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4"/>
          <p:cNvSpPr/>
          <p:nvPr/>
        </p:nvSpPr>
        <p:spPr>
          <a:xfrm>
            <a:off x="3059280" y="233028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Calibri"/>
              </a:rPr>
              <a:t>Retire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Calibri"/>
              </a:rPr>
              <a:t>Strateg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4500720" y="2185920"/>
            <a:ext cx="158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Calibri"/>
              </a:rPr>
              <a:t>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Calibri"/>
              </a:rPr>
              <a:t>Minimisation</a:t>
            </a:r>
            <a:br>
              <a:rPr sz="1400"/>
            </a:br>
            <a:r>
              <a:rPr b="1" lang="en-AU" sz="1400" spc="-1" strike="noStrike">
                <a:solidFill>
                  <a:srgbClr val="ffffff"/>
                </a:solidFill>
                <a:latin typeface="Calibri"/>
              </a:rPr>
              <a:t>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6"/>
          <p:cNvSpPr/>
          <p:nvPr/>
        </p:nvSpPr>
        <p:spPr>
          <a:xfrm>
            <a:off x="3132000" y="4005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Calibri"/>
              </a:rPr>
              <a:t>Tax Compl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4"/>
          <p:cNvSpPr/>
          <p:nvPr/>
        </p:nvSpPr>
        <p:spPr>
          <a:xfrm>
            <a:off x="4788000" y="3933720"/>
            <a:ext cx="110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Calibri"/>
              </a:rPr>
              <a:t>Tax Struc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itle 9"/>
          <p:cNvSpPr/>
          <p:nvPr/>
        </p:nvSpPr>
        <p:spPr>
          <a:xfrm>
            <a:off x="2406600" y="5383080"/>
            <a:ext cx="43974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Calibri"/>
              </a:rPr>
              <a:t>Everything revolves around yo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04:52:18Z</dcterms:created>
  <dc:creator>Michael Carter</dc:creator>
  <dc:description/>
  <dc:language>en-US</dc:language>
  <cp:lastModifiedBy>Nada and Tony</cp:lastModifiedBy>
  <dcterms:modified xsi:type="dcterms:W3CDTF">2012-09-15T04:34:23Z</dcterms:modified>
  <cp:revision>165</cp:revision>
  <dc:subject/>
  <dc:title>Slide 1</dc:title>
</cp:coreProperties>
</file>