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CE95-6C0C-4C2F-B2CC-417E14B333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F5CA-6DD6-4461-B66C-80297E243E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A1D-E779-4B8C-8B1E-12E68F12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6F6-3AE7-4D96-B7E8-8B8A4DF5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0C2D-8D3D-4E7F-BEC1-8D56F38C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ECDE-E7FB-4315-90AE-E1BF30E1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1ED-37DD-4E02-90BA-E49201A9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B74-55E9-49F8-81C2-52E811C4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F4F-773E-4CB5-9862-65F6F07B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47D-B041-49C2-9C5C-C2A158CF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ECEC-3636-4E96-B9C1-6DD8190A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9B0-A31C-4FA2-8E0E-9FC64D84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C00C-7895-4AC2-8583-00DD885B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7492-5EB7-4ECB-ABEF-12EFCA4F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FBBE-21A2-4B10-A6E8-25C8E40F6A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google.com.au/imgres?q=empowered+woman&amp;hl=en&amp;biw=1920&amp;bih=964&amp;tbm=isch&amp;tbnid=af_WqIGfiUC2iM:&amp;imgrefurl=http://thesensuallyempoweredwoman.com/summit.html&amp;docid=Fb7xyLH6yHWc-M&amp;imgurl=http://thesensuallyempoweredwoman.com/images/womangrass.jpg&amp;w=350&amp;h=232&amp;ei=cPclUP7XDeWaiAeS64GIBw&amp;zoom=1&amp;iact=hc&amp;vpx=1601&amp;vpy=323&amp;dur=2492&amp;hovh=183&amp;hovw=276&amp;tx=207&amp;ty=104&amp;sig=101093464179794031374&amp;page=1&amp;tbnh=128&amp;tbnw=172&amp;start=0&amp;ndsp=52&amp;ved=1t:429,r:21,s:0,i:136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hyperlink" Target="http://www.google.com.au/imgres?q=empowered+woman&amp;hl=en&amp;biw=1920&amp;bih=964&amp;tbm=isch&amp;tbnid=af_WqIGfiUC2iM:&amp;imgrefurl=http://thesensuallyempoweredwoman.com/summit.html&amp;docid=Fb7xyLH6yHWc-M&amp;imgurl=http://thesensuallyempoweredwoman.com/images/womangrass.jpg&amp;w=350&amp;h=232&amp;ei=cPclUP7XDeWaiAeS64GIBw&amp;zoom=1&amp;iact=hc&amp;vpx=1601&amp;vpy=323&amp;dur=2492&amp;hovh=183&amp;hovw=276&amp;tx=207&amp;ty=104&amp;sig=101093464179794031374&amp;page=1&amp;tbnh=128&amp;tbnw=172&amp;start=0&amp;ndsp=52&amp;ved=1t:429,r:21,s:0,i:136" TargetMode="External"/><Relationship Id="rId10" Type="http://schemas.openxmlformats.org/officeDocument/2006/relationships/image" Target="../media/image1.jpe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1"/>
          <p:cNvGrpSpPr/>
          <p:nvPr/>
        </p:nvGrpSpPr>
        <p:grpSpPr>
          <a:xfrm>
            <a:off x="539640" y="274680"/>
            <a:ext cx="2895840" cy="2049480"/>
            <a:chOff x="539640" y="274680"/>
            <a:chExt cx="2895840" cy="2049480"/>
          </a:xfrm>
        </p:grpSpPr>
        <p:pic>
          <p:nvPicPr>
            <p:cNvPr id="49" name="Picture 6" descr="http://t2.gstatic.com/images?q=tbn:ANd9GcQJ9htWI765Y9haahTPXxcWGo6mMjLvdNTrNpWRt7QuyJre_r8eAg"/>
            <p:cNvPicPr/>
            <p:nvPr/>
          </p:nvPicPr>
          <p:blipFill>
            <a:blip r:embed="rId1"/>
            <a:stretch/>
          </p:blipFill>
          <p:spPr>
            <a:xfrm>
              <a:off x="539640" y="274680"/>
              <a:ext cx="2584080" cy="17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" descr=""/>
            <p:cNvPicPr/>
            <p:nvPr/>
          </p:nvPicPr>
          <p:blipFill>
            <a:blip r:embed="rId2"/>
            <a:srcRect l="39248" t="15685" r="38134" b="74887"/>
            <a:stretch/>
          </p:blipFill>
          <p:spPr>
            <a:xfrm>
              <a:off x="539640" y="1645200"/>
              <a:ext cx="2895840" cy="67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5"/>
          <p:cNvGrpSpPr/>
          <p:nvPr/>
        </p:nvGrpSpPr>
        <p:grpSpPr>
          <a:xfrm>
            <a:off x="4643280" y="476280"/>
            <a:ext cx="3480120" cy="1709640"/>
            <a:chOff x="4643280" y="476280"/>
            <a:chExt cx="3480120" cy="1709640"/>
          </a:xfrm>
        </p:grpSpPr>
        <p:pic>
          <p:nvPicPr>
            <p:cNvPr id="52" name="Picture 7" descr="http://t2.gstatic.com/images?q=tbn:ANd9GcQJ9htWI765Y9haahTPXxcWGo6mMjLvdNTrNpWRt7QuyJre_r8eA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643280" y="476280"/>
              <a:ext cx="2584440" cy="17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" descr=""/>
            <p:cNvPicPr/>
            <p:nvPr/>
          </p:nvPicPr>
          <p:blipFill>
            <a:blip r:embed="rId5"/>
            <a:srcRect l="39248" t="15685" r="50634" b="74887"/>
            <a:stretch/>
          </p:blipFill>
          <p:spPr>
            <a:xfrm>
              <a:off x="6156000" y="695160"/>
              <a:ext cx="129564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2" descr=""/>
            <p:cNvPicPr/>
            <p:nvPr/>
          </p:nvPicPr>
          <p:blipFill>
            <a:blip r:embed="rId6"/>
            <a:srcRect l="49315" t="15685" r="38134" b="78698"/>
            <a:stretch/>
          </p:blipFill>
          <p:spPr>
            <a:xfrm>
              <a:off x="6516000" y="1115640"/>
              <a:ext cx="1607400" cy="40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Box 3"/>
          <p:cNvSpPr/>
          <p:nvPr/>
        </p:nvSpPr>
        <p:spPr>
          <a:xfrm>
            <a:off x="754200" y="2324160"/>
            <a:ext cx="61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Would like to see also in soft reds, magentas mayb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10"/>
          <p:cNvGrpSpPr/>
          <p:nvPr/>
        </p:nvGrpSpPr>
        <p:grpSpPr>
          <a:xfrm>
            <a:off x="204840" y="2852640"/>
            <a:ext cx="3230640" cy="2179800"/>
            <a:chOff x="204840" y="2852640"/>
            <a:chExt cx="3230640" cy="2179800"/>
          </a:xfrm>
        </p:grpSpPr>
        <p:pic>
          <p:nvPicPr>
            <p:cNvPr id="57" name="Picture 3" descr=""/>
            <p:cNvPicPr/>
            <p:nvPr/>
          </p:nvPicPr>
          <p:blipFill>
            <a:blip r:embed="rId7"/>
            <a:srcRect l="0" t="31578" r="0" b="0"/>
            <a:stretch/>
          </p:blipFill>
          <p:spPr>
            <a:xfrm>
              <a:off x="204840" y="2852640"/>
              <a:ext cx="3205080" cy="178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" descr=""/>
            <p:cNvPicPr/>
            <p:nvPr/>
          </p:nvPicPr>
          <p:blipFill>
            <a:blip r:embed="rId8"/>
            <a:srcRect l="39248" t="15685" r="38134" b="75013"/>
            <a:stretch/>
          </p:blipFill>
          <p:spPr>
            <a:xfrm>
              <a:off x="230400" y="4237560"/>
              <a:ext cx="3205080" cy="79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Group 14"/>
          <p:cNvGrpSpPr/>
          <p:nvPr/>
        </p:nvGrpSpPr>
        <p:grpSpPr>
          <a:xfrm>
            <a:off x="4067280" y="2852640"/>
            <a:ext cx="3479760" cy="1710000"/>
            <a:chOff x="4067280" y="2852640"/>
            <a:chExt cx="3479760" cy="1710000"/>
          </a:xfrm>
        </p:grpSpPr>
        <p:pic>
          <p:nvPicPr>
            <p:cNvPr id="60" name="Picture 15" descr="http://t2.gstatic.com/images?q=tbn:ANd9GcQJ9htWI765Y9haahTPXxcWGo6mMjLvdNTrNpWRt7QuyJre_r8eAg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4067280" y="2852640"/>
              <a:ext cx="2584440" cy="17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" descr=""/>
            <p:cNvPicPr/>
            <p:nvPr/>
          </p:nvPicPr>
          <p:blipFill>
            <a:blip r:embed="rId11">
              <a:grayscl/>
            </a:blip>
            <a:srcRect l="39248" t="15685" r="50634" b="74887"/>
            <a:stretch/>
          </p:blipFill>
          <p:spPr>
            <a:xfrm>
              <a:off x="5579640" y="3071880"/>
              <a:ext cx="1295640" cy="6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2" descr=""/>
            <p:cNvPicPr/>
            <p:nvPr/>
          </p:nvPicPr>
          <p:blipFill>
            <a:blip r:embed="rId12"/>
            <a:srcRect l="49315" t="15685" r="38134" b="78698"/>
            <a:stretch/>
          </p:blipFill>
          <p:spPr>
            <a:xfrm>
              <a:off x="5940000" y="3492000"/>
              <a:ext cx="1607040" cy="40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Picture 18" descr="http://a2.sphotos.ak.fbcdn.net/hphotos-ak-snc6/223714_248012295219200_4177456_n.jpg"/>
          <p:cNvPicPr/>
          <p:nvPr/>
        </p:nvPicPr>
        <p:blipFill>
          <a:blip r:embed="rId13"/>
          <a:stretch/>
        </p:blipFill>
        <p:spPr>
          <a:xfrm>
            <a:off x="798480" y="5229360"/>
            <a:ext cx="2065320" cy="13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05:25:53Z</dcterms:created>
  <dc:creator>Michele Peppler</dc:creator>
  <dc:description/>
  <dc:language>en-US</dc:language>
  <cp:lastModifiedBy>TOSHIBA</cp:lastModifiedBy>
  <dcterms:modified xsi:type="dcterms:W3CDTF">2012-09-22T04:25:33Z</dcterms:modified>
  <cp:revision>1</cp:revision>
  <dc:subject/>
  <dc:title>PowerPoint Presentation</dc:title>
</cp:coreProperties>
</file>