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20955000" cy="16192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127-F3DC-4A25-89F4-CD60E8E7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7600" y="3778200"/>
            <a:ext cx="188596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7600" y="9360360"/>
            <a:ext cx="188596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D57-77AE-4A2B-9EF6-B10E5DD6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7600" y="377820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11440" y="377820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7600" y="936036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711440" y="936036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786-12AB-411E-9261-6599D916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7600" y="3778200"/>
            <a:ext cx="60724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23920" y="3778200"/>
            <a:ext cx="60724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800600" y="3778200"/>
            <a:ext cx="60724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7600" y="9360360"/>
            <a:ext cx="60724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423920" y="9360360"/>
            <a:ext cx="60724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3800600" y="9360360"/>
            <a:ext cx="60724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F6A-132F-466B-9D8A-87DDD17A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7600" y="3778200"/>
            <a:ext cx="18859680" cy="10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D17-0BE6-44BD-B6B6-872E8953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7600" y="3778200"/>
            <a:ext cx="18859680" cy="1068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C77-71FA-496C-B619-C84995E0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7600" y="3778200"/>
            <a:ext cx="9203400" cy="1068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711440" y="3778200"/>
            <a:ext cx="9203400" cy="1068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FA1-63F6-4BA8-9F8C-85309ACE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2BF-1D1E-48E1-B3CE-B8058F7A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0" y="647280"/>
            <a:ext cx="18859680" cy="125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AE0-AA0F-40A1-B776-CEB6A2D2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7600" y="377820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711440" y="3778200"/>
            <a:ext cx="9203400" cy="1068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7600" y="936036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8DD-9030-4890-B35D-0F132A43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7600" y="3778200"/>
            <a:ext cx="9203400" cy="1068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711440" y="377820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711440" y="936036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FB7-77DA-4747-9611-3BE511D9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7600" y="377820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711440" y="3778200"/>
            <a:ext cx="92034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7600" y="9360360"/>
            <a:ext cx="188596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49D-6C46-4C27-87C4-BA5878AB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0" y="647280"/>
            <a:ext cx="1885968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0" y="3778200"/>
            <a:ext cx="18859680" cy="1068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7600" y="15008400"/>
            <a:ext cx="488952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59680" y="15008400"/>
            <a:ext cx="663552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017760" y="15008400"/>
            <a:ext cx="488952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6759-BED6-4625-95B9-16E1D4B687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20954880" cy="161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20954880" cy="161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20954880" cy="161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20954880" cy="161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2773440" y="2119320"/>
            <a:ext cx="8980560" cy="8880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773440" y="4636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TAB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981080" y="11887200"/>
            <a:ext cx="15841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Each of the above bullet points will need to have its own “section” or be highlighted with links or videos or diagrams to explain the “Service” in a creative and interesting way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773440" y="4636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TAB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189080" y="2766960"/>
            <a:ext cx="113695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773440" y="4636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TAB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484360" y="2911320"/>
            <a:ext cx="10004400" cy="68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0" y="-1440"/>
            <a:ext cx="20954880" cy="16192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 rot="20362800">
            <a:off x="5485680" y="10972800"/>
            <a:ext cx="15428880" cy="7642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O NOT USE ANY OF THESE BRAND NAMES – CONFIDENTIAL !!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0:40:45Z</dcterms:created>
  <dc:creator>Benjiang</dc:creator>
  <dc:description/>
  <dc:language>en-US</dc:language>
  <cp:lastModifiedBy>michelle comrie</cp:lastModifiedBy>
  <dcterms:modified xsi:type="dcterms:W3CDTF">2014-05-12T21:12:43Z</dcterms:modified>
  <cp:revision>4</cp:revision>
  <dc:subject/>
  <dc:title>PowerPoint 演示文稿</dc:title>
</cp:coreProperties>
</file>