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02BC-E888-4E14-8729-F475B6AC0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32B7-2668-46F4-81D8-272BF1AB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DADB-C621-4651-8931-BE3A3647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4673-9978-4F3A-94EB-4FA46C406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3B53-3ED1-4D98-886C-F99CB5A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77B4-D6D5-4AA4-8002-EEE8E32F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98FA-1F37-4711-AE83-E69C67D0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175D-602A-4636-913E-D88B77B3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8800" y="1538280"/>
            <a:ext cx="7824960" cy="75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A453-F462-4349-A0CA-5A5D0DD2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E4DF-F2FA-41F3-AC8B-425E440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1A80-AC4C-4CB3-8124-54048290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3AE6-3321-414F-9DDC-8E73B69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800" y="1538280"/>
            <a:ext cx="7824960" cy="16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0532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orbe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  <a:ea typeface="Arial Unicode MS"/>
              </a:rPr>
              <a:t>8/1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077320" y="6356160"/>
            <a:ext cx="7603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800" spc="-1" strike="noStrike">
                <a:solidFill>
                  <a:srgbClr val="ffffff"/>
                </a:solidFill>
                <a:latin typeface="Corbe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4CE6558-1887-4F8F-99A9-972C7B076D7B}" type="slidenum">
              <a:rPr b="0" lang="en-US" sz="1800" spc="-1" strike="noStrike">
                <a:solidFill>
                  <a:srgbClr val="ffffff"/>
                </a:solidFill>
                <a:latin typeface="Corbe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11280"/>
            <a:ext cx="4664160" cy="441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18440" y="4451400"/>
            <a:ext cx="27637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teven” Villanova,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8160" y="447840"/>
            <a:ext cx="51901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As a 49 year old Lawyer with a wife and two children liv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e main line, Steve thought he had made all the right finan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decisions. But with the recent layoff’s at his firm, a growing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and the continued uncertainty of the economy he suddenly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It difficult to sleep and he was not about to tell his w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e anxiety caused by the recession had him wondering what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Might have done differently. He stopped reading his 401 k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and could barely speak with his financial advisor- if Steve hear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Phrase “hang in there” one more time he might get physically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Alone, unable to discuss it with friends or family, Steve began to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ere was little he could do besides drink another glass of win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suffer in sil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4160" y="3225960"/>
            <a:ext cx="4064040" cy="170640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0"/>
          </a:gra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105600" cy="7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Sometimes the best financial advice doesn’t come from a financial ad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440" y="3276720"/>
            <a:ext cx="39020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A Six Week Program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Reduce st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Improv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Restor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$995 Money Back Guaran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J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ay Cherney (215)555-12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