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41E69-830C-4E82-B767-637791E1B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BD03E-B286-4C45-B5A8-CAF60419B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E42D37-2F87-41DA-9540-BAE7ACD1B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245B3-D2C0-4E0E-923F-EAED3885A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7B0BD3-2A0C-4328-BD2D-1411EB1F9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3F9D3-4041-4F03-B43D-FECB4EAD5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E0ECA-6A89-43FD-8D63-B629598A8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224CB-F96C-49A2-9BDB-DE098B9CE4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E832F-8584-49EC-9830-43029645B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E0CA8-4B89-4890-BD40-E26168D6C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80AE2-AE26-42DD-A48B-16B56410B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E9541-1498-4C27-9E26-8E60237E8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AE6A2-5D04-4991-9E36-02303427B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1E30C-EC21-41B0-A9E3-459B184A4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1D570-6D71-49D2-A19F-2F82585AE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BEE420-D5CA-40B0-8B85-B73FA8029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8388F-9CF6-497D-8641-6E6D8082C1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1125B-EAFB-45C1-BD31-510443D73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50679-917D-4DE5-A70B-5CD326C46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DF28D-180A-4B53-8564-CFCCE51D7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BAA96-B72C-44F8-87CB-92BFF0DF7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821E6-A0F7-4E5B-AE55-895FD197D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F2600-8557-4EDA-A542-F3520D1CD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94EFC-9C5E-49F7-BDAB-629A1341D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D0830-FAD4-4B37-A9E6-A7DD36E229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0CC31-E2EC-4A15-9236-D11FD03538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7600" y="171000"/>
            <a:ext cx="75438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WHWest Inc.  Linda Reid</a:t>
            </a:r>
            <a:endParaRPr b="1" lang="en-US" sz="2400" spc="-1" strike="noStrike">
              <a:solidFill>
                <a:srgbClr val="330066"/>
              </a:solidFill>
              <a:latin typeface="Arial"/>
            </a:endParaRPr>
          </a:p>
        </p:txBody>
      </p:sp>
      <p:sp>
        <p:nvSpPr>
          <p:cNvPr id="149" name="PlaceHolder 2"/>
          <p:cNvSpPr>
            <a:spLocks noGrp="1"/>
          </p:cNvSpPr>
          <p:nvPr>
            <p:ph/>
          </p:nvPr>
        </p:nvSpPr>
        <p:spPr>
          <a:xfrm>
            <a:off x="457200" y="1752120"/>
            <a:ext cx="8229600" cy="4411800"/>
          </a:xfrm>
          <a:prstGeom prst="rect">
            <a:avLst/>
          </a:prstGeom>
          <a:noFill/>
          <a:ln w="0">
            <a:noFill/>
          </a:ln>
        </p:spPr>
        <p:txBody>
          <a:bodyPr lIns="90000" rIns="90000" tIns="46800" bIns="46800" anchor="t">
            <a:normAutofit fontScale="96000"/>
          </a:bodyPr>
          <a:p>
            <a:pPr marL="329040" indent="-32904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rPr>
              <a:t>Linda Reid</a:t>
            </a:r>
            <a:r>
              <a:rPr b="0" lang="en-US" sz="1400" spc="-1" strike="noStrike">
                <a:solidFill>
                  <a:srgbClr val="000000"/>
                </a:solidFill>
                <a:latin typeface="Arial Unicode MS"/>
              </a:rPr>
              <a:t> specializes in helping companies, leaders, teams and individuals create the business relationships they need to achieve mutually successful results.  She helps clients create an environment for mutual understanding and creative action that increases internal company satisfaction and external success.  Linda combines psychological sophistication with a quest for practical outcomes.</a:t>
            </a:r>
            <a:endParaRPr b="0" lang="en-US" sz="1400" spc="-1" strike="noStrike">
              <a:solidFill>
                <a:srgbClr val="000000"/>
              </a:solidFill>
              <a:latin typeface="Arial"/>
            </a:endParaRPr>
          </a:p>
          <a:p>
            <a:pPr marL="329040" indent="-32904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In her 30-year career, she has worked in both non-profit and corporate environments. She has conducted a number of retreats for boards and executive staff of non-profit and for-profit organizations.  When Linda works with a company, all involved become better at competent listening and effective speaking, which translates into more effective communication, coordination, and greater external results.</a:t>
            </a:r>
            <a:endParaRPr b="0" lang="en-US" sz="1400" spc="-1" strike="noStrike">
              <a:solidFill>
                <a:srgbClr val="000000"/>
              </a:solidFill>
              <a:latin typeface="Arial"/>
            </a:endParaRPr>
          </a:p>
          <a:p>
            <a:pPr marL="329040" indent="-32904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Linda worked at Levi Strauss &amp; Co., using interactive learning technology for developing the top 100 leaders in the company, developing business skills for 5000 people in a re-engineered environment and for the design and implementation of leading-edge leadership programs.  She held several positions with Digital Equipment Corporation, consulting to plant management, engineering leaders and cross-functional leadership teams.  Prior to working at DEC, she was a consultant with Mage Associates, specializing in start-up and closely held businesses. </a:t>
            </a:r>
            <a:endParaRPr b="0" lang="en-US" sz="1400" spc="-1" strike="noStrike">
              <a:solidFill>
                <a:srgbClr val="000000"/>
              </a:solidFill>
              <a:latin typeface="Arial"/>
            </a:endParaRPr>
          </a:p>
          <a:p>
            <a:pPr marL="329040" indent="-32904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Throughout her entire consulting career, Linda has worked with Dannemiller-Tyson Associates specializing in large-scale change efforts, including participative strategy meetings for entire parts of organizations, often 200-500 people at a time. </a:t>
            </a:r>
            <a:endParaRPr b="0" lang="en-US" sz="1400" spc="-1" strike="noStrike">
              <a:solidFill>
                <a:srgbClr val="000000"/>
              </a:solidFill>
              <a:latin typeface="Arial"/>
            </a:endParaRPr>
          </a:p>
          <a:p>
            <a:pPr marL="329040" indent="-32904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She started her professional career in education.</a:t>
            </a:r>
            <a:endParaRPr b="0" lang="en-US" sz="1400" spc="-1" strike="noStrike">
              <a:solidFill>
                <a:srgbClr val="000000"/>
              </a:solidFill>
              <a:latin typeface="Arial"/>
            </a:endParaRPr>
          </a:p>
          <a:p>
            <a:pPr marL="329040" indent="-329040">
              <a:lnSpc>
                <a:spcPct val="80000"/>
              </a:lnSpc>
              <a:spcBef>
                <a:spcPts val="3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Linda has an MS in Organization Development from American University/NTL, a BS in Education and Psychology from the University of Michigan and is certified to conduct sessions using the Myers-Briggs Type Indicator.  She has in-depth training in team dynamics and executive coach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2T10:02:08Z</dcterms:created>
  <dc:creator>LReid</dc:creator>
  <dc:description/>
  <dc:language>en-US</dc:language>
  <cp:lastModifiedBy>LReid</cp:lastModifiedBy>
  <dcterms:modified xsi:type="dcterms:W3CDTF">2010-06-02T10:13:26Z</dcterms:modified>
  <cp:revision>2</cp:revision>
  <dc:subject/>
  <dc:title>Slide 1</dc:title>
</cp:coreProperties>
</file>