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B2C-218A-4AAF-9B20-8B2D4F6C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0F6B-3A15-4E56-BDA8-DFF8CDBD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F6E5-4AB7-4785-82A4-CE874225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87C-AFE4-423B-AC03-510C6381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EF6-CC84-4F95-BF92-F162F7E1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BF5-AB0F-4AD7-A72E-AB05C84C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3A9-5BEF-4408-A7DF-D19E4F37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222-69C2-4C52-B4F1-46231B67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B71-1196-4C79-8098-D0D6B41F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596-2935-4676-9522-8A04669D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854-A78D-4BCD-BE1F-541AAFCC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F441-5081-4A32-A68F-2CEB341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9DBC-E6C6-4D41-B3B0-5CFE197E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west current 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38520" y="2933640"/>
            <a:ext cx="1866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02:43:34Z</dcterms:created>
  <dc:creator>Linda</dc:creator>
  <dc:description/>
  <dc:language>en-US</dc:language>
  <cp:lastModifiedBy>Linda</cp:lastModifiedBy>
  <dcterms:modified xsi:type="dcterms:W3CDTF">2010-06-11T12:32:48Z</dcterms:modified>
  <cp:revision>3</cp:revision>
  <dc:subject/>
  <dc:title>Whwest current lo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lmreid@whwest.com</vt:lpwstr>
  </property>
  <property fmtid="{D5CDD505-2E9C-101B-9397-08002B2CF9AE}" pid="3" name="_AuthorEmailDisplayName">
    <vt:lpwstr>Linda Reid</vt:lpwstr>
  </property>
  <property fmtid="{D5CDD505-2E9C-101B-9397-08002B2CF9AE}" pid="4" name="_EmailEntryID">
    <vt:lpwstr>000000001DE94E618E07714E9D70C889AAED774F249A2000</vt:lpwstr>
  </property>
  <property fmtid="{D5CDD505-2E9C-101B-9397-08002B2CF9AE}" pid="5" name="_EmailSubject">
    <vt:lpwstr>Please review 'Whwest current logo'</vt:lpwstr>
  </property>
  <property fmtid="{D5CDD505-2E9C-101B-9397-08002B2CF9AE}" pid="6" name="_NewReviewCycle">
    <vt:lpwstr/>
  </property>
  <property fmtid="{D5CDD505-2E9C-101B-9397-08002B2CF9AE}" pid="7" name="_ReviewCycleID">
    <vt:r8>75861990</vt:r8>
  </property>
  <property fmtid="{D5CDD505-2E9C-101B-9397-08002B2CF9AE}" pid="8" name="_TentativeReviewCycleID">
    <vt:r8>75861990</vt:r8>
  </property>
</Properties>
</file>