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4FE-C1F3-4A21-8C6F-7BCE35C9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4C3-AFB2-4071-BF57-6A44F9BF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C6D-B614-4EDA-AB7A-E6DE90DB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666-AB78-41BA-84B2-FC359D17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D15-C152-41AB-A792-D03076D4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AA6-8E27-4CCA-8FA4-EFDA37CC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582E-0C7E-41AA-830A-C96BF87B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3A5-3B00-49A0-AC5D-A90AAE0E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08AA-A813-4431-A6DE-0B858572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6C1-A64B-43BF-9E62-D2A22F67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1512-18A3-42E5-AE0B-2608578D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48B2-EB04-43A2-9E56-EFC128C7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88AD-5560-4E37-89C4-4A8D2CFB6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0" t="7204" r="7594" b="0"/>
          <a:stretch/>
        </p:blipFill>
        <p:spPr>
          <a:xfrm>
            <a:off x="7815240" y="1163520"/>
            <a:ext cx="1119240" cy="1668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7880400" y="4653000"/>
            <a:ext cx="1077840" cy="191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3" name="Picture 161" descr=""/>
          <p:cNvPicPr/>
          <p:nvPr/>
        </p:nvPicPr>
        <p:blipFill>
          <a:blip r:embed="rId3"/>
          <a:stretch/>
        </p:blipFill>
        <p:spPr>
          <a:xfrm>
            <a:off x="7862760" y="2924280"/>
            <a:ext cx="1163880" cy="1550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556320" y="1190520"/>
            <a:ext cx="1047960" cy="2359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733920" y="54288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Sweep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20:30:00Z</dcterms:created>
  <dc:creator>Source Rock</dc:creator>
  <dc:description/>
  <dc:language>en-US</dc:language>
  <cp:lastModifiedBy>Source Rock</cp:lastModifiedBy>
  <dcterms:modified xsi:type="dcterms:W3CDTF">2018-05-03T00:21:29Z</dcterms:modified>
  <cp:revision>6</cp:revision>
  <dc:subject/>
  <dc:title>Slide 1</dc:title>
</cp:coreProperties>
</file>