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03C-0F07-4BE5-88EB-2683EC70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939-B6FC-4347-8C1E-26ADAF4F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9B1-7691-4AAC-A1EC-4861C2FC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CC4-41D4-496E-88E2-1B3F7477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83DC-5DD1-497E-932B-B9919DF6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8DBF-197C-4DEF-9435-62773E9A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0BB2-C7A7-49B2-9567-93DF8A4A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E891-6EE7-457D-97CE-46832093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D26F-84B9-4E0F-8B1D-6780B9D2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A5EF-4F62-4467-9114-BE1FA289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D266-B118-4A7D-8C6F-38F936BD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317-3A06-47B6-A560-C70B7C9F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5390-FFDE-4201-8CAA-BA1E77F9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A420-F90D-4C8E-A0E9-DFA37BB5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A9D3-8EEC-4AE8-9347-91AA5962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FD8E-4254-411E-9029-4D949817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A236-2E0E-4E90-803E-6F87EE05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1E6E-007C-4412-906E-6F93AB55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5047-71C7-40AB-8E9D-E49356D2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A8AFC-8BF6-43EA-A8DC-D8D97127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4715-D8D5-415A-BDC5-1CBC2E1B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53C7-6CD7-4CBA-AA17-7287D3BB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DDA-E333-4908-A744-F3F40CEE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94851-73E1-43BC-81C9-56F34A7E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D3DF-309F-49CB-AB40-AFE50263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2211-13FE-4712-AB79-33BD72E4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487B-1021-4DDD-A9E2-44C6592C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48A0A-BE0F-4BD7-9ECA-F79B4EC0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EF37-C02B-4618-8F85-CFD4AF77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E28B-F82B-45CF-93F7-7173A780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5584-386C-4B94-90F3-3940803F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09AEF-74CA-4C8B-BE64-64B639CF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A47C-EF01-441C-B3E5-185A3474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8FB-47F7-4A69-BB62-9616B91F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75D2E-A797-4167-B14E-EEF8E8A4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55EA9-A184-40D0-B420-41918CE3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BAA10-E1C5-4C20-A465-C8197644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D619C-A5D6-4BAA-BD29-16DA83BF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613C6-CBB1-496B-8437-A64DE0B6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1F80A-7DE1-457F-9EB8-9AD9B232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AFC43-2D91-41FD-8FB8-6AFBB146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02748-BC52-4E0C-8C8A-1FD8D864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3113-3AEB-457F-BA40-37C0D307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8D5ED-7D19-4D96-84E0-23A72D9E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E22-1953-4973-BD64-1D05FD71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F5A2B-14CC-4103-8463-11E18D00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11B2E-9153-4DD9-B99D-105ADE25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26BD2-6C8A-406E-9196-672D16AD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EFA32-4037-4217-A403-4EDFA0BF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E1584-97C6-4416-A57C-48101534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015A8-DE7B-4584-9485-4C537C1D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0D960-DC29-4BA4-AD71-02174B1E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E6A8A-EC49-4EB6-ADD7-3E887ACB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07030-C5F5-437B-B137-904FAB7B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A57EC-2ADD-4F15-B617-96CA6334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B01-A57E-4162-9B7B-776AA01D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3F1E2-FDB0-4C0E-A98E-301D5682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D115F-A4F8-4130-A952-BD98B858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A32D1-3ECB-4E84-8DCC-39547767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9A2BF-399C-4E58-9F7B-0779C5A5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B0C26-C6C1-406D-87C8-C04B4B91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8F34B-F1B3-4240-A52B-4E7A4BDA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69204-8E0A-470A-85ED-5818B59C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726CD-A5C6-4F3F-8673-3EFD256E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64110-479C-4AA6-8AED-11A8186F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E76A3-E243-41C7-8D4B-E707D322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2F4-CE8A-44D8-9E10-3D2FEB5B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F1117-CA75-4128-80A7-E1E743BC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1CDC7-1E81-491B-9764-BF2BE1B7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A7900-EA26-4E0C-B43A-E75BB048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5E5-916A-477A-876F-2D4D1AC9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D19-423D-469B-BCDD-2A4C585A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1F61-A77C-424C-AAAB-A2BC1F5EC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8080" y="6244920"/>
            <a:ext cx="1903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9000" y="6244920"/>
            <a:ext cx="190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D370-F90B-4147-B614-A75637E21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838080" y="6244920"/>
            <a:ext cx="1903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6939000" y="6244920"/>
            <a:ext cx="190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4F21-B02C-4860-9150-E109DC575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7"/>
          <p:cNvGrpSpPr/>
          <p:nvPr/>
        </p:nvGrpSpPr>
        <p:grpSpPr>
          <a:xfrm>
            <a:off x="2125800" y="433440"/>
            <a:ext cx="5113080" cy="612720"/>
            <a:chOff x="2125800" y="433440"/>
            <a:chExt cx="5113080" cy="612720"/>
          </a:xfrm>
        </p:grpSpPr>
        <p:sp>
          <p:nvSpPr>
            <p:cNvPr id="142" name="AutoShape 19"/>
            <p:cNvSpPr/>
            <p:nvPr/>
          </p:nvSpPr>
          <p:spPr>
            <a:xfrm>
              <a:off x="2125800" y="433440"/>
              <a:ext cx="5113080" cy="6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69" y="563"/>
                    <a:pt x="3137" y="5080"/>
                    <a:pt x="3137" y="10800"/>
                  </a:cubicBezTo>
                  <a:cubicBezTo>
                    <a:pt x="3137" y="16520"/>
                    <a:pt x="12369" y="2103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0"/>
            <p:cNvGrpSpPr/>
            <p:nvPr/>
          </p:nvGrpSpPr>
          <p:grpSpPr>
            <a:xfrm>
              <a:off x="3277800" y="619200"/>
              <a:ext cx="3830040" cy="238320"/>
              <a:chOff x="3277800" y="619200"/>
              <a:chExt cx="3830040" cy="238320"/>
            </a:xfrm>
          </p:grpSpPr>
          <p:sp>
            <p:nvSpPr>
              <p:cNvPr id="144" name="WordArt 21"/>
              <p:cNvSpPr txBox="1"/>
              <p:nvPr/>
            </p:nvSpPr>
            <p:spPr>
              <a:xfrm>
                <a:off x="3277800" y="619200"/>
                <a:ext cx="377640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l Nile"/>
                  </a:rPr>
                  <a:t>Jet Lift Australia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l Nile"/>
                  <a:ea typeface="Al Nile"/>
                </a:endParaRPr>
              </a:p>
            </p:txBody>
          </p:sp>
          <p:sp>
            <p:nvSpPr>
              <p:cNvPr id="145" name="WordArt 22"/>
              <p:cNvSpPr txBox="1"/>
              <p:nvPr/>
            </p:nvSpPr>
            <p:spPr>
              <a:xfrm>
                <a:off x="7044840" y="633600"/>
                <a:ext cx="63000" cy="36720"/>
              </a:xfrm>
              <a:prstGeom prst="rect">
                <a:avLst/>
              </a:prstGeom>
            </p:spPr>
            <p:txBody>
              <a:bodyPr wrap="none" lIns="90000" rIns="90000" tIns="-9720" bIns="-972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Neuropol"/>
                  </a:rPr>
                  <a:t>TM</a:t>
                </a:r>
                <a:endPara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Neuropol"/>
                  <a:ea typeface="Neuropol"/>
                </a:endParaRPr>
              </a:p>
            </p:txBody>
          </p:sp>
        </p:grpSp>
      </p:grpSp>
      <p:sp>
        <p:nvSpPr>
          <p:cNvPr id="146" name="WordArt 247"/>
          <p:cNvSpPr txBox="1"/>
          <p:nvPr/>
        </p:nvSpPr>
        <p:spPr>
          <a:xfrm>
            <a:off x="2587680" y="1197000"/>
            <a:ext cx="4189320" cy="18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1f497d"/>
                </a:solidFill>
                <a:latin typeface="Tw Cen MT"/>
              </a:rPr>
              <a:t>Concentric Jet Pump Systems</a:t>
            </a:r>
            <a:endParaRPr b="1" lang="en-US" sz="1800" spc="1" strike="noStrike">
              <a:ln w="0">
                <a:noFill/>
              </a:ln>
              <a:solidFill>
                <a:srgbClr val="1f497d"/>
              </a:solidFill>
              <a:latin typeface="Tw Cen MT"/>
              <a:ea typeface="Tw Cen M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2714760" y="6356520"/>
            <a:ext cx="3714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133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133a"/>
                </a:solidFill>
                <a:latin typeface="Calibri"/>
              </a:rPr>
              <a:t>Australian Service Company - Providing Local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8424-4314-4C5E-A9D5-52991AA249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786040" y="6356520"/>
            <a:ext cx="357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Australian Service Company - Providing Local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BC8D-5C2F-4B7C-85FA-B94AFB7BCD0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5E00-13D8-4316-9B73-B0FD1495C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2.png"/><Relationship Id="rId10" Type="http://schemas.openxmlformats.org/officeDocument/2006/relationships/image" Target="../media/image5.wmf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reeform 41"/>
          <p:cNvSpPr/>
          <p:nvPr/>
        </p:nvSpPr>
        <p:spPr>
          <a:xfrm>
            <a:off x="3344760" y="5562720"/>
            <a:ext cx="5189760" cy="353880"/>
          </a:xfrm>
          <a:custGeom>
            <a:avLst/>
            <a:gdLst>
              <a:gd name="textAreaLeft" fmla="*/ 0 w 5189760"/>
              <a:gd name="textAreaRight" fmla="*/ 5190120 w 518976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3629" h="247">
                <a:moveTo>
                  <a:pt x="5" y="0"/>
                </a:moveTo>
                <a:lnTo>
                  <a:pt x="1" y="144"/>
                </a:lnTo>
                <a:cubicBezTo>
                  <a:pt x="7" y="167"/>
                  <a:pt x="0" y="140"/>
                  <a:pt x="43" y="138"/>
                </a:cubicBezTo>
                <a:cubicBezTo>
                  <a:pt x="86" y="136"/>
                  <a:pt x="122" y="115"/>
                  <a:pt x="262" y="130"/>
                </a:cubicBezTo>
                <a:cubicBezTo>
                  <a:pt x="402" y="145"/>
                  <a:pt x="670" y="228"/>
                  <a:pt x="881" y="226"/>
                </a:cubicBezTo>
                <a:cubicBezTo>
                  <a:pt x="1092" y="224"/>
                  <a:pt x="1310" y="112"/>
                  <a:pt x="1526" y="115"/>
                </a:cubicBezTo>
                <a:cubicBezTo>
                  <a:pt x="1742" y="118"/>
                  <a:pt x="1968" y="239"/>
                  <a:pt x="2179" y="239"/>
                </a:cubicBezTo>
                <a:cubicBezTo>
                  <a:pt x="2390" y="239"/>
                  <a:pt x="2582" y="122"/>
                  <a:pt x="2792" y="115"/>
                </a:cubicBezTo>
                <a:cubicBezTo>
                  <a:pt x="3002" y="108"/>
                  <a:pt x="3300" y="183"/>
                  <a:pt x="3439" y="200"/>
                </a:cubicBezTo>
                <a:cubicBezTo>
                  <a:pt x="3579" y="217"/>
                  <a:pt x="3598" y="247"/>
                  <a:pt x="3629" y="216"/>
                </a:cubicBezTo>
                <a:lnTo>
                  <a:pt x="3627" y="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72"/>
          <p:cNvGrpSpPr/>
          <p:nvPr/>
        </p:nvGrpSpPr>
        <p:grpSpPr>
          <a:xfrm>
            <a:off x="4202280" y="4943520"/>
            <a:ext cx="3974400" cy="1234080"/>
            <a:chOff x="4202280" y="4943520"/>
            <a:chExt cx="3974400" cy="1234080"/>
          </a:xfrm>
        </p:grpSpPr>
        <p:grpSp>
          <p:nvGrpSpPr>
            <p:cNvPr id="272" name="Group 73"/>
            <p:cNvGrpSpPr/>
            <p:nvPr/>
          </p:nvGrpSpPr>
          <p:grpSpPr>
            <a:xfrm>
              <a:off x="7459200" y="4943520"/>
              <a:ext cx="65520" cy="1098720"/>
              <a:chOff x="7459200" y="4943520"/>
              <a:chExt cx="65520" cy="1098720"/>
            </a:xfrm>
          </p:grpSpPr>
          <p:sp>
            <p:nvSpPr>
              <p:cNvPr id="273" name="AutoShape 74"/>
              <p:cNvSpPr/>
              <p:nvPr/>
            </p:nvSpPr>
            <p:spPr>
              <a:xfrm>
                <a:off x="7459200" y="4943520"/>
                <a:ext cx="65520" cy="385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75"/>
              <p:cNvSpPr/>
              <p:nvPr/>
            </p:nvSpPr>
            <p:spPr>
              <a:xfrm flipV="1">
                <a:off x="7459200" y="5657760"/>
                <a:ext cx="65520" cy="384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76"/>
            <p:cNvGrpSpPr/>
            <p:nvPr/>
          </p:nvGrpSpPr>
          <p:grpSpPr>
            <a:xfrm>
              <a:off x="4202280" y="5057280"/>
              <a:ext cx="65160" cy="1098360"/>
              <a:chOff x="4202280" y="5057280"/>
              <a:chExt cx="65160" cy="1098360"/>
            </a:xfrm>
          </p:grpSpPr>
          <p:sp>
            <p:nvSpPr>
              <p:cNvPr id="276" name="AutoShape 77"/>
              <p:cNvSpPr/>
              <p:nvPr/>
            </p:nvSpPr>
            <p:spPr>
              <a:xfrm>
                <a:off x="4202280" y="5057280"/>
                <a:ext cx="65160" cy="385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78"/>
              <p:cNvSpPr/>
              <p:nvPr/>
            </p:nvSpPr>
            <p:spPr>
              <a:xfrm flipV="1">
                <a:off x="4202280" y="5771160"/>
                <a:ext cx="65160" cy="384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79"/>
            <p:cNvGrpSpPr/>
            <p:nvPr/>
          </p:nvGrpSpPr>
          <p:grpSpPr>
            <a:xfrm>
              <a:off x="4852440" y="5057280"/>
              <a:ext cx="65520" cy="1098360"/>
              <a:chOff x="4852440" y="5057280"/>
              <a:chExt cx="65520" cy="1098360"/>
            </a:xfrm>
          </p:grpSpPr>
          <p:sp>
            <p:nvSpPr>
              <p:cNvPr id="279" name="AutoShape 80"/>
              <p:cNvSpPr/>
              <p:nvPr/>
            </p:nvSpPr>
            <p:spPr>
              <a:xfrm>
                <a:off x="4852440" y="5057280"/>
                <a:ext cx="65520" cy="385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81"/>
              <p:cNvSpPr/>
              <p:nvPr/>
            </p:nvSpPr>
            <p:spPr>
              <a:xfrm flipV="1">
                <a:off x="4852440" y="5771160"/>
                <a:ext cx="65520" cy="384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82"/>
            <p:cNvGrpSpPr/>
            <p:nvPr/>
          </p:nvGrpSpPr>
          <p:grpSpPr>
            <a:xfrm>
              <a:off x="5504040" y="4943520"/>
              <a:ext cx="65520" cy="1098360"/>
              <a:chOff x="5504040" y="4943520"/>
              <a:chExt cx="65520" cy="1098360"/>
            </a:xfrm>
          </p:grpSpPr>
          <p:sp>
            <p:nvSpPr>
              <p:cNvPr id="282" name="AutoShape 83"/>
              <p:cNvSpPr/>
              <p:nvPr/>
            </p:nvSpPr>
            <p:spPr>
              <a:xfrm>
                <a:off x="5504040" y="4943520"/>
                <a:ext cx="65520" cy="385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84"/>
              <p:cNvSpPr/>
              <p:nvPr/>
            </p:nvSpPr>
            <p:spPr>
              <a:xfrm flipV="1">
                <a:off x="5504040" y="5657400"/>
                <a:ext cx="65520" cy="384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85"/>
            <p:cNvGrpSpPr/>
            <p:nvPr/>
          </p:nvGrpSpPr>
          <p:grpSpPr>
            <a:xfrm>
              <a:off x="6156000" y="5079240"/>
              <a:ext cx="65160" cy="1098360"/>
              <a:chOff x="6156000" y="5079240"/>
              <a:chExt cx="65160" cy="1098360"/>
            </a:xfrm>
          </p:grpSpPr>
          <p:sp>
            <p:nvSpPr>
              <p:cNvPr id="285" name="AutoShape 86"/>
              <p:cNvSpPr/>
              <p:nvPr/>
            </p:nvSpPr>
            <p:spPr>
              <a:xfrm>
                <a:off x="6156000" y="5079240"/>
                <a:ext cx="65160" cy="385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87"/>
              <p:cNvSpPr/>
              <p:nvPr/>
            </p:nvSpPr>
            <p:spPr>
              <a:xfrm flipV="1">
                <a:off x="6156000" y="5793120"/>
                <a:ext cx="65160" cy="384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88"/>
            <p:cNvGrpSpPr/>
            <p:nvPr/>
          </p:nvGrpSpPr>
          <p:grpSpPr>
            <a:xfrm>
              <a:off x="6807600" y="5043240"/>
              <a:ext cx="65520" cy="1098360"/>
              <a:chOff x="6807600" y="5043240"/>
              <a:chExt cx="65520" cy="1098360"/>
            </a:xfrm>
          </p:grpSpPr>
          <p:sp>
            <p:nvSpPr>
              <p:cNvPr id="288" name="AutoShape 89"/>
              <p:cNvSpPr/>
              <p:nvPr/>
            </p:nvSpPr>
            <p:spPr>
              <a:xfrm>
                <a:off x="6807600" y="5043240"/>
                <a:ext cx="65520" cy="385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90"/>
              <p:cNvSpPr/>
              <p:nvPr/>
            </p:nvSpPr>
            <p:spPr>
              <a:xfrm flipV="1">
                <a:off x="6807600" y="5757120"/>
                <a:ext cx="65520" cy="384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91"/>
            <p:cNvGrpSpPr/>
            <p:nvPr/>
          </p:nvGrpSpPr>
          <p:grpSpPr>
            <a:xfrm>
              <a:off x="8111160" y="5036040"/>
              <a:ext cx="65520" cy="1098360"/>
              <a:chOff x="8111160" y="5036040"/>
              <a:chExt cx="65520" cy="1098360"/>
            </a:xfrm>
          </p:grpSpPr>
          <p:sp>
            <p:nvSpPr>
              <p:cNvPr id="291" name="AutoShape 92"/>
              <p:cNvSpPr/>
              <p:nvPr/>
            </p:nvSpPr>
            <p:spPr>
              <a:xfrm>
                <a:off x="8111160" y="5036040"/>
                <a:ext cx="65520" cy="3859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93"/>
              <p:cNvSpPr/>
              <p:nvPr/>
            </p:nvSpPr>
            <p:spPr>
              <a:xfrm flipV="1">
                <a:off x="8111160" y="5749920"/>
                <a:ext cx="65520" cy="384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3"/>
          <p:cNvSpPr/>
          <p:nvPr/>
        </p:nvSpPr>
        <p:spPr>
          <a:xfrm>
            <a:off x="2838600" y="1631880"/>
            <a:ext cx="315900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cker by-pass port for annular sweeping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-pass nozzles optimized for annular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t pump set up to lift sweeping flui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lanced pressure” clean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ailable with packer isolation and cup tool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2171520" y="5316480"/>
            <a:ext cx="1284120" cy="422280"/>
            <a:chOff x="2171520" y="5316480"/>
            <a:chExt cx="1284120" cy="422280"/>
          </a:xfrm>
        </p:grpSpPr>
        <p:sp>
          <p:nvSpPr>
            <p:cNvPr id="295" name="Rectangle 37"/>
            <p:cNvSpPr/>
            <p:nvPr/>
          </p:nvSpPr>
          <p:spPr>
            <a:xfrm rot="5400000">
              <a:off x="2604240" y="4884480"/>
              <a:ext cx="419400" cy="12830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18"/>
            <p:cNvSpPr/>
            <p:nvPr/>
          </p:nvSpPr>
          <p:spPr>
            <a:xfrm flipH="1">
              <a:off x="2185560" y="5738760"/>
              <a:ext cx="126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17"/>
            <p:cNvSpPr/>
            <p:nvPr/>
          </p:nvSpPr>
          <p:spPr>
            <a:xfrm flipH="1">
              <a:off x="2171520" y="5322240"/>
              <a:ext cx="128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Rectangle 173"/>
          <p:cNvSpPr/>
          <p:nvPr/>
        </p:nvSpPr>
        <p:spPr>
          <a:xfrm rot="5400000">
            <a:off x="2801880" y="5087880"/>
            <a:ext cx="419040" cy="876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1"/>
          <p:cNvSpPr/>
          <p:nvPr/>
        </p:nvSpPr>
        <p:spPr>
          <a:xfrm>
            <a:off x="3348000" y="5318280"/>
            <a:ext cx="5184720" cy="325440"/>
          </a:xfrm>
          <a:custGeom>
            <a:avLst/>
            <a:gdLst>
              <a:gd name="textAreaLeft" fmla="*/ 0 w 5184720"/>
              <a:gd name="textAreaRight" fmla="*/ 5185080 w 518472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3266" h="205">
                <a:moveTo>
                  <a:pt x="5" y="106"/>
                </a:moveTo>
                <a:lnTo>
                  <a:pt x="0" y="34"/>
                </a:lnTo>
                <a:cubicBezTo>
                  <a:pt x="7" y="20"/>
                  <a:pt x="4" y="23"/>
                  <a:pt x="49" y="20"/>
                </a:cubicBezTo>
                <a:cubicBezTo>
                  <a:pt x="94" y="17"/>
                  <a:pt x="146" y="6"/>
                  <a:pt x="269" y="20"/>
                </a:cubicBezTo>
                <a:cubicBezTo>
                  <a:pt x="392" y="33"/>
                  <a:pt x="607" y="105"/>
                  <a:pt x="790" y="103"/>
                </a:cubicBezTo>
                <a:cubicBezTo>
                  <a:pt x="974" y="100"/>
                  <a:pt x="1177" y="0"/>
                  <a:pt x="1371" y="3"/>
                </a:cubicBezTo>
                <a:cubicBezTo>
                  <a:pt x="1565" y="5"/>
                  <a:pt x="1770" y="114"/>
                  <a:pt x="1960" y="114"/>
                </a:cubicBezTo>
                <a:cubicBezTo>
                  <a:pt x="2150" y="114"/>
                  <a:pt x="2295" y="4"/>
                  <a:pt x="2512" y="3"/>
                </a:cubicBezTo>
                <a:cubicBezTo>
                  <a:pt x="2729" y="1"/>
                  <a:pt x="3141" y="74"/>
                  <a:pt x="3266" y="108"/>
                </a:cubicBezTo>
                <a:lnTo>
                  <a:pt x="3264" y="205"/>
                </a:lnTo>
              </a:path>
            </a:pathLst>
          </a:custGeom>
          <a:solidFill>
            <a:srgbClr val="99cc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rc 44"/>
          <p:cNvSpPr/>
          <p:nvPr/>
        </p:nvSpPr>
        <p:spPr>
          <a:xfrm rot="10800000">
            <a:off x="853920" y="4327560"/>
            <a:ext cx="1401840" cy="1409760"/>
          </a:xfrm>
          <a:custGeom>
            <a:avLst/>
            <a:gdLst>
              <a:gd name="textAreaLeft" fmla="*/ 0 w 1401840"/>
              <a:gd name="textAreaRight" fmla="*/ 1402200 w 1401840"/>
              <a:gd name="textAreaTop" fmla="*/ 0 h 1409760"/>
              <a:gd name="textAreaBottom" fmla="*/ 1410120 h 1409760"/>
            </a:gdLst>
            <a:ahLst/>
            <a:rect l="textAreaLeft" t="textAreaTop" r="textAreaRight" b="textAreaBottom"/>
            <a:pathLst>
              <a:path fill="none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</a:path>
              <a:path stroke="0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  <a:lnTo>
                  <a:pt x="0" y="21582"/>
                </a:lnTo>
                <a:lnTo>
                  <a:pt x="890" y="0"/>
                </a:lnTo>
                <a:close/>
              </a:path>
            </a:pathLst>
          </a:custGeom>
          <a:solidFill>
            <a:srgbClr val="3399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6"/>
          <p:cNvSpPr/>
          <p:nvPr/>
        </p:nvSpPr>
        <p:spPr>
          <a:xfrm>
            <a:off x="787320" y="2211480"/>
            <a:ext cx="541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1"/>
          <p:cNvSpPr/>
          <p:nvPr/>
        </p:nvSpPr>
        <p:spPr>
          <a:xfrm>
            <a:off x="3344760" y="5562720"/>
            <a:ext cx="5189760" cy="353880"/>
          </a:xfrm>
          <a:custGeom>
            <a:avLst/>
            <a:gdLst>
              <a:gd name="textAreaLeft" fmla="*/ 0 w 5189760"/>
              <a:gd name="textAreaRight" fmla="*/ 5190120 w 518976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3629" h="247">
                <a:moveTo>
                  <a:pt x="5" y="0"/>
                </a:moveTo>
                <a:lnTo>
                  <a:pt x="1" y="144"/>
                </a:lnTo>
                <a:cubicBezTo>
                  <a:pt x="7" y="167"/>
                  <a:pt x="0" y="140"/>
                  <a:pt x="43" y="138"/>
                </a:cubicBezTo>
                <a:cubicBezTo>
                  <a:pt x="86" y="136"/>
                  <a:pt x="122" y="115"/>
                  <a:pt x="262" y="130"/>
                </a:cubicBezTo>
                <a:cubicBezTo>
                  <a:pt x="402" y="145"/>
                  <a:pt x="670" y="228"/>
                  <a:pt x="881" y="226"/>
                </a:cubicBezTo>
                <a:cubicBezTo>
                  <a:pt x="1092" y="224"/>
                  <a:pt x="1310" y="112"/>
                  <a:pt x="1526" y="115"/>
                </a:cubicBezTo>
                <a:cubicBezTo>
                  <a:pt x="1742" y="118"/>
                  <a:pt x="1968" y="239"/>
                  <a:pt x="2179" y="239"/>
                </a:cubicBezTo>
                <a:cubicBezTo>
                  <a:pt x="2390" y="239"/>
                  <a:pt x="2582" y="122"/>
                  <a:pt x="2792" y="115"/>
                </a:cubicBezTo>
                <a:cubicBezTo>
                  <a:pt x="3002" y="108"/>
                  <a:pt x="3300" y="183"/>
                  <a:pt x="3439" y="200"/>
                </a:cubicBezTo>
                <a:cubicBezTo>
                  <a:pt x="3579" y="217"/>
                  <a:pt x="3598" y="247"/>
                  <a:pt x="3629" y="216"/>
                </a:cubicBezTo>
                <a:lnTo>
                  <a:pt x="3627" y="8"/>
                </a:lnTo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1"/>
          <p:cNvSpPr/>
          <p:nvPr/>
        </p:nvSpPr>
        <p:spPr>
          <a:xfrm>
            <a:off x="3322800" y="5311800"/>
            <a:ext cx="3119400" cy="258840"/>
          </a:xfrm>
          <a:custGeom>
            <a:avLst/>
            <a:gdLst>
              <a:gd name="textAreaLeft" fmla="*/ 0 w 3119400"/>
              <a:gd name="textAreaRight" fmla="*/ 3119760 w 311940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965" h="163">
                <a:moveTo>
                  <a:pt x="0" y="137"/>
                </a:moveTo>
                <a:lnTo>
                  <a:pt x="5" y="37"/>
                </a:lnTo>
                <a:cubicBezTo>
                  <a:pt x="14" y="18"/>
                  <a:pt x="9" y="26"/>
                  <a:pt x="54" y="23"/>
                </a:cubicBezTo>
                <a:cubicBezTo>
                  <a:pt x="99" y="20"/>
                  <a:pt x="151" y="9"/>
                  <a:pt x="274" y="23"/>
                </a:cubicBezTo>
                <a:cubicBezTo>
                  <a:pt x="397" y="36"/>
                  <a:pt x="612" y="109"/>
                  <a:pt x="795" y="106"/>
                </a:cubicBezTo>
                <a:cubicBezTo>
                  <a:pt x="978" y="103"/>
                  <a:pt x="1224" y="14"/>
                  <a:pt x="1374" y="7"/>
                </a:cubicBezTo>
                <a:cubicBezTo>
                  <a:pt x="1524" y="0"/>
                  <a:pt x="1607" y="48"/>
                  <a:pt x="1698" y="65"/>
                </a:cubicBezTo>
                <a:cubicBezTo>
                  <a:pt x="1789" y="82"/>
                  <a:pt x="1877" y="103"/>
                  <a:pt x="1921" y="112"/>
                </a:cubicBezTo>
                <a:lnTo>
                  <a:pt x="1965" y="117"/>
                </a:lnTo>
                <a:lnTo>
                  <a:pt x="1959" y="163"/>
                </a:lnTo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0"/>
          <p:cNvSpPr/>
          <p:nvPr/>
        </p:nvSpPr>
        <p:spPr>
          <a:xfrm rot="5400000">
            <a:off x="2934720" y="5221080"/>
            <a:ext cx="419040" cy="6094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1"/>
          <p:cNvSpPr/>
          <p:nvPr/>
        </p:nvSpPr>
        <p:spPr>
          <a:xfrm>
            <a:off x="5440320" y="5551560"/>
            <a:ext cx="3086280" cy="380880"/>
          </a:xfrm>
          <a:custGeom>
            <a:avLst/>
            <a:gdLst>
              <a:gd name="textAreaLeft" fmla="*/ 0 w 3086280"/>
              <a:gd name="textAreaRight" fmla="*/ 3008520 w 30862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944" h="240">
                <a:moveTo>
                  <a:pt x="331" y="12"/>
                </a:moveTo>
                <a:cubicBezTo>
                  <a:pt x="284" y="28"/>
                  <a:pt x="0" y="70"/>
                  <a:pt x="51" y="107"/>
                </a:cubicBezTo>
                <a:cubicBezTo>
                  <a:pt x="102" y="144"/>
                  <a:pt x="449" y="232"/>
                  <a:pt x="639" y="232"/>
                </a:cubicBezTo>
                <a:cubicBezTo>
                  <a:pt x="829" y="232"/>
                  <a:pt x="1002" y="114"/>
                  <a:pt x="1191" y="107"/>
                </a:cubicBezTo>
                <a:cubicBezTo>
                  <a:pt x="1380" y="100"/>
                  <a:pt x="1648" y="176"/>
                  <a:pt x="1773" y="193"/>
                </a:cubicBezTo>
                <a:cubicBezTo>
                  <a:pt x="1899" y="210"/>
                  <a:pt x="1916" y="240"/>
                  <a:pt x="1944" y="209"/>
                </a:cubicBezTo>
                <a:lnTo>
                  <a:pt x="194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8"/>
          <p:cNvSpPr/>
          <p:nvPr/>
        </p:nvSpPr>
        <p:spPr>
          <a:xfrm>
            <a:off x="849240" y="2209680"/>
            <a:ext cx="419040" cy="2125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9"/>
          <p:cNvSpPr/>
          <p:nvPr/>
        </p:nvSpPr>
        <p:spPr>
          <a:xfrm>
            <a:off x="961920" y="2203560"/>
            <a:ext cx="204840" cy="2144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11"/>
          <p:cNvGrpSpPr/>
          <p:nvPr/>
        </p:nvGrpSpPr>
        <p:grpSpPr>
          <a:xfrm>
            <a:off x="771480" y="2211480"/>
            <a:ext cx="584280" cy="1174680"/>
            <a:chOff x="771480" y="2211480"/>
            <a:chExt cx="584280" cy="1174680"/>
          </a:xfrm>
        </p:grpSpPr>
        <p:sp>
          <p:nvSpPr>
            <p:cNvPr id="309" name="Line 412"/>
            <p:cNvSpPr/>
            <p:nvPr/>
          </p:nvSpPr>
          <p:spPr>
            <a:xfrm>
              <a:off x="817920" y="2211480"/>
              <a:ext cx="0" cy="11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413"/>
            <p:cNvSpPr/>
            <p:nvPr/>
          </p:nvSpPr>
          <p:spPr>
            <a:xfrm>
              <a:off x="1308960" y="2211480"/>
              <a:ext cx="0" cy="11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414"/>
            <p:cNvSpPr/>
            <p:nvPr/>
          </p:nvSpPr>
          <p:spPr>
            <a:xfrm>
              <a:off x="1316880" y="3310920"/>
              <a:ext cx="38880" cy="7488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415"/>
            <p:cNvSpPr/>
            <p:nvPr/>
          </p:nvSpPr>
          <p:spPr>
            <a:xfrm flipH="1">
              <a:off x="771480" y="3310920"/>
              <a:ext cx="38880" cy="7488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Line 418"/>
          <p:cNvSpPr/>
          <p:nvPr/>
        </p:nvSpPr>
        <p:spPr>
          <a:xfrm>
            <a:off x="1270080" y="2219400"/>
            <a:ext cx="0" cy="20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7"/>
          <p:cNvSpPr/>
          <p:nvPr/>
        </p:nvSpPr>
        <p:spPr>
          <a:xfrm>
            <a:off x="853920" y="2211480"/>
            <a:ext cx="0" cy="21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69"/>
          <p:cNvSpPr/>
          <p:nvPr/>
        </p:nvSpPr>
        <p:spPr>
          <a:xfrm rot="10800000">
            <a:off x="969480" y="4334040"/>
            <a:ext cx="1406520" cy="1257120"/>
          </a:xfrm>
          <a:custGeom>
            <a:avLst/>
            <a:gdLst>
              <a:gd name="textAreaLeft" fmla="*/ 0 w 1406520"/>
              <a:gd name="textAreaRight" fmla="*/ 1406880 w 1406520"/>
              <a:gd name="textAreaTop" fmla="*/ 0 h 1257120"/>
              <a:gd name="textAreaBottom" fmla="*/ 1257480 h 1257120"/>
            </a:gdLst>
            <a:ahLst/>
            <a:rect l="textAreaLeft" t="textAreaTop" r="textAreaRight" b="textAreaBottom"/>
            <a:pathLst>
              <a:path fill="none" w="21600" h="20764">
                <a:moveTo>
                  <a:pt x="5951" y="0"/>
                </a:moveTo>
                <a:cubicBezTo>
                  <a:pt x="15215" y="2655"/>
                  <a:pt x="21600" y="11126"/>
                  <a:pt x="21600" y="20764"/>
                </a:cubicBezTo>
              </a:path>
              <a:path stroke="0" w="21600" h="20764">
                <a:moveTo>
                  <a:pt x="5951" y="0"/>
                </a:moveTo>
                <a:cubicBezTo>
                  <a:pt x="15215" y="2655"/>
                  <a:pt x="21600" y="11126"/>
                  <a:pt x="21600" y="20764"/>
                </a:cubicBezTo>
                <a:lnTo>
                  <a:pt x="0" y="20764"/>
                </a:lnTo>
                <a:lnTo>
                  <a:pt x="5951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54"/>
          <p:cNvSpPr/>
          <p:nvPr/>
        </p:nvSpPr>
        <p:spPr>
          <a:xfrm rot="21594600">
            <a:off x="3321000" y="5324040"/>
            <a:ext cx="79560" cy="47880"/>
          </a:xfrm>
          <a:custGeom>
            <a:avLst/>
            <a:gdLst>
              <a:gd name="textAreaLeft" fmla="*/ 16560 w 79560"/>
              <a:gd name="textAreaRight" fmla="*/ 63000 w 79560"/>
              <a:gd name="textAreaTop" fmla="*/ 9720 h 47880"/>
              <a:gd name="textAreaBottom" fmla="*/ 38160 h 4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6"/>
          <p:cNvSpPr/>
          <p:nvPr/>
        </p:nvSpPr>
        <p:spPr>
          <a:xfrm rot="10794600">
            <a:off x="3327120" y="5694480"/>
            <a:ext cx="77760" cy="47520"/>
          </a:xfrm>
          <a:custGeom>
            <a:avLst/>
            <a:gdLst>
              <a:gd name="textAreaLeft" fmla="*/ 16200 w 77760"/>
              <a:gd name="textAreaRight" fmla="*/ 61560 w 77760"/>
              <a:gd name="textAreaTop" fmla="*/ 9720 h 47520"/>
              <a:gd name="textAreaBottom" fmla="*/ 37800 h 4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50"/>
          <p:cNvGrpSpPr/>
          <p:nvPr/>
        </p:nvGrpSpPr>
        <p:grpSpPr>
          <a:xfrm>
            <a:off x="3405240" y="5286240"/>
            <a:ext cx="47520" cy="492120"/>
            <a:chOff x="3405240" y="5286240"/>
            <a:chExt cx="47520" cy="492120"/>
          </a:xfrm>
        </p:grpSpPr>
        <p:sp>
          <p:nvSpPr>
            <p:cNvPr id="319" name="AutoShape 419"/>
            <p:cNvSpPr/>
            <p:nvPr/>
          </p:nvSpPr>
          <p:spPr>
            <a:xfrm rot="16200000">
              <a:off x="3412800" y="5278680"/>
              <a:ext cx="32400" cy="4752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420"/>
            <p:cNvSpPr/>
            <p:nvPr/>
          </p:nvSpPr>
          <p:spPr>
            <a:xfrm flipH="1" rot="16200000">
              <a:off x="3412440" y="5738040"/>
              <a:ext cx="32760" cy="4752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rc 97"/>
          <p:cNvSpPr/>
          <p:nvPr/>
        </p:nvSpPr>
        <p:spPr>
          <a:xfrm rot="10800000">
            <a:off x="1603080" y="4354200"/>
            <a:ext cx="617400" cy="1290600"/>
          </a:xfrm>
          <a:custGeom>
            <a:avLst/>
            <a:gdLst>
              <a:gd name="textAreaLeft" fmla="*/ 0 w 617400"/>
              <a:gd name="textAreaRight" fmla="*/ 617760 w 61740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fill="none" w="10393" h="21162">
                <a:moveTo>
                  <a:pt x="4328" y="0"/>
                </a:moveTo>
                <a:cubicBezTo>
                  <a:pt x="6450" y="434"/>
                  <a:pt x="8494" y="1184"/>
                  <a:pt x="10393" y="2226"/>
                </a:cubicBezTo>
              </a:path>
              <a:path stroke="0" w="10393" h="21162">
                <a:moveTo>
                  <a:pt x="4328" y="0"/>
                </a:moveTo>
                <a:cubicBezTo>
                  <a:pt x="6450" y="434"/>
                  <a:pt x="8494" y="1184"/>
                  <a:pt x="10393" y="2226"/>
                </a:cubicBezTo>
                <a:lnTo>
                  <a:pt x="0" y="21162"/>
                </a:lnTo>
                <a:lnTo>
                  <a:pt x="432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8"/>
          <p:cNvSpPr/>
          <p:nvPr/>
        </p:nvSpPr>
        <p:spPr>
          <a:xfrm flipV="1">
            <a:off x="1054080" y="2781000"/>
            <a:ext cx="0" cy="54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9"/>
          <p:cNvSpPr/>
          <p:nvPr/>
        </p:nvSpPr>
        <p:spPr>
          <a:xfrm>
            <a:off x="912960" y="318276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0"/>
          <p:cNvSpPr/>
          <p:nvPr/>
        </p:nvSpPr>
        <p:spPr>
          <a:xfrm>
            <a:off x="1220760" y="318276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rc 101"/>
          <p:cNvSpPr/>
          <p:nvPr/>
        </p:nvSpPr>
        <p:spPr>
          <a:xfrm rot="10800000">
            <a:off x="1360080" y="4582800"/>
            <a:ext cx="593640" cy="772920"/>
          </a:xfrm>
          <a:custGeom>
            <a:avLst/>
            <a:gdLst>
              <a:gd name="textAreaLeft" fmla="*/ 0 w 593640"/>
              <a:gd name="textAreaRight" fmla="*/ 594000 w 59364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fill="none" w="17206" h="19801">
                <a:moveTo>
                  <a:pt x="8630" y="-1"/>
                </a:moveTo>
                <a:cubicBezTo>
                  <a:pt x="12018" y="1476"/>
                  <a:pt x="14971" y="3798"/>
                  <a:pt x="17206" y="6742"/>
                </a:cubicBezTo>
              </a:path>
              <a:path stroke="0" w="17206" h="19801">
                <a:moveTo>
                  <a:pt x="8630" y="-1"/>
                </a:moveTo>
                <a:cubicBezTo>
                  <a:pt x="12018" y="1476"/>
                  <a:pt x="14971" y="3798"/>
                  <a:pt x="17206" y="6742"/>
                </a:cubicBezTo>
                <a:lnTo>
                  <a:pt x="0" y="19801"/>
                </a:lnTo>
                <a:lnTo>
                  <a:pt x="86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rc 102"/>
          <p:cNvSpPr/>
          <p:nvPr/>
        </p:nvSpPr>
        <p:spPr>
          <a:xfrm rot="10800000">
            <a:off x="1164960" y="4325400"/>
            <a:ext cx="1266840" cy="107820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078200"/>
              <a:gd name="textAreaBottom" fmla="*/ 1078560 h 1078200"/>
            </a:gdLst>
            <a:ahLst/>
            <a:rect l="textAreaLeft" t="textAreaTop" r="textAreaRight" b="textAreaBottom"/>
            <a:pathLst>
              <a:path fill="none" w="21600" h="20526">
                <a:moveTo>
                  <a:pt x="6725" y="-1"/>
                </a:moveTo>
                <a:cubicBezTo>
                  <a:pt x="15599" y="2907"/>
                  <a:pt x="21600" y="11187"/>
                  <a:pt x="21600" y="20526"/>
                </a:cubicBezTo>
              </a:path>
              <a:path stroke="0" w="21600" h="20526">
                <a:moveTo>
                  <a:pt x="6725" y="-1"/>
                </a:moveTo>
                <a:cubicBezTo>
                  <a:pt x="15599" y="2907"/>
                  <a:pt x="21600" y="11187"/>
                  <a:pt x="21600" y="20526"/>
                </a:cubicBezTo>
                <a:lnTo>
                  <a:pt x="0" y="20526"/>
                </a:lnTo>
                <a:lnTo>
                  <a:pt x="6725" y="-1"/>
                </a:lnTo>
                <a:close/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rc 103"/>
          <p:cNvSpPr/>
          <p:nvPr/>
        </p:nvSpPr>
        <p:spPr>
          <a:xfrm rot="10800000">
            <a:off x="1512720" y="4078440"/>
            <a:ext cx="849600" cy="1233360"/>
          </a:xfrm>
          <a:custGeom>
            <a:avLst/>
            <a:gdLst>
              <a:gd name="textAreaLeft" fmla="*/ 0 w 849600"/>
              <a:gd name="textAreaRight" fmla="*/ 849960 w 84960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14296" h="20247">
                <a:moveTo>
                  <a:pt x="7524" y="-1"/>
                </a:moveTo>
                <a:cubicBezTo>
                  <a:pt x="10011" y="924"/>
                  <a:pt x="12306" y="2298"/>
                  <a:pt x="14296" y="4054"/>
                </a:cubicBezTo>
              </a:path>
              <a:path stroke="0" w="14296" h="20247">
                <a:moveTo>
                  <a:pt x="7524" y="-1"/>
                </a:moveTo>
                <a:cubicBezTo>
                  <a:pt x="10011" y="924"/>
                  <a:pt x="12306" y="2298"/>
                  <a:pt x="14296" y="4054"/>
                </a:cubicBezTo>
                <a:lnTo>
                  <a:pt x="0" y="20247"/>
                </a:lnTo>
                <a:lnTo>
                  <a:pt x="7524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91"/>
          <p:cNvSpPr/>
          <p:nvPr/>
        </p:nvSpPr>
        <p:spPr>
          <a:xfrm rot="21283800">
            <a:off x="5479920" y="5578560"/>
            <a:ext cx="854280" cy="1587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rc 104"/>
          <p:cNvSpPr/>
          <p:nvPr/>
        </p:nvSpPr>
        <p:spPr>
          <a:xfrm rot="10800000">
            <a:off x="1269720" y="4312800"/>
            <a:ext cx="995400" cy="1011240"/>
          </a:xfrm>
          <a:custGeom>
            <a:avLst/>
            <a:gdLst>
              <a:gd name="textAreaLeft" fmla="*/ 0 w 995400"/>
              <a:gd name="textAreaRight" fmla="*/ 995760 w 99540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fill="none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</a:path>
              <a:path stroke="0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  <a:lnTo>
                  <a:pt x="0" y="21578"/>
                </a:lnTo>
                <a:lnTo>
                  <a:pt x="98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08"/>
          <p:cNvSpPr/>
          <p:nvPr/>
        </p:nvSpPr>
        <p:spPr>
          <a:xfrm>
            <a:off x="2870280" y="5460840"/>
            <a:ext cx="3208320" cy="228600"/>
          </a:xfrm>
          <a:custGeom>
            <a:avLst/>
            <a:gdLst>
              <a:gd name="textAreaLeft" fmla="*/ 0 w 3208320"/>
              <a:gd name="textAreaRight" fmla="*/ 3556080 w 3208320"/>
              <a:gd name="textAreaTop" fmla="*/ 0 h 228600"/>
              <a:gd name="textAreaBottom" fmla="*/ 231840 h 228600"/>
            </a:gdLst>
            <a:ahLst/>
            <a:rect l="textAreaLeft" t="textAreaTop" r="textAreaRight" b="textAreaBottom"/>
            <a:pathLst>
              <a:path w="2021" h="144">
                <a:moveTo>
                  <a:pt x="0" y="116"/>
                </a:moveTo>
                <a:lnTo>
                  <a:pt x="64" y="108"/>
                </a:lnTo>
                <a:cubicBezTo>
                  <a:pt x="128" y="102"/>
                  <a:pt x="309" y="85"/>
                  <a:pt x="386" y="81"/>
                </a:cubicBezTo>
                <a:cubicBezTo>
                  <a:pt x="463" y="77"/>
                  <a:pt x="459" y="80"/>
                  <a:pt x="526" y="83"/>
                </a:cubicBezTo>
                <a:cubicBezTo>
                  <a:pt x="593" y="86"/>
                  <a:pt x="696" y="97"/>
                  <a:pt x="788" y="103"/>
                </a:cubicBezTo>
                <a:cubicBezTo>
                  <a:pt x="880" y="108"/>
                  <a:pt x="988" y="116"/>
                  <a:pt x="1076" y="116"/>
                </a:cubicBezTo>
                <a:cubicBezTo>
                  <a:pt x="1164" y="116"/>
                  <a:pt x="1227" y="107"/>
                  <a:pt x="1314" y="102"/>
                </a:cubicBezTo>
                <a:cubicBezTo>
                  <a:pt x="1401" y="97"/>
                  <a:pt x="1500" y="84"/>
                  <a:pt x="1598" y="88"/>
                </a:cubicBezTo>
                <a:cubicBezTo>
                  <a:pt x="1696" y="92"/>
                  <a:pt x="1840" y="118"/>
                  <a:pt x="1902" y="126"/>
                </a:cubicBezTo>
                <a:cubicBezTo>
                  <a:pt x="1964" y="134"/>
                  <a:pt x="1952" y="144"/>
                  <a:pt x="1968" y="138"/>
                </a:cubicBezTo>
                <a:lnTo>
                  <a:pt x="1996" y="92"/>
                </a:lnTo>
                <a:cubicBezTo>
                  <a:pt x="1996" y="79"/>
                  <a:pt x="2021" y="74"/>
                  <a:pt x="1968" y="60"/>
                </a:cubicBezTo>
                <a:cubicBezTo>
                  <a:pt x="1915" y="46"/>
                  <a:pt x="1773" y="18"/>
                  <a:pt x="1676" y="10"/>
                </a:cubicBezTo>
                <a:cubicBezTo>
                  <a:pt x="1579" y="2"/>
                  <a:pt x="1475" y="10"/>
                  <a:pt x="1388" y="14"/>
                </a:cubicBezTo>
                <a:cubicBezTo>
                  <a:pt x="1301" y="18"/>
                  <a:pt x="1226" y="33"/>
                  <a:pt x="1152" y="36"/>
                </a:cubicBezTo>
                <a:cubicBezTo>
                  <a:pt x="1078" y="39"/>
                  <a:pt x="1032" y="38"/>
                  <a:pt x="944" y="33"/>
                </a:cubicBezTo>
                <a:cubicBezTo>
                  <a:pt x="856" y="29"/>
                  <a:pt x="715" y="13"/>
                  <a:pt x="626" y="8"/>
                </a:cubicBezTo>
                <a:cubicBezTo>
                  <a:pt x="537" y="3"/>
                  <a:pt x="502" y="0"/>
                  <a:pt x="412" y="3"/>
                </a:cubicBezTo>
                <a:cubicBezTo>
                  <a:pt x="322" y="6"/>
                  <a:pt x="156" y="21"/>
                  <a:pt x="88" y="24"/>
                </a:cubicBezTo>
                <a:lnTo>
                  <a:pt x="4" y="20"/>
                </a:lnTo>
                <a:lnTo>
                  <a:pt x="0" y="11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43"/>
          <p:cNvSpPr/>
          <p:nvPr/>
        </p:nvSpPr>
        <p:spPr>
          <a:xfrm>
            <a:off x="3479760" y="5535720"/>
            <a:ext cx="482760" cy="11160"/>
          </a:xfrm>
          <a:custGeom>
            <a:avLst/>
            <a:gdLst>
              <a:gd name="textAreaLeft" fmla="*/ 0 w 482760"/>
              <a:gd name="textAreaRight" fmla="*/ 483120 w 4827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04" h="7">
                <a:moveTo>
                  <a:pt x="304" y="7"/>
                </a:moveTo>
                <a:lnTo>
                  <a:pt x="182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74"/>
          <p:cNvGrpSpPr/>
          <p:nvPr/>
        </p:nvGrpSpPr>
        <p:grpSpPr>
          <a:xfrm>
            <a:off x="2193840" y="5322960"/>
            <a:ext cx="1254240" cy="415800"/>
            <a:chOff x="2193840" y="5322960"/>
            <a:chExt cx="1254240" cy="415800"/>
          </a:xfrm>
        </p:grpSpPr>
        <p:sp>
          <p:nvSpPr>
            <p:cNvPr id="333" name="Line 418"/>
            <p:cNvSpPr/>
            <p:nvPr/>
          </p:nvSpPr>
          <p:spPr>
            <a:xfrm flipH="1">
              <a:off x="2207160" y="5738760"/>
              <a:ext cx="123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17"/>
            <p:cNvSpPr/>
            <p:nvPr/>
          </p:nvSpPr>
          <p:spPr>
            <a:xfrm flipH="1">
              <a:off x="2193840" y="5322960"/>
              <a:ext cx="125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16"/>
          <p:cNvGrpSpPr/>
          <p:nvPr/>
        </p:nvGrpSpPr>
        <p:grpSpPr>
          <a:xfrm>
            <a:off x="777960" y="329040"/>
            <a:ext cx="6367320" cy="1928520"/>
            <a:chOff x="777960" y="329040"/>
            <a:chExt cx="6367320" cy="1928520"/>
          </a:xfrm>
        </p:grpSpPr>
        <p:grpSp>
          <p:nvGrpSpPr>
            <p:cNvPr id="336" name="Group 217"/>
            <p:cNvGrpSpPr/>
            <p:nvPr/>
          </p:nvGrpSpPr>
          <p:grpSpPr>
            <a:xfrm>
              <a:off x="777960" y="329040"/>
              <a:ext cx="2058840" cy="1928520"/>
              <a:chOff x="777960" y="329040"/>
              <a:chExt cx="2058840" cy="1928520"/>
            </a:xfrm>
          </p:grpSpPr>
          <p:pic>
            <p:nvPicPr>
              <p:cNvPr id="337" name="Picture 218" descr="thumbnail"/>
              <p:cNvPicPr/>
              <p:nvPr/>
            </p:nvPicPr>
            <p:blipFill>
              <a:blip r:embed="rId7"/>
              <a:stretch/>
            </p:blipFill>
            <p:spPr>
              <a:xfrm flipH="1" rot="120000">
                <a:off x="974520" y="356760"/>
                <a:ext cx="1627200" cy="18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Line 424"/>
              <p:cNvSpPr/>
              <p:nvPr/>
            </p:nvSpPr>
            <p:spPr>
              <a:xfrm>
                <a:off x="777960" y="2205000"/>
                <a:ext cx="205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220"/>
              <p:cNvSpPr/>
              <p:nvPr/>
            </p:nvSpPr>
            <p:spPr>
              <a:xfrm>
                <a:off x="153648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221"/>
              <p:cNvSpPr/>
              <p:nvPr/>
            </p:nvSpPr>
            <p:spPr>
              <a:xfrm>
                <a:off x="192564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222"/>
              <p:cNvSpPr/>
              <p:nvPr/>
            </p:nvSpPr>
            <p:spPr>
              <a:xfrm>
                <a:off x="196992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223"/>
              <p:cNvSpPr/>
              <p:nvPr/>
            </p:nvSpPr>
            <p:spPr>
              <a:xfrm>
                <a:off x="158256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224"/>
              <p:cNvSpPr/>
              <p:nvPr/>
            </p:nvSpPr>
            <p:spPr>
              <a:xfrm>
                <a:off x="230652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225"/>
              <p:cNvSpPr/>
              <p:nvPr/>
            </p:nvSpPr>
            <p:spPr>
              <a:xfrm>
                <a:off x="273204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226"/>
              <p:cNvSpPr/>
              <p:nvPr/>
            </p:nvSpPr>
            <p:spPr>
              <a:xfrm>
                <a:off x="202068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227"/>
              <p:cNvSpPr/>
              <p:nvPr/>
            </p:nvSpPr>
            <p:spPr>
              <a:xfrm flipH="1">
                <a:off x="174600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228"/>
              <p:cNvSpPr/>
              <p:nvPr/>
            </p:nvSpPr>
            <p:spPr>
              <a:xfrm flipH="1">
                <a:off x="178560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229"/>
              <p:cNvSpPr/>
              <p:nvPr/>
            </p:nvSpPr>
            <p:spPr>
              <a:xfrm flipH="1">
                <a:off x="253476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30"/>
              <p:cNvSpPr/>
              <p:nvPr/>
            </p:nvSpPr>
            <p:spPr>
              <a:xfrm flipH="1">
                <a:off x="142200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231"/>
              <p:cNvSpPr/>
              <p:nvPr/>
            </p:nvSpPr>
            <p:spPr>
              <a:xfrm>
                <a:off x="224460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32"/>
              <p:cNvSpPr/>
              <p:nvPr/>
            </p:nvSpPr>
            <p:spPr>
              <a:xfrm flipH="1">
                <a:off x="248256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33"/>
              <p:cNvSpPr/>
              <p:nvPr/>
            </p:nvSpPr>
            <p:spPr>
              <a:xfrm flipH="1">
                <a:off x="258408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2"/>
            <p:cNvSpPr/>
            <p:nvPr/>
          </p:nvSpPr>
          <p:spPr>
            <a:xfrm>
              <a:off x="973080" y="573120"/>
              <a:ext cx="617220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REP JetSweep™ Well Cleaning Proces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Patent Pending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rocedures for Low Inflow We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32"/>
          <p:cNvGrpSpPr/>
          <p:nvPr/>
        </p:nvGrpSpPr>
        <p:grpSpPr>
          <a:xfrm>
            <a:off x="5806440" y="5386680"/>
            <a:ext cx="335160" cy="224640"/>
            <a:chOff x="5806440" y="5386680"/>
            <a:chExt cx="335160" cy="224640"/>
          </a:xfrm>
        </p:grpSpPr>
        <p:sp>
          <p:nvSpPr>
            <p:cNvPr id="355" name="AutoShape 64"/>
            <p:cNvSpPr/>
            <p:nvPr/>
          </p:nvSpPr>
          <p:spPr>
            <a:xfrm flipV="1" rot="6564000">
              <a:off x="5917680" y="5326560"/>
              <a:ext cx="81000" cy="293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49" y="1524"/>
                    <a:pt x="8497" y="5080"/>
                    <a:pt x="8497" y="10800"/>
                  </a:cubicBezTo>
                  <a:cubicBezTo>
                    <a:pt x="8497" y="16520"/>
                    <a:pt x="15049" y="200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 fontScale="4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65"/>
            <p:cNvSpPr/>
            <p:nvPr/>
          </p:nvSpPr>
          <p:spPr>
            <a:xfrm flipV="1" rot="18960000">
              <a:off x="6019560" y="5459040"/>
              <a:ext cx="84240" cy="14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 vert="eaVert" rot="10800000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Line 143"/>
          <p:cNvSpPr/>
          <p:nvPr/>
        </p:nvSpPr>
        <p:spPr>
          <a:xfrm>
            <a:off x="3208320" y="5678640"/>
            <a:ext cx="47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3"/>
          <p:cNvSpPr/>
          <p:nvPr/>
        </p:nvSpPr>
        <p:spPr>
          <a:xfrm>
            <a:off x="3154320" y="5398920"/>
            <a:ext cx="47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3"/>
          <p:cNvSpPr/>
          <p:nvPr/>
        </p:nvSpPr>
        <p:spPr>
          <a:xfrm>
            <a:off x="3208320" y="5678640"/>
            <a:ext cx="47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3"/>
          <p:cNvSpPr/>
          <p:nvPr/>
        </p:nvSpPr>
        <p:spPr>
          <a:xfrm>
            <a:off x="4354560" y="5734080"/>
            <a:ext cx="474480" cy="22320"/>
          </a:xfrm>
          <a:custGeom>
            <a:avLst/>
            <a:gdLst>
              <a:gd name="textAreaLeft" fmla="*/ 0 w 474480"/>
              <a:gd name="textAreaRight" fmla="*/ 474840 w 4744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99" h="14">
                <a:moveTo>
                  <a:pt x="0" y="0"/>
                </a:moveTo>
                <a:cubicBezTo>
                  <a:pt x="25" y="2"/>
                  <a:pt x="102" y="14"/>
                  <a:pt x="152" y="14"/>
                </a:cubicBezTo>
                <a:cubicBezTo>
                  <a:pt x="202" y="14"/>
                  <a:pt x="269" y="3"/>
                  <a:pt x="29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39"/>
          <p:cNvSpPr/>
          <p:nvPr/>
        </p:nvSpPr>
        <p:spPr>
          <a:xfrm>
            <a:off x="6394320" y="5506920"/>
            <a:ext cx="93960" cy="63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3"/>
          <p:cNvSpPr/>
          <p:nvPr/>
        </p:nvSpPr>
        <p:spPr>
          <a:xfrm rot="180000">
            <a:off x="1724040" y="5223960"/>
            <a:ext cx="1414440" cy="5810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36"/>
          <p:cNvSpPr/>
          <p:nvPr/>
        </p:nvSpPr>
        <p:spPr>
          <a:xfrm>
            <a:off x="2171880" y="4643280"/>
            <a:ext cx="163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95" descr="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1711440" y="2436840"/>
            <a:ext cx="757080" cy="1228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5" name="Oval 226"/>
          <p:cNvSpPr/>
          <p:nvPr/>
        </p:nvSpPr>
        <p:spPr>
          <a:xfrm rot="760800">
            <a:off x="5960880" y="5559120"/>
            <a:ext cx="88560" cy="12852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32"/>
          <p:cNvGrpSpPr/>
          <p:nvPr/>
        </p:nvGrpSpPr>
        <p:grpSpPr>
          <a:xfrm>
            <a:off x="5765400" y="5669640"/>
            <a:ext cx="346680" cy="137880"/>
            <a:chOff x="5765400" y="5669640"/>
            <a:chExt cx="346680" cy="137880"/>
          </a:xfrm>
        </p:grpSpPr>
        <p:sp>
          <p:nvSpPr>
            <p:cNvPr id="367" name="AutoShape 64"/>
            <p:cNvSpPr/>
            <p:nvPr/>
          </p:nvSpPr>
          <p:spPr>
            <a:xfrm rot="16243200">
              <a:off x="5871960" y="5609520"/>
              <a:ext cx="81000" cy="293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49" y="1524"/>
                    <a:pt x="8497" y="5080"/>
                    <a:pt x="8497" y="10800"/>
                  </a:cubicBezTo>
                  <a:cubicBezTo>
                    <a:pt x="8497" y="16520"/>
                    <a:pt x="15049" y="200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 fontScale="4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65"/>
            <p:cNvSpPr/>
            <p:nvPr/>
          </p:nvSpPr>
          <p:spPr>
            <a:xfrm rot="3847200">
              <a:off x="5987160" y="5667120"/>
              <a:ext cx="84240" cy="14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143"/>
          <p:cNvSpPr/>
          <p:nvPr/>
        </p:nvSpPr>
        <p:spPr>
          <a:xfrm>
            <a:off x="5359320" y="5543640"/>
            <a:ext cx="486000" cy="48960"/>
          </a:xfrm>
          <a:custGeom>
            <a:avLst/>
            <a:gdLst>
              <a:gd name="textAreaLeft" fmla="*/ 0 w 486000"/>
              <a:gd name="textAreaRight" fmla="*/ 486360 w 48600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06" h="31">
                <a:moveTo>
                  <a:pt x="306" y="31"/>
                </a:moveTo>
                <a:lnTo>
                  <a:pt x="217" y="14"/>
                </a:lnTo>
                <a:cubicBezTo>
                  <a:pt x="188" y="9"/>
                  <a:pt x="169" y="4"/>
                  <a:pt x="133" y="2"/>
                </a:cubicBezTo>
                <a:cubicBezTo>
                  <a:pt x="97" y="0"/>
                  <a:pt x="28" y="2"/>
                  <a:pt x="0" y="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237"/>
          <p:cNvGrpSpPr/>
          <p:nvPr/>
        </p:nvGrpSpPr>
        <p:grpSpPr>
          <a:xfrm>
            <a:off x="1998360" y="5341320"/>
            <a:ext cx="1015200" cy="393120"/>
            <a:chOff x="1998360" y="5341320"/>
            <a:chExt cx="1015200" cy="393120"/>
          </a:xfrm>
        </p:grpSpPr>
        <p:grpSp>
          <p:nvGrpSpPr>
            <p:cNvPr id="371" name="Group 125"/>
            <p:cNvGrpSpPr/>
            <p:nvPr/>
          </p:nvGrpSpPr>
          <p:grpSpPr>
            <a:xfrm>
              <a:off x="1998360" y="5341320"/>
              <a:ext cx="1015200" cy="393120"/>
              <a:chOff x="1998360" y="5341320"/>
              <a:chExt cx="1015200" cy="393120"/>
            </a:xfrm>
          </p:grpSpPr>
          <p:grpSp>
            <p:nvGrpSpPr>
              <p:cNvPr id="372" name="Group 126"/>
              <p:cNvGrpSpPr/>
              <p:nvPr/>
            </p:nvGrpSpPr>
            <p:grpSpPr>
              <a:xfrm>
                <a:off x="1998360" y="5398560"/>
                <a:ext cx="335160" cy="222840"/>
                <a:chOff x="1998360" y="5398560"/>
                <a:chExt cx="335160" cy="222840"/>
              </a:xfrm>
            </p:grpSpPr>
            <p:sp>
              <p:nvSpPr>
                <p:cNvPr id="373" name="Rectangle 469"/>
                <p:cNvSpPr/>
                <p:nvPr/>
              </p:nvSpPr>
              <p:spPr>
                <a:xfrm rot="16392000">
                  <a:off x="2063160" y="5347800"/>
                  <a:ext cx="205200" cy="32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54847"/>
                    </a:gs>
                    <a:gs pos="50000">
                      <a:srgbClr val="969c99"/>
                    </a:gs>
                    <a:gs pos="100000">
                      <a:srgbClr val="454847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Rectangle 469"/>
                <p:cNvSpPr/>
                <p:nvPr/>
              </p:nvSpPr>
              <p:spPr>
                <a:xfrm rot="16392000">
                  <a:off x="2214720" y="5481720"/>
                  <a:ext cx="72720" cy="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1817"/>
                    </a:gs>
                    <a:gs pos="50000">
                      <a:srgbClr val="3f4341"/>
                    </a:gs>
                    <a:gs pos="100000">
                      <a:srgbClr val="171817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Rectangle 129"/>
              <p:cNvSpPr/>
              <p:nvPr/>
            </p:nvSpPr>
            <p:spPr>
              <a:xfrm rot="192000">
                <a:off x="2306880" y="5423040"/>
                <a:ext cx="700920" cy="222120"/>
              </a:xfrm>
              <a:prstGeom prst="rect">
                <a:avLst/>
              </a:pr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6" name="Picture 130" descr=""/>
              <p:cNvPicPr/>
              <p:nvPr/>
            </p:nvPicPr>
            <p:blipFill>
              <a:blip r:embed="rId10"/>
              <a:srcRect l="59139" t="14775" r="26724" b="19858"/>
              <a:stretch/>
            </p:blipFill>
            <p:spPr>
              <a:xfrm rot="192000">
                <a:off x="2777400" y="5380920"/>
                <a:ext cx="17316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7" name="Group 131"/>
              <p:cNvGrpSpPr/>
              <p:nvPr/>
            </p:nvGrpSpPr>
            <p:grpSpPr>
              <a:xfrm>
                <a:off x="2376000" y="5347800"/>
                <a:ext cx="262440" cy="366480"/>
                <a:chOff x="2376000" y="5347800"/>
                <a:chExt cx="262440" cy="366480"/>
              </a:xfrm>
            </p:grpSpPr>
            <p:sp>
              <p:nvSpPr>
                <p:cNvPr id="378" name="Rectangle 132"/>
                <p:cNvSpPr/>
                <p:nvPr/>
              </p:nvSpPr>
              <p:spPr>
                <a:xfrm rot="192000">
                  <a:off x="2425320" y="5379480"/>
                  <a:ext cx="187560" cy="32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AutoShape 133"/>
                <p:cNvSpPr/>
                <p:nvPr/>
              </p:nvSpPr>
              <p:spPr>
                <a:xfrm rot="16392000">
                  <a:off x="2450880" y="5506560"/>
                  <a:ext cx="329400" cy="27000"/>
                </a:xfrm>
                <a:custGeom>
                  <a:avLst/>
                  <a:gdLst>
                    <a:gd name="textAreaLeft" fmla="*/ 39600 w 329400"/>
                    <a:gd name="textAreaRight" fmla="*/ 289800 w 329400"/>
                    <a:gd name="textAreaTop" fmla="*/ 2880 h 27000"/>
                    <a:gd name="textAreaBottom" fmla="*/ 24120 h 2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589" y="21600"/>
                      </a:lnTo>
                      <a:lnTo>
                        <a:pt x="20011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AutoShape 134"/>
                <p:cNvSpPr/>
                <p:nvPr/>
              </p:nvSpPr>
              <p:spPr>
                <a:xfrm flipH="1" rot="5591400">
                  <a:off x="2233800" y="5499360"/>
                  <a:ext cx="329040" cy="27000"/>
                </a:xfrm>
                <a:custGeom>
                  <a:avLst/>
                  <a:gdLst>
                    <a:gd name="textAreaLeft" fmla="*/ 39600 w 329040"/>
                    <a:gd name="textAreaRight" fmla="*/ 289440 w 329040"/>
                    <a:gd name="textAreaTop" fmla="*/ 2880 h 27000"/>
                    <a:gd name="textAreaBottom" fmla="*/ 24120 h 2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589" y="21600"/>
                      </a:lnTo>
                      <a:lnTo>
                        <a:pt x="20011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Rectangle 135"/>
              <p:cNvSpPr/>
              <p:nvPr/>
            </p:nvSpPr>
            <p:spPr>
              <a:xfrm rot="192000">
                <a:off x="2370600" y="5342760"/>
                <a:ext cx="22680" cy="358560"/>
              </a:xfrm>
              <a:prstGeom prst="rect">
                <a:avLst/>
              </a:pr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utoShape 136"/>
              <p:cNvSpPr/>
              <p:nvPr/>
            </p:nvSpPr>
            <p:spPr>
              <a:xfrm flipH="1" rot="5591400">
                <a:off x="2177280" y="5506920"/>
                <a:ext cx="358560" cy="27360"/>
              </a:xfrm>
              <a:custGeom>
                <a:avLst/>
                <a:gdLst>
                  <a:gd name="textAreaLeft" fmla="*/ 55800 w 358560"/>
                  <a:gd name="textAreaRight" fmla="*/ 302760 w 358560"/>
                  <a:gd name="textAreaTop" fmla="*/ 4320 h 27360"/>
                  <a:gd name="textAreaBottom" fmla="*/ 23040 h 2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085" y="21600"/>
                    </a:lnTo>
                    <a:lnTo>
                      <a:pt x="1851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50000">
                    <a:srgbClr val="ffffff"/>
                  </a:gs>
                  <a:gs pos="100000">
                    <a:srgbClr val="3c3c3c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" name="Group 137"/>
              <p:cNvGrpSpPr/>
              <p:nvPr/>
            </p:nvGrpSpPr>
            <p:grpSpPr>
              <a:xfrm>
                <a:off x="2611080" y="5357880"/>
                <a:ext cx="131400" cy="361440"/>
                <a:chOff x="2611080" y="5357880"/>
                <a:chExt cx="131400" cy="361440"/>
              </a:xfrm>
            </p:grpSpPr>
            <p:sp>
              <p:nvSpPr>
                <p:cNvPr id="384" name="Rectangle 138"/>
                <p:cNvSpPr/>
                <p:nvPr/>
              </p:nvSpPr>
              <p:spPr>
                <a:xfrm flipH="1" rot="191400">
                  <a:off x="2620440" y="5358240"/>
                  <a:ext cx="24480" cy="357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d4d4d"/>
                    </a:gs>
                    <a:gs pos="50000">
                      <a:srgbClr val="ffffff"/>
                    </a:gs>
                    <a:gs pos="100000">
                      <a:srgbClr val="4d4d4d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139"/>
                <p:cNvSpPr/>
                <p:nvPr/>
              </p:nvSpPr>
              <p:spPr>
                <a:xfrm rot="16392000">
                  <a:off x="2507760" y="5492520"/>
                  <a:ext cx="357120" cy="91800"/>
                </a:xfrm>
                <a:custGeom>
                  <a:avLst/>
                  <a:gdLst>
                    <a:gd name="textAreaLeft" fmla="*/ 55440 w 357120"/>
                    <a:gd name="textAreaRight" fmla="*/ 301680 w 357120"/>
                    <a:gd name="textAreaTop" fmla="*/ 14040 h 91800"/>
                    <a:gd name="textAreaBottom" fmla="*/ 77760 h 91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085" y="21600"/>
                      </a:lnTo>
                      <a:lnTo>
                        <a:pt x="18515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c3c3c"/>
                    </a:gs>
                    <a:gs pos="50000">
                      <a:srgbClr val="ffffff"/>
                    </a:gs>
                    <a:gs pos="100000">
                      <a:srgbClr val="3c3c3c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140"/>
              <p:cNvGrpSpPr/>
              <p:nvPr/>
            </p:nvGrpSpPr>
            <p:grpSpPr>
              <a:xfrm>
                <a:off x="2941560" y="5375880"/>
                <a:ext cx="69480" cy="358560"/>
                <a:chOff x="2941560" y="5375880"/>
                <a:chExt cx="69480" cy="358560"/>
              </a:xfrm>
            </p:grpSpPr>
            <p:sp>
              <p:nvSpPr>
                <p:cNvPr id="387" name="Rectangle 141"/>
                <p:cNvSpPr/>
                <p:nvPr/>
              </p:nvSpPr>
              <p:spPr>
                <a:xfrm flipH="1" rot="191400">
                  <a:off x="2951280" y="5383800"/>
                  <a:ext cx="23040" cy="350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d4d4d"/>
                    </a:gs>
                    <a:gs pos="50000">
                      <a:srgbClr val="ffffff"/>
                    </a:gs>
                    <a:gs pos="100000">
                      <a:srgbClr val="4d4d4d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142"/>
                <p:cNvSpPr/>
                <p:nvPr/>
              </p:nvSpPr>
              <p:spPr>
                <a:xfrm rot="16392000">
                  <a:off x="2809440" y="5534640"/>
                  <a:ext cx="350280" cy="33480"/>
                </a:xfrm>
                <a:custGeom>
                  <a:avLst/>
                  <a:gdLst>
                    <a:gd name="textAreaLeft" fmla="*/ 54360 w 350280"/>
                    <a:gd name="textAreaRight" fmla="*/ 295920 w 350280"/>
                    <a:gd name="textAreaTop" fmla="*/ 4680 h 33480"/>
                    <a:gd name="textAreaBottom" fmla="*/ 28800 h 33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085" y="21600"/>
                      </a:lnTo>
                      <a:lnTo>
                        <a:pt x="18515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c3c3c"/>
                    </a:gs>
                    <a:gs pos="50000">
                      <a:srgbClr val="ffffff"/>
                    </a:gs>
                    <a:gs pos="100000">
                      <a:srgbClr val="3c3c3c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9" name="Group 235"/>
            <p:cNvGrpSpPr/>
            <p:nvPr/>
          </p:nvGrpSpPr>
          <p:grpSpPr>
            <a:xfrm>
              <a:off x="2328480" y="5393880"/>
              <a:ext cx="657360" cy="281520"/>
              <a:chOff x="2328480" y="5393880"/>
              <a:chExt cx="657360" cy="281520"/>
            </a:xfrm>
          </p:grpSpPr>
          <p:grpSp>
            <p:nvGrpSpPr>
              <p:cNvPr id="390" name="Group 222"/>
              <p:cNvGrpSpPr/>
              <p:nvPr/>
            </p:nvGrpSpPr>
            <p:grpSpPr>
              <a:xfrm>
                <a:off x="2340360" y="5393880"/>
                <a:ext cx="645480" cy="88560"/>
                <a:chOff x="2340360" y="5393880"/>
                <a:chExt cx="645480" cy="88560"/>
              </a:xfrm>
            </p:grpSpPr>
            <p:sp>
              <p:nvSpPr>
                <p:cNvPr id="391" name="Freeform 223"/>
                <p:cNvSpPr/>
                <p:nvPr/>
              </p:nvSpPr>
              <p:spPr>
                <a:xfrm flipH="1" rot="245400">
                  <a:off x="2340720" y="5416560"/>
                  <a:ext cx="641520" cy="34200"/>
                </a:xfrm>
                <a:custGeom>
                  <a:avLst/>
                  <a:gdLst>
                    <a:gd name="textAreaLeft" fmla="*/ 360 w 641520"/>
                    <a:gd name="textAreaRight" fmla="*/ 642240 w 64152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323" h="46">
                      <a:moveTo>
                        <a:pt x="0" y="0"/>
                      </a:moveTo>
                      <a:lnTo>
                        <a:pt x="25" y="34"/>
                      </a:lnTo>
                      <a:lnTo>
                        <a:pt x="253" y="46"/>
                      </a:lnTo>
                      <a:lnTo>
                        <a:pt x="323" y="6"/>
                      </a:lnTo>
                    </a:path>
                  </a:pathLst>
                </a:custGeom>
                <a:noFill/>
                <a:ln w="2844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224"/>
                <p:cNvSpPr/>
                <p:nvPr/>
              </p:nvSpPr>
              <p:spPr>
                <a:xfrm flipH="1" rot="245400">
                  <a:off x="2400480" y="5417640"/>
                  <a:ext cx="559440" cy="28800"/>
                </a:xfrm>
                <a:custGeom>
                  <a:avLst/>
                  <a:gdLst>
                    <a:gd name="textAreaLeft" fmla="*/ 360 w 559440"/>
                    <a:gd name="textAreaRight" fmla="*/ 560160 w 5594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82" h="39">
                      <a:moveTo>
                        <a:pt x="0" y="0"/>
                      </a:moveTo>
                      <a:lnTo>
                        <a:pt x="18" y="27"/>
                      </a:lnTo>
                      <a:lnTo>
                        <a:pt x="246" y="39"/>
                      </a:lnTo>
                      <a:lnTo>
                        <a:pt x="282" y="12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225"/>
                <p:cNvSpPr/>
                <p:nvPr/>
              </p:nvSpPr>
              <p:spPr>
                <a:xfrm flipH="1" rot="245400">
                  <a:off x="2365560" y="5425200"/>
                  <a:ext cx="619560" cy="34920"/>
                </a:xfrm>
                <a:custGeom>
                  <a:avLst/>
                  <a:gdLst>
                    <a:gd name="textAreaLeft" fmla="*/ -360 w 619560"/>
                    <a:gd name="textAreaRight" fmla="*/ 619560 w 6195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12" h="47">
                      <a:moveTo>
                        <a:pt x="0" y="0"/>
                      </a:moveTo>
                      <a:lnTo>
                        <a:pt x="25" y="34"/>
                      </a:lnTo>
                      <a:lnTo>
                        <a:pt x="259" y="47"/>
                      </a:lnTo>
                      <a:lnTo>
                        <a:pt x="312" y="1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231"/>
              <p:cNvGrpSpPr/>
              <p:nvPr/>
            </p:nvGrpSpPr>
            <p:grpSpPr>
              <a:xfrm>
                <a:off x="2328480" y="5600880"/>
                <a:ext cx="646920" cy="74520"/>
                <a:chOff x="2328480" y="5600880"/>
                <a:chExt cx="646920" cy="74520"/>
              </a:xfrm>
            </p:grpSpPr>
            <p:sp>
              <p:nvSpPr>
                <p:cNvPr id="395" name="Freeform 232"/>
                <p:cNvSpPr/>
                <p:nvPr/>
              </p:nvSpPr>
              <p:spPr>
                <a:xfrm flipH="1" flipV="1" rot="180000">
                  <a:off x="2328480" y="5624280"/>
                  <a:ext cx="641520" cy="34200"/>
                </a:xfrm>
                <a:custGeom>
                  <a:avLst/>
                  <a:gdLst>
                    <a:gd name="textAreaLeft" fmla="*/ 360 w 641520"/>
                    <a:gd name="textAreaRight" fmla="*/ 642240 w 641520"/>
                    <a:gd name="textAreaTop" fmla="*/ -360 h 34200"/>
                    <a:gd name="textAreaBottom" fmla="*/ 34200 h 34200"/>
                  </a:gdLst>
                  <a:ahLst/>
                  <a:rect l="textAreaLeft" t="textAreaTop" r="textAreaRight" b="textAreaBottom"/>
                  <a:pathLst>
                    <a:path w="323" h="46">
                      <a:moveTo>
                        <a:pt x="0" y="0"/>
                      </a:moveTo>
                      <a:lnTo>
                        <a:pt x="25" y="34"/>
                      </a:lnTo>
                      <a:lnTo>
                        <a:pt x="253" y="46"/>
                      </a:lnTo>
                      <a:lnTo>
                        <a:pt x="323" y="6"/>
                      </a:lnTo>
                    </a:path>
                  </a:pathLst>
                </a:custGeom>
                <a:noFill/>
                <a:ln w="2844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233"/>
                <p:cNvSpPr/>
                <p:nvPr/>
              </p:nvSpPr>
              <p:spPr>
                <a:xfrm flipH="1" flipV="1" rot="180000">
                  <a:off x="2388600" y="5630760"/>
                  <a:ext cx="559440" cy="28800"/>
                </a:xfrm>
                <a:custGeom>
                  <a:avLst/>
                  <a:gdLst>
                    <a:gd name="textAreaLeft" fmla="*/ 360 w 559440"/>
                    <a:gd name="textAreaRight" fmla="*/ 560160 w 559440"/>
                    <a:gd name="textAreaTop" fmla="*/ 360 h 28800"/>
                    <a:gd name="textAreaBottom" fmla="*/ 29520 h 28800"/>
                  </a:gdLst>
                  <a:ahLst/>
                  <a:rect l="textAreaLeft" t="textAreaTop" r="textAreaRight" b="textAreaBottom"/>
                  <a:pathLst>
                    <a:path w="282" h="39">
                      <a:moveTo>
                        <a:pt x="0" y="0"/>
                      </a:moveTo>
                      <a:lnTo>
                        <a:pt x="18" y="27"/>
                      </a:lnTo>
                      <a:lnTo>
                        <a:pt x="246" y="39"/>
                      </a:lnTo>
                      <a:lnTo>
                        <a:pt x="282" y="12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234"/>
                <p:cNvSpPr/>
                <p:nvPr/>
              </p:nvSpPr>
              <p:spPr>
                <a:xfrm flipH="1" flipV="1" rot="180000">
                  <a:off x="2355120" y="5616360"/>
                  <a:ext cx="619560" cy="34920"/>
                </a:xfrm>
                <a:custGeom>
                  <a:avLst/>
                  <a:gdLst>
                    <a:gd name="textAreaLeft" fmla="*/ -360 w 619560"/>
                    <a:gd name="textAreaRight" fmla="*/ 619560 w 619560"/>
                    <a:gd name="textAreaTop" fmla="*/ -360 h 34920"/>
                    <a:gd name="textAreaBottom" fmla="*/ 34920 h 34920"/>
                  </a:gdLst>
                  <a:ahLst/>
                  <a:rect l="textAreaLeft" t="textAreaTop" r="textAreaRight" b="textAreaBottom"/>
                  <a:pathLst>
                    <a:path w="312" h="47">
                      <a:moveTo>
                        <a:pt x="0" y="0"/>
                      </a:moveTo>
                      <a:lnTo>
                        <a:pt x="25" y="34"/>
                      </a:lnTo>
                      <a:lnTo>
                        <a:pt x="259" y="47"/>
                      </a:lnTo>
                      <a:lnTo>
                        <a:pt x="312" y="1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8" name="Freeform 238"/>
          <p:cNvSpPr/>
          <p:nvPr/>
        </p:nvSpPr>
        <p:spPr>
          <a:xfrm>
            <a:off x="1695600" y="4640400"/>
            <a:ext cx="21960" cy="512640"/>
          </a:xfrm>
          <a:custGeom>
            <a:avLst/>
            <a:gdLst>
              <a:gd name="textAreaLeft" fmla="*/ 0 w 21960"/>
              <a:gd name="textAreaRight" fmla="*/ 22320 w 219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14" h="323">
                <a:moveTo>
                  <a:pt x="0" y="0"/>
                </a:moveTo>
                <a:lnTo>
                  <a:pt x="14" y="3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39"/>
          <p:cNvSpPr/>
          <p:nvPr/>
        </p:nvSpPr>
        <p:spPr>
          <a:xfrm>
            <a:off x="3162240" y="4645080"/>
            <a:ext cx="4613400" cy="611280"/>
          </a:xfrm>
          <a:custGeom>
            <a:avLst/>
            <a:gdLst>
              <a:gd name="textAreaLeft" fmla="*/ 0 w 4613400"/>
              <a:gd name="textAreaRight" fmla="*/ 4613760 w 461340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3254" h="366">
                <a:moveTo>
                  <a:pt x="3254" y="0"/>
                </a:moveTo>
                <a:lnTo>
                  <a:pt x="0" y="36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40"/>
          <p:cNvSpPr/>
          <p:nvPr/>
        </p:nvSpPr>
        <p:spPr>
          <a:xfrm>
            <a:off x="1674720" y="3738600"/>
            <a:ext cx="6102360" cy="898560"/>
          </a:xfrm>
          <a:prstGeom prst="rect">
            <a:avLst/>
          </a:prstGeom>
          <a:solidFill>
            <a:srgbClr val="29a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41"/>
          <p:cNvSpPr/>
          <p:nvPr/>
        </p:nvSpPr>
        <p:spPr>
          <a:xfrm>
            <a:off x="3641760" y="4187880"/>
            <a:ext cx="3703680" cy="377640"/>
          </a:xfrm>
          <a:custGeom>
            <a:avLst/>
            <a:gdLst>
              <a:gd name="textAreaLeft" fmla="*/ 0 w 3703680"/>
              <a:gd name="textAreaRight" fmla="*/ 3704040 w 370368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333" h="238">
                <a:moveTo>
                  <a:pt x="0" y="0"/>
                </a:moveTo>
                <a:lnTo>
                  <a:pt x="4" y="171"/>
                </a:lnTo>
                <a:lnTo>
                  <a:pt x="76" y="237"/>
                </a:lnTo>
                <a:lnTo>
                  <a:pt x="941" y="238"/>
                </a:lnTo>
                <a:lnTo>
                  <a:pt x="1020" y="154"/>
                </a:lnTo>
                <a:lnTo>
                  <a:pt x="1082" y="158"/>
                </a:lnTo>
                <a:lnTo>
                  <a:pt x="1086" y="175"/>
                </a:lnTo>
                <a:lnTo>
                  <a:pt x="1434" y="175"/>
                </a:lnTo>
                <a:lnTo>
                  <a:pt x="1579" y="175"/>
                </a:lnTo>
                <a:lnTo>
                  <a:pt x="1709" y="179"/>
                </a:lnTo>
                <a:lnTo>
                  <a:pt x="1706" y="218"/>
                </a:lnTo>
                <a:lnTo>
                  <a:pt x="1731" y="235"/>
                </a:lnTo>
                <a:lnTo>
                  <a:pt x="1887" y="234"/>
                </a:lnTo>
                <a:lnTo>
                  <a:pt x="1906" y="218"/>
                </a:lnTo>
                <a:lnTo>
                  <a:pt x="1864" y="214"/>
                </a:lnTo>
                <a:lnTo>
                  <a:pt x="1774" y="218"/>
                </a:lnTo>
                <a:lnTo>
                  <a:pt x="1757" y="212"/>
                </a:lnTo>
                <a:lnTo>
                  <a:pt x="1755" y="188"/>
                </a:lnTo>
                <a:lnTo>
                  <a:pt x="1795" y="188"/>
                </a:lnTo>
                <a:lnTo>
                  <a:pt x="1795" y="151"/>
                </a:lnTo>
                <a:lnTo>
                  <a:pt x="2052" y="151"/>
                </a:lnTo>
                <a:lnTo>
                  <a:pt x="2061" y="161"/>
                </a:lnTo>
                <a:lnTo>
                  <a:pt x="2074" y="161"/>
                </a:lnTo>
                <a:lnTo>
                  <a:pt x="2082" y="149"/>
                </a:lnTo>
                <a:lnTo>
                  <a:pt x="2163" y="149"/>
                </a:lnTo>
                <a:lnTo>
                  <a:pt x="2220" y="114"/>
                </a:lnTo>
                <a:lnTo>
                  <a:pt x="2333" y="1"/>
                </a:lnTo>
                <a:lnTo>
                  <a:pt x="1" y="0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242"/>
          <p:cNvGrpSpPr/>
          <p:nvPr/>
        </p:nvGrpSpPr>
        <p:grpSpPr>
          <a:xfrm>
            <a:off x="1676520" y="3951360"/>
            <a:ext cx="1952280" cy="477360"/>
            <a:chOff x="1676520" y="3951360"/>
            <a:chExt cx="1952280" cy="477360"/>
          </a:xfrm>
        </p:grpSpPr>
        <p:sp>
          <p:nvSpPr>
            <p:cNvPr id="403" name="Rectangle 469"/>
            <p:cNvSpPr/>
            <p:nvPr/>
          </p:nvSpPr>
          <p:spPr>
            <a:xfrm rot="16200000">
              <a:off x="2413800" y="3213720"/>
              <a:ext cx="477360" cy="1952280"/>
            </a:xfrm>
            <a:prstGeom prst="rect">
              <a:avLst/>
            </a:prstGeom>
            <a:gradFill rotWithShape="0">
              <a:gsLst>
                <a:gs pos="0">
                  <a:srgbClr val="454847"/>
                </a:gs>
                <a:gs pos="50000">
                  <a:srgbClr val="969c99"/>
                </a:gs>
                <a:gs pos="100000">
                  <a:srgbClr val="454847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69"/>
            <p:cNvSpPr/>
            <p:nvPr/>
          </p:nvSpPr>
          <p:spPr>
            <a:xfrm rot="16200000">
              <a:off x="3267000" y="4071600"/>
              <a:ext cx="168120" cy="236880"/>
            </a:xfrm>
            <a:prstGeom prst="ellipse">
              <a:avLst/>
            </a:prstGeom>
            <a:gradFill rotWithShape="0">
              <a:gsLst>
                <a:gs pos="0">
                  <a:srgbClr val="171817"/>
                </a:gs>
                <a:gs pos="50000">
                  <a:srgbClr val="3f4341"/>
                </a:gs>
                <a:gs pos="100000">
                  <a:srgbClr val="171817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Freeform 245"/>
          <p:cNvSpPr/>
          <p:nvPr/>
        </p:nvSpPr>
        <p:spPr>
          <a:xfrm>
            <a:off x="3641760" y="3817800"/>
            <a:ext cx="3719520" cy="379440"/>
          </a:xfrm>
          <a:custGeom>
            <a:avLst/>
            <a:gdLst>
              <a:gd name="textAreaLeft" fmla="*/ 0 w 3719520"/>
              <a:gd name="textAreaRight" fmla="*/ 3719880 w 371952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2343" h="239">
                <a:moveTo>
                  <a:pt x="0" y="237"/>
                </a:moveTo>
                <a:lnTo>
                  <a:pt x="4" y="67"/>
                </a:lnTo>
                <a:lnTo>
                  <a:pt x="76" y="1"/>
                </a:lnTo>
                <a:lnTo>
                  <a:pt x="941" y="0"/>
                </a:lnTo>
                <a:lnTo>
                  <a:pt x="1020" y="83"/>
                </a:lnTo>
                <a:lnTo>
                  <a:pt x="1082" y="80"/>
                </a:lnTo>
                <a:lnTo>
                  <a:pt x="1086" y="62"/>
                </a:lnTo>
                <a:lnTo>
                  <a:pt x="1434" y="62"/>
                </a:lnTo>
                <a:lnTo>
                  <a:pt x="1579" y="62"/>
                </a:lnTo>
                <a:lnTo>
                  <a:pt x="1709" y="59"/>
                </a:lnTo>
                <a:lnTo>
                  <a:pt x="1706" y="20"/>
                </a:lnTo>
                <a:lnTo>
                  <a:pt x="1731" y="3"/>
                </a:lnTo>
                <a:lnTo>
                  <a:pt x="1887" y="4"/>
                </a:lnTo>
                <a:lnTo>
                  <a:pt x="1906" y="20"/>
                </a:lnTo>
                <a:lnTo>
                  <a:pt x="1864" y="24"/>
                </a:lnTo>
                <a:lnTo>
                  <a:pt x="1774" y="20"/>
                </a:lnTo>
                <a:lnTo>
                  <a:pt x="1757" y="26"/>
                </a:lnTo>
                <a:lnTo>
                  <a:pt x="1755" y="49"/>
                </a:lnTo>
                <a:lnTo>
                  <a:pt x="1795" y="49"/>
                </a:lnTo>
                <a:lnTo>
                  <a:pt x="1795" y="87"/>
                </a:lnTo>
                <a:lnTo>
                  <a:pt x="2052" y="87"/>
                </a:lnTo>
                <a:lnTo>
                  <a:pt x="2061" y="77"/>
                </a:lnTo>
                <a:lnTo>
                  <a:pt x="2074" y="77"/>
                </a:lnTo>
                <a:lnTo>
                  <a:pt x="2082" y="89"/>
                </a:lnTo>
                <a:lnTo>
                  <a:pt x="2163" y="89"/>
                </a:lnTo>
                <a:lnTo>
                  <a:pt x="2230" y="128"/>
                </a:lnTo>
                <a:lnTo>
                  <a:pt x="2343" y="239"/>
                </a:lnTo>
                <a:lnTo>
                  <a:pt x="1" y="237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6"/>
          <p:cNvSpPr/>
          <p:nvPr/>
        </p:nvSpPr>
        <p:spPr>
          <a:xfrm>
            <a:off x="7176960" y="4021200"/>
            <a:ext cx="594000" cy="34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7"/>
          <p:cNvSpPr/>
          <p:nvPr/>
        </p:nvSpPr>
        <p:spPr>
          <a:xfrm>
            <a:off x="4368960" y="3979800"/>
            <a:ext cx="2790720" cy="79560"/>
          </a:xfrm>
          <a:custGeom>
            <a:avLst/>
            <a:gdLst>
              <a:gd name="textAreaLeft" fmla="*/ 0 w 2790720"/>
              <a:gd name="textAreaRight" fmla="*/ 2790720 w 27907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758" h="50">
                <a:moveTo>
                  <a:pt x="0" y="50"/>
                </a:moveTo>
                <a:lnTo>
                  <a:pt x="0" y="20"/>
                </a:lnTo>
                <a:lnTo>
                  <a:pt x="1699" y="18"/>
                </a:lnTo>
                <a:lnTo>
                  <a:pt x="1728" y="0"/>
                </a:lnTo>
                <a:lnTo>
                  <a:pt x="1758" y="17"/>
                </a:lnTo>
                <a:lnTo>
                  <a:pt x="1701" y="50"/>
                </a:lnTo>
                <a:lnTo>
                  <a:pt x="0" y="50"/>
                </a:lnTo>
                <a:close/>
              </a:path>
            </a:pathLst>
          </a:custGeom>
          <a:solidFill>
            <a:srgbClr val="29a8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69"/>
          <p:cNvSpPr/>
          <p:nvPr/>
        </p:nvSpPr>
        <p:spPr>
          <a:xfrm rot="16200000">
            <a:off x="3609360" y="3970800"/>
            <a:ext cx="477720" cy="438120"/>
          </a:xfrm>
          <a:custGeom>
            <a:avLst/>
            <a:gdLst>
              <a:gd name="textAreaLeft" fmla="*/ 54360 w 477720"/>
              <a:gd name="textAreaRight" fmla="*/ 423360 w 477720"/>
              <a:gd name="textAreaTop" fmla="*/ 50040 h 438120"/>
              <a:gd name="textAreaBottom" fmla="*/ 38808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5" y="21600"/>
                </a:lnTo>
                <a:lnTo>
                  <a:pt x="2026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49"/>
          <p:cNvSpPr/>
          <p:nvPr/>
        </p:nvSpPr>
        <p:spPr>
          <a:xfrm rot="16200000">
            <a:off x="5614200" y="2116440"/>
            <a:ext cx="169560" cy="41464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50"/>
          <p:cNvGrpSpPr/>
          <p:nvPr/>
        </p:nvGrpSpPr>
        <p:grpSpPr>
          <a:xfrm>
            <a:off x="3625920" y="4098960"/>
            <a:ext cx="4157280" cy="176040"/>
            <a:chOff x="3625920" y="4098960"/>
            <a:chExt cx="4157280" cy="176040"/>
          </a:xfrm>
        </p:grpSpPr>
        <p:sp>
          <p:nvSpPr>
            <p:cNvPr id="411" name="Line 251"/>
            <p:cNvSpPr/>
            <p:nvPr/>
          </p:nvSpPr>
          <p:spPr>
            <a:xfrm>
              <a:off x="3625920" y="4098960"/>
              <a:ext cx="41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52"/>
            <p:cNvSpPr/>
            <p:nvPr/>
          </p:nvSpPr>
          <p:spPr>
            <a:xfrm>
              <a:off x="3625920" y="4275000"/>
              <a:ext cx="41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253"/>
          <p:cNvGrpSpPr/>
          <p:nvPr/>
        </p:nvGrpSpPr>
        <p:grpSpPr>
          <a:xfrm>
            <a:off x="3959280" y="3718800"/>
            <a:ext cx="1116000" cy="390240"/>
            <a:chOff x="3959280" y="3718800"/>
            <a:chExt cx="1116000" cy="390240"/>
          </a:xfrm>
        </p:grpSpPr>
        <p:sp>
          <p:nvSpPr>
            <p:cNvPr id="414" name="AutoShape 254"/>
            <p:cNvSpPr/>
            <p:nvPr/>
          </p:nvSpPr>
          <p:spPr>
            <a:xfrm rot="1800000">
              <a:off x="4255560" y="3859920"/>
              <a:ext cx="594000" cy="107640"/>
            </a:xfrm>
            <a:prstGeom prst="parallelogram">
              <a:avLst>
                <a:gd name="adj" fmla="val 177943"/>
              </a:avLst>
            </a:prstGeom>
            <a:solidFill>
              <a:srgbClr val="29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55"/>
            <p:cNvSpPr/>
            <p:nvPr/>
          </p:nvSpPr>
          <p:spPr>
            <a:xfrm rot="18000000">
              <a:off x="4534200" y="3915360"/>
              <a:ext cx="29160" cy="777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36" h="369">
                  <a:moveTo>
                    <a:pt x="0" y="3"/>
                  </a:moveTo>
                  <a:lnTo>
                    <a:pt x="0" y="369"/>
                  </a:lnTo>
                  <a:lnTo>
                    <a:pt x="335" y="369"/>
                  </a:lnTo>
                  <a:lnTo>
                    <a:pt x="336" y="188"/>
                  </a:lnTo>
                  <a:cubicBezTo>
                    <a:pt x="331" y="142"/>
                    <a:pt x="319" y="119"/>
                    <a:pt x="303" y="93"/>
                  </a:cubicBezTo>
                  <a:cubicBezTo>
                    <a:pt x="287" y="67"/>
                    <a:pt x="264" y="45"/>
                    <a:pt x="240" y="30"/>
                  </a:cubicBezTo>
                  <a:cubicBezTo>
                    <a:pt x="216" y="15"/>
                    <a:pt x="176" y="7"/>
                    <a:pt x="158" y="2"/>
                  </a:cubicBezTo>
                  <a:lnTo>
                    <a:pt x="13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56"/>
            <p:cNvSpPr/>
            <p:nvPr/>
          </p:nvSpPr>
          <p:spPr>
            <a:xfrm flipH="1" rot="18000000">
              <a:off x="4571640" y="3846600"/>
              <a:ext cx="30960" cy="77760"/>
            </a:xfrm>
            <a:custGeom>
              <a:avLst/>
              <a:gdLst>
                <a:gd name="textAreaLeft" fmla="*/ 360 w 30960"/>
                <a:gd name="textAreaRight" fmla="*/ 31680 w 309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36" h="369">
                  <a:moveTo>
                    <a:pt x="0" y="3"/>
                  </a:moveTo>
                  <a:lnTo>
                    <a:pt x="0" y="369"/>
                  </a:lnTo>
                  <a:lnTo>
                    <a:pt x="335" y="369"/>
                  </a:lnTo>
                  <a:lnTo>
                    <a:pt x="336" y="188"/>
                  </a:lnTo>
                  <a:cubicBezTo>
                    <a:pt x="331" y="142"/>
                    <a:pt x="319" y="119"/>
                    <a:pt x="303" y="93"/>
                  </a:cubicBezTo>
                  <a:cubicBezTo>
                    <a:pt x="287" y="67"/>
                    <a:pt x="264" y="45"/>
                    <a:pt x="240" y="30"/>
                  </a:cubicBezTo>
                  <a:cubicBezTo>
                    <a:pt x="216" y="15"/>
                    <a:pt x="176" y="7"/>
                    <a:pt x="158" y="2"/>
                  </a:cubicBezTo>
                  <a:lnTo>
                    <a:pt x="13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57"/>
            <p:cNvSpPr/>
            <p:nvPr/>
          </p:nvSpPr>
          <p:spPr>
            <a:xfrm>
              <a:off x="3959280" y="3755880"/>
              <a:ext cx="1116000" cy="28548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639" h="160">
                  <a:moveTo>
                    <a:pt x="0" y="9"/>
                  </a:moveTo>
                  <a:cubicBezTo>
                    <a:pt x="36" y="11"/>
                    <a:pt x="147" y="0"/>
                    <a:pt x="219" y="21"/>
                  </a:cubicBezTo>
                  <a:cubicBezTo>
                    <a:pt x="291" y="42"/>
                    <a:pt x="385" y="112"/>
                    <a:pt x="432" y="134"/>
                  </a:cubicBezTo>
                  <a:cubicBezTo>
                    <a:pt x="479" y="156"/>
                    <a:pt x="467" y="152"/>
                    <a:pt x="501" y="156"/>
                  </a:cubicBezTo>
                  <a:cubicBezTo>
                    <a:pt x="535" y="160"/>
                    <a:pt x="610" y="158"/>
                    <a:pt x="639" y="1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Line 258"/>
          <p:cNvSpPr/>
          <p:nvPr/>
        </p:nvSpPr>
        <p:spPr>
          <a:xfrm>
            <a:off x="5811840" y="435456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59"/>
          <p:cNvSpPr/>
          <p:nvPr/>
        </p:nvSpPr>
        <p:spPr>
          <a:xfrm flipH="1">
            <a:off x="6302160" y="419256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0"/>
          <p:cNvSpPr/>
          <p:nvPr/>
        </p:nvSpPr>
        <p:spPr>
          <a:xfrm flipH="1">
            <a:off x="3759120" y="4192560"/>
            <a:ext cx="439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61"/>
          <p:cNvSpPr/>
          <p:nvPr/>
        </p:nvSpPr>
        <p:spPr>
          <a:xfrm>
            <a:off x="1674720" y="3738600"/>
            <a:ext cx="6107040" cy="89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62"/>
          <p:cNvSpPr/>
          <p:nvPr/>
        </p:nvSpPr>
        <p:spPr>
          <a:xfrm flipV="1">
            <a:off x="2011320" y="4259160"/>
            <a:ext cx="1305000" cy="354240"/>
          </a:xfrm>
          <a:custGeom>
            <a:avLst/>
            <a:gdLst>
              <a:gd name="textAreaLeft" fmla="*/ 0 w 1305000"/>
              <a:gd name="textAreaRight" fmla="*/ 1305360 w 1305000"/>
              <a:gd name="textAreaTop" fmla="*/ 360 h 354240"/>
              <a:gd name="textAreaBottom" fmla="*/ 354960 h 354240"/>
            </a:gdLst>
            <a:ahLst/>
            <a:rect l="textAreaLeft" t="textAreaTop" r="textAreaRight" b="textAreaBottom"/>
            <a:pathLst>
              <a:path w="748" h="173">
                <a:moveTo>
                  <a:pt x="0" y="10"/>
                </a:moveTo>
                <a:cubicBezTo>
                  <a:pt x="43" y="10"/>
                  <a:pt x="168" y="8"/>
                  <a:pt x="260" y="8"/>
                </a:cubicBezTo>
                <a:cubicBezTo>
                  <a:pt x="352" y="8"/>
                  <a:pt x="474" y="0"/>
                  <a:pt x="550" y="11"/>
                </a:cubicBezTo>
                <a:cubicBezTo>
                  <a:pt x="626" y="22"/>
                  <a:pt x="681" y="49"/>
                  <a:pt x="714" y="76"/>
                </a:cubicBezTo>
                <a:cubicBezTo>
                  <a:pt x="747" y="103"/>
                  <a:pt x="741" y="153"/>
                  <a:pt x="748" y="1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63"/>
          <p:cNvSpPr/>
          <p:nvPr/>
        </p:nvSpPr>
        <p:spPr>
          <a:xfrm flipV="1">
            <a:off x="6364440" y="3753000"/>
            <a:ext cx="641160" cy="204480"/>
          </a:xfrm>
          <a:custGeom>
            <a:avLst/>
            <a:gdLst>
              <a:gd name="textAreaLeft" fmla="*/ 96840 w 641160"/>
              <a:gd name="textAreaRight" fmla="*/ 544320 w 641160"/>
              <a:gd name="textAreaTop" fmla="*/ 30960 h 204480"/>
              <a:gd name="textAreaBottom" fmla="*/ 173520 h 20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4" y="21600"/>
                </a:lnTo>
                <a:lnTo>
                  <a:pt x="186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64"/>
          <p:cNvSpPr/>
          <p:nvPr/>
        </p:nvSpPr>
        <p:spPr>
          <a:xfrm>
            <a:off x="6364440" y="4425840"/>
            <a:ext cx="641160" cy="204840"/>
          </a:xfrm>
          <a:custGeom>
            <a:avLst/>
            <a:gdLst>
              <a:gd name="textAreaLeft" fmla="*/ 96840 w 641160"/>
              <a:gd name="textAreaRight" fmla="*/ 544320 w 641160"/>
              <a:gd name="textAreaTop" fmla="*/ 30960 h 204840"/>
              <a:gd name="textAreaBottom" fmla="*/ 17388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4" y="21600"/>
                </a:lnTo>
                <a:lnTo>
                  <a:pt x="186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265"/>
          <p:cNvSpPr/>
          <p:nvPr/>
        </p:nvSpPr>
        <p:spPr>
          <a:xfrm>
            <a:off x="2374920" y="3833640"/>
            <a:ext cx="1147680" cy="8100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658" h="24">
                <a:moveTo>
                  <a:pt x="0" y="20"/>
                </a:moveTo>
                <a:cubicBezTo>
                  <a:pt x="43" y="20"/>
                  <a:pt x="168" y="18"/>
                  <a:pt x="260" y="18"/>
                </a:cubicBezTo>
                <a:cubicBezTo>
                  <a:pt x="352" y="18"/>
                  <a:pt x="484" y="24"/>
                  <a:pt x="550" y="21"/>
                </a:cubicBezTo>
                <a:cubicBezTo>
                  <a:pt x="616" y="18"/>
                  <a:pt x="640" y="4"/>
                  <a:pt x="65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66"/>
          <p:cNvSpPr/>
          <p:nvPr/>
        </p:nvSpPr>
        <p:spPr>
          <a:xfrm>
            <a:off x="1671480" y="4398840"/>
            <a:ext cx="137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et Pump Power Flu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67"/>
          <p:cNvSpPr/>
          <p:nvPr/>
        </p:nvSpPr>
        <p:spPr>
          <a:xfrm>
            <a:off x="2012760" y="3705120"/>
            <a:ext cx="130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le Sweeping Flu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68"/>
          <p:cNvSpPr/>
          <p:nvPr/>
        </p:nvSpPr>
        <p:spPr>
          <a:xfrm>
            <a:off x="4681440" y="405756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eeping Fluid &amp; S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269"/>
          <p:cNvSpPr/>
          <p:nvPr/>
        </p:nvSpPr>
        <p:spPr>
          <a:xfrm>
            <a:off x="4368960" y="4325760"/>
            <a:ext cx="2790720" cy="79560"/>
          </a:xfrm>
          <a:custGeom>
            <a:avLst/>
            <a:gdLst>
              <a:gd name="textAreaLeft" fmla="*/ 0 w 2790720"/>
              <a:gd name="textAreaRight" fmla="*/ 2790720 w 27907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758" h="50">
                <a:moveTo>
                  <a:pt x="0" y="0"/>
                </a:moveTo>
                <a:lnTo>
                  <a:pt x="0" y="30"/>
                </a:lnTo>
                <a:lnTo>
                  <a:pt x="1699" y="32"/>
                </a:lnTo>
                <a:lnTo>
                  <a:pt x="1728" y="50"/>
                </a:lnTo>
                <a:lnTo>
                  <a:pt x="1758" y="33"/>
                </a:lnTo>
                <a:lnTo>
                  <a:pt x="1701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8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270"/>
          <p:cNvSpPr/>
          <p:nvPr/>
        </p:nvSpPr>
        <p:spPr>
          <a:xfrm flipV="1">
            <a:off x="6848640" y="3884760"/>
            <a:ext cx="634680" cy="163440"/>
          </a:xfrm>
          <a:custGeom>
            <a:avLst/>
            <a:gdLst>
              <a:gd name="textAreaLeft" fmla="*/ 0 w 634680"/>
              <a:gd name="textAreaRight" fmla="*/ 635040 w 634680"/>
              <a:gd name="textAreaTop" fmla="*/ 360 h 163440"/>
              <a:gd name="textAreaBottom" fmla="*/ 164160 h 163440"/>
            </a:gdLst>
            <a:ahLst/>
            <a:rect l="textAreaLeft" t="textAreaTop" r="textAreaRight" b="textAreaBottom"/>
            <a:pathLst>
              <a:path w="639" h="160">
                <a:moveTo>
                  <a:pt x="0" y="9"/>
                </a:moveTo>
                <a:cubicBezTo>
                  <a:pt x="36" y="11"/>
                  <a:pt x="147" y="0"/>
                  <a:pt x="219" y="21"/>
                </a:cubicBezTo>
                <a:cubicBezTo>
                  <a:pt x="291" y="42"/>
                  <a:pt x="385" y="112"/>
                  <a:pt x="432" y="134"/>
                </a:cubicBezTo>
                <a:cubicBezTo>
                  <a:pt x="479" y="156"/>
                  <a:pt x="467" y="152"/>
                  <a:pt x="501" y="156"/>
                </a:cubicBezTo>
                <a:cubicBezTo>
                  <a:pt x="535" y="160"/>
                  <a:pt x="610" y="158"/>
                  <a:pt x="639" y="15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71"/>
          <p:cNvSpPr/>
          <p:nvPr/>
        </p:nvSpPr>
        <p:spPr>
          <a:xfrm flipV="1" rot="19800000">
            <a:off x="4255920" y="4413960"/>
            <a:ext cx="594000" cy="108000"/>
          </a:xfrm>
          <a:prstGeom prst="parallelogram">
            <a:avLst>
              <a:gd name="adj" fmla="val 177350"/>
            </a:avLst>
          </a:prstGeom>
          <a:solidFill>
            <a:srgbClr val="29a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72"/>
          <p:cNvSpPr/>
          <p:nvPr/>
        </p:nvSpPr>
        <p:spPr>
          <a:xfrm flipV="1" rot="3600000">
            <a:off x="4533480" y="4388400"/>
            <a:ext cx="30240" cy="77760"/>
          </a:xfrm>
          <a:custGeom>
            <a:avLst/>
            <a:gdLst>
              <a:gd name="textAreaLeft" fmla="*/ 0 w 30240"/>
              <a:gd name="textAreaRight" fmla="*/ 30600 w 30240"/>
              <a:gd name="textAreaTop" fmla="*/ 360 h 77760"/>
              <a:gd name="textAreaBottom" fmla="*/ 78480 h 77760"/>
            </a:gdLst>
            <a:ahLst/>
            <a:rect l="textAreaLeft" t="textAreaTop" r="textAreaRight" b="textAreaBottom"/>
            <a:pathLst>
              <a:path w="336" h="369">
                <a:moveTo>
                  <a:pt x="0" y="3"/>
                </a:moveTo>
                <a:lnTo>
                  <a:pt x="0" y="369"/>
                </a:lnTo>
                <a:lnTo>
                  <a:pt x="335" y="369"/>
                </a:lnTo>
                <a:lnTo>
                  <a:pt x="336" y="188"/>
                </a:lnTo>
                <a:cubicBezTo>
                  <a:pt x="331" y="142"/>
                  <a:pt x="319" y="119"/>
                  <a:pt x="303" y="93"/>
                </a:cubicBezTo>
                <a:cubicBezTo>
                  <a:pt x="287" y="67"/>
                  <a:pt x="264" y="45"/>
                  <a:pt x="240" y="30"/>
                </a:cubicBezTo>
                <a:cubicBezTo>
                  <a:pt x="216" y="15"/>
                  <a:pt x="176" y="7"/>
                  <a:pt x="158" y="2"/>
                </a:cubicBezTo>
                <a:lnTo>
                  <a:pt x="131" y="0"/>
                </a:lnTo>
                <a:lnTo>
                  <a:pt x="0" y="3"/>
                </a:lnTo>
                <a:close/>
              </a:path>
            </a:pathLst>
          </a:custGeom>
          <a:solidFill>
            <a:srgbClr val="808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273"/>
          <p:cNvSpPr/>
          <p:nvPr/>
        </p:nvSpPr>
        <p:spPr>
          <a:xfrm flipH="1" flipV="1" rot="3600000">
            <a:off x="4570560" y="4458600"/>
            <a:ext cx="31680" cy="77760"/>
          </a:xfrm>
          <a:custGeom>
            <a:avLst/>
            <a:gdLst>
              <a:gd name="textAreaLeft" fmla="*/ 360 w 31680"/>
              <a:gd name="textAreaRight" fmla="*/ 32400 w 31680"/>
              <a:gd name="textAreaTop" fmla="*/ 360 h 77760"/>
              <a:gd name="textAreaBottom" fmla="*/ 78480 h 77760"/>
            </a:gdLst>
            <a:ahLst/>
            <a:rect l="textAreaLeft" t="textAreaTop" r="textAreaRight" b="textAreaBottom"/>
            <a:pathLst>
              <a:path w="336" h="369">
                <a:moveTo>
                  <a:pt x="0" y="3"/>
                </a:moveTo>
                <a:lnTo>
                  <a:pt x="0" y="369"/>
                </a:lnTo>
                <a:lnTo>
                  <a:pt x="335" y="369"/>
                </a:lnTo>
                <a:lnTo>
                  <a:pt x="336" y="188"/>
                </a:lnTo>
                <a:cubicBezTo>
                  <a:pt x="331" y="142"/>
                  <a:pt x="319" y="119"/>
                  <a:pt x="303" y="93"/>
                </a:cubicBezTo>
                <a:cubicBezTo>
                  <a:pt x="287" y="67"/>
                  <a:pt x="264" y="45"/>
                  <a:pt x="240" y="30"/>
                </a:cubicBezTo>
                <a:cubicBezTo>
                  <a:pt x="216" y="15"/>
                  <a:pt x="176" y="7"/>
                  <a:pt x="158" y="2"/>
                </a:cubicBezTo>
                <a:lnTo>
                  <a:pt x="131" y="0"/>
                </a:lnTo>
                <a:lnTo>
                  <a:pt x="0" y="3"/>
                </a:lnTo>
                <a:close/>
              </a:path>
            </a:pathLst>
          </a:custGeom>
          <a:solidFill>
            <a:srgbClr val="808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274"/>
          <p:cNvSpPr/>
          <p:nvPr/>
        </p:nvSpPr>
        <p:spPr>
          <a:xfrm flipV="1">
            <a:off x="3959280" y="4334760"/>
            <a:ext cx="1116000" cy="274680"/>
          </a:xfrm>
          <a:custGeom>
            <a:avLst/>
            <a:gdLst>
              <a:gd name="textAreaLeft" fmla="*/ 0 w 1116000"/>
              <a:gd name="textAreaRight" fmla="*/ 1116360 w 1116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639" h="160">
                <a:moveTo>
                  <a:pt x="0" y="9"/>
                </a:moveTo>
                <a:cubicBezTo>
                  <a:pt x="36" y="11"/>
                  <a:pt x="147" y="0"/>
                  <a:pt x="219" y="21"/>
                </a:cubicBezTo>
                <a:cubicBezTo>
                  <a:pt x="291" y="42"/>
                  <a:pt x="385" y="112"/>
                  <a:pt x="432" y="134"/>
                </a:cubicBezTo>
                <a:cubicBezTo>
                  <a:pt x="479" y="156"/>
                  <a:pt x="467" y="152"/>
                  <a:pt x="501" y="156"/>
                </a:cubicBezTo>
                <a:cubicBezTo>
                  <a:pt x="535" y="160"/>
                  <a:pt x="610" y="158"/>
                  <a:pt x="639" y="15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275"/>
          <p:cNvSpPr/>
          <p:nvPr/>
        </p:nvSpPr>
        <p:spPr>
          <a:xfrm>
            <a:off x="6851520" y="4336920"/>
            <a:ext cx="635040" cy="163800"/>
          </a:xfrm>
          <a:custGeom>
            <a:avLst/>
            <a:gdLst>
              <a:gd name="textAreaLeft" fmla="*/ 0 w 635040"/>
              <a:gd name="textAreaRight" fmla="*/ 635400 w 63504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639" h="160">
                <a:moveTo>
                  <a:pt x="0" y="9"/>
                </a:moveTo>
                <a:cubicBezTo>
                  <a:pt x="36" y="11"/>
                  <a:pt x="147" y="0"/>
                  <a:pt x="219" y="21"/>
                </a:cubicBezTo>
                <a:cubicBezTo>
                  <a:pt x="291" y="42"/>
                  <a:pt x="385" y="112"/>
                  <a:pt x="432" y="134"/>
                </a:cubicBezTo>
                <a:cubicBezTo>
                  <a:pt x="479" y="156"/>
                  <a:pt x="467" y="152"/>
                  <a:pt x="501" y="156"/>
                </a:cubicBezTo>
                <a:cubicBezTo>
                  <a:pt x="535" y="160"/>
                  <a:pt x="610" y="158"/>
                  <a:pt x="639" y="15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14"/>
          <p:cNvSpPr/>
          <p:nvPr/>
        </p:nvSpPr>
        <p:spPr>
          <a:xfrm>
            <a:off x="6620400" y="441360"/>
            <a:ext cx="9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etSweep - 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15"/>
          <p:cNvSpPr/>
          <p:nvPr/>
        </p:nvSpPr>
        <p:spPr>
          <a:xfrm>
            <a:off x="7817040" y="441360"/>
            <a:ext cx="95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etSweep - 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222"/>
          <p:cNvGrpSpPr/>
          <p:nvPr/>
        </p:nvGrpSpPr>
        <p:grpSpPr>
          <a:xfrm>
            <a:off x="6958080" y="785880"/>
            <a:ext cx="284040" cy="2644560"/>
            <a:chOff x="6958080" y="785880"/>
            <a:chExt cx="284040" cy="2644560"/>
          </a:xfrm>
        </p:grpSpPr>
        <p:grpSp>
          <p:nvGrpSpPr>
            <p:cNvPr id="439" name="Group 213"/>
            <p:cNvGrpSpPr/>
            <p:nvPr/>
          </p:nvGrpSpPr>
          <p:grpSpPr>
            <a:xfrm>
              <a:off x="6962760" y="785880"/>
              <a:ext cx="277560" cy="2644560"/>
              <a:chOff x="6962760" y="785880"/>
              <a:chExt cx="277560" cy="2644560"/>
            </a:xfrm>
          </p:grpSpPr>
          <p:pic>
            <p:nvPicPr>
              <p:cNvPr id="440" name="Picture 207" descr=""/>
              <p:cNvPicPr/>
              <p:nvPr/>
            </p:nvPicPr>
            <p:blipFill>
              <a:blip r:embed="rId16"/>
              <a:srcRect l="0" t="35592" r="0" b="21963"/>
              <a:stretch/>
            </p:blipFill>
            <p:spPr>
              <a:xfrm rot="5400000">
                <a:off x="6094440" y="2296080"/>
                <a:ext cx="200808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Picture 212" descr=""/>
              <p:cNvPicPr/>
              <p:nvPr/>
            </p:nvPicPr>
            <p:blipFill>
              <a:blip r:embed="rId17"/>
              <a:srcRect l="0" t="0" r="0" b="86063"/>
              <a:stretch/>
            </p:blipFill>
            <p:spPr>
              <a:xfrm>
                <a:off x="6962760" y="785880"/>
                <a:ext cx="277560" cy="68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2" name="Rectangle 216"/>
            <p:cNvSpPr/>
            <p:nvPr/>
          </p:nvSpPr>
          <p:spPr>
            <a:xfrm>
              <a:off x="7170840" y="1368360"/>
              <a:ext cx="7128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17"/>
            <p:cNvSpPr/>
            <p:nvPr/>
          </p:nvSpPr>
          <p:spPr>
            <a:xfrm>
              <a:off x="6958080" y="1368360"/>
              <a:ext cx="6516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221"/>
          <p:cNvGrpSpPr/>
          <p:nvPr/>
        </p:nvGrpSpPr>
        <p:grpSpPr>
          <a:xfrm>
            <a:off x="8150400" y="785880"/>
            <a:ext cx="284040" cy="3787560"/>
            <a:chOff x="8150400" y="785880"/>
            <a:chExt cx="284040" cy="3787560"/>
          </a:xfrm>
        </p:grpSpPr>
        <p:grpSp>
          <p:nvGrpSpPr>
            <p:cNvPr id="445" name="Group 205"/>
            <p:cNvGrpSpPr/>
            <p:nvPr/>
          </p:nvGrpSpPr>
          <p:grpSpPr>
            <a:xfrm>
              <a:off x="8156520" y="785880"/>
              <a:ext cx="277920" cy="3787560"/>
              <a:chOff x="8156520" y="785880"/>
              <a:chExt cx="277920" cy="3787560"/>
            </a:xfrm>
          </p:grpSpPr>
          <p:pic>
            <p:nvPicPr>
              <p:cNvPr id="446" name="Picture 200" descr=""/>
              <p:cNvPicPr/>
              <p:nvPr/>
            </p:nvPicPr>
            <p:blipFill>
              <a:blip r:embed="rId18"/>
              <a:srcRect l="0" t="46952" r="0" b="20946"/>
              <a:stretch/>
            </p:blipFill>
            <p:spPr>
              <a:xfrm>
                <a:off x="8156520" y="2506680"/>
                <a:ext cx="277920" cy="15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Picture 201" descr=""/>
              <p:cNvPicPr/>
              <p:nvPr/>
            </p:nvPicPr>
            <p:blipFill>
              <a:blip r:embed="rId19"/>
              <a:srcRect l="0" t="88012" r="0" b="0"/>
              <a:stretch/>
            </p:blipFill>
            <p:spPr>
              <a:xfrm>
                <a:off x="8156520" y="3986280"/>
                <a:ext cx="277920" cy="58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Picture 203" descr=""/>
              <p:cNvPicPr/>
              <p:nvPr/>
            </p:nvPicPr>
            <p:blipFill>
              <a:blip r:embed="rId20"/>
              <a:srcRect l="0" t="46532" r="0" b="51526"/>
              <a:stretch/>
            </p:blipFill>
            <p:spPr>
              <a:xfrm>
                <a:off x="8156520" y="3052800"/>
                <a:ext cx="27792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204" descr=""/>
              <p:cNvPicPr/>
              <p:nvPr/>
            </p:nvPicPr>
            <p:blipFill>
              <a:blip r:embed="rId21"/>
              <a:srcRect l="0" t="0" r="0" b="64661"/>
              <a:stretch/>
            </p:blipFill>
            <p:spPr>
              <a:xfrm>
                <a:off x="8156520" y="785880"/>
                <a:ext cx="277920" cy="1730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0" name="Rectangle 219"/>
            <p:cNvSpPr/>
            <p:nvPr/>
          </p:nvSpPr>
          <p:spPr>
            <a:xfrm>
              <a:off x="8362800" y="1365120"/>
              <a:ext cx="6840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20"/>
            <p:cNvSpPr/>
            <p:nvPr/>
          </p:nvSpPr>
          <p:spPr>
            <a:xfrm>
              <a:off x="8150400" y="1365120"/>
              <a:ext cx="6480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48"/>
          <p:cNvSpPr/>
          <p:nvPr/>
        </p:nvSpPr>
        <p:spPr>
          <a:xfrm>
            <a:off x="700200" y="2257560"/>
            <a:ext cx="744480" cy="2193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41"/>
          <p:cNvSpPr/>
          <p:nvPr/>
        </p:nvSpPr>
        <p:spPr>
          <a:xfrm>
            <a:off x="2232000" y="5715000"/>
            <a:ext cx="5378400" cy="363600"/>
          </a:xfrm>
          <a:custGeom>
            <a:avLst/>
            <a:gdLst/>
            <a:ahLst/>
            <a:rect l="l" t="t" r="r" b="b"/>
            <a:pathLst>
              <a:path w="3629" h="247">
                <a:moveTo>
                  <a:pt x="5" y="0"/>
                </a:moveTo>
                <a:lnTo>
                  <a:pt x="1" y="144"/>
                </a:lnTo>
                <a:cubicBezTo>
                  <a:pt x="7" y="167"/>
                  <a:pt x="0" y="140"/>
                  <a:pt x="43" y="138"/>
                </a:cubicBezTo>
                <a:cubicBezTo>
                  <a:pt x="86" y="136"/>
                  <a:pt x="122" y="115"/>
                  <a:pt x="262" y="130"/>
                </a:cubicBezTo>
                <a:cubicBezTo>
                  <a:pt x="402" y="145"/>
                  <a:pt x="670" y="228"/>
                  <a:pt x="881" y="226"/>
                </a:cubicBezTo>
                <a:cubicBezTo>
                  <a:pt x="1092" y="224"/>
                  <a:pt x="1310" y="112"/>
                  <a:pt x="1526" y="115"/>
                </a:cubicBezTo>
                <a:cubicBezTo>
                  <a:pt x="1742" y="118"/>
                  <a:pt x="1968" y="239"/>
                  <a:pt x="2179" y="239"/>
                </a:cubicBezTo>
                <a:cubicBezTo>
                  <a:pt x="2390" y="239"/>
                  <a:pt x="2582" y="122"/>
                  <a:pt x="2792" y="115"/>
                </a:cubicBezTo>
                <a:cubicBezTo>
                  <a:pt x="3002" y="108"/>
                  <a:pt x="3300" y="183"/>
                  <a:pt x="3439" y="200"/>
                </a:cubicBezTo>
                <a:cubicBezTo>
                  <a:pt x="3579" y="217"/>
                  <a:pt x="3598" y="247"/>
                  <a:pt x="3629" y="216"/>
                </a:cubicBezTo>
                <a:lnTo>
                  <a:pt x="3627" y="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41"/>
          <p:cNvSpPr/>
          <p:nvPr/>
        </p:nvSpPr>
        <p:spPr>
          <a:xfrm>
            <a:off x="2273400" y="5462640"/>
            <a:ext cx="5335560" cy="334800"/>
          </a:xfrm>
          <a:custGeom>
            <a:avLst/>
            <a:gdLst/>
            <a:ahLst/>
            <a:rect l="l" t="t" r="r" b="b"/>
            <a:pathLst>
              <a:path w="3266" h="205">
                <a:moveTo>
                  <a:pt x="5" y="106"/>
                </a:moveTo>
                <a:lnTo>
                  <a:pt x="0" y="34"/>
                </a:lnTo>
                <a:cubicBezTo>
                  <a:pt x="7" y="20"/>
                  <a:pt x="4" y="23"/>
                  <a:pt x="49" y="20"/>
                </a:cubicBezTo>
                <a:cubicBezTo>
                  <a:pt x="94" y="17"/>
                  <a:pt x="146" y="6"/>
                  <a:pt x="269" y="20"/>
                </a:cubicBezTo>
                <a:cubicBezTo>
                  <a:pt x="392" y="33"/>
                  <a:pt x="607" y="105"/>
                  <a:pt x="790" y="103"/>
                </a:cubicBezTo>
                <a:cubicBezTo>
                  <a:pt x="974" y="100"/>
                  <a:pt x="1177" y="0"/>
                  <a:pt x="1371" y="3"/>
                </a:cubicBezTo>
                <a:cubicBezTo>
                  <a:pt x="1565" y="5"/>
                  <a:pt x="1770" y="114"/>
                  <a:pt x="1960" y="114"/>
                </a:cubicBezTo>
                <a:cubicBezTo>
                  <a:pt x="2150" y="114"/>
                  <a:pt x="2295" y="4"/>
                  <a:pt x="2512" y="3"/>
                </a:cubicBezTo>
                <a:cubicBezTo>
                  <a:pt x="2729" y="1"/>
                  <a:pt x="3141" y="74"/>
                  <a:pt x="3266" y="108"/>
                </a:cubicBezTo>
                <a:lnTo>
                  <a:pt x="3264" y="205"/>
                </a:lnTo>
              </a:path>
            </a:pathLst>
          </a:custGeom>
          <a:solidFill>
            <a:srgbClr val="99cc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41"/>
          <p:cNvSpPr/>
          <p:nvPr/>
        </p:nvSpPr>
        <p:spPr>
          <a:xfrm>
            <a:off x="2227320" y="5456160"/>
            <a:ext cx="3230640" cy="266760"/>
          </a:xfrm>
          <a:custGeom>
            <a:avLst/>
            <a:gdLst/>
            <a:ahLst/>
            <a:rect l="l" t="t" r="r" b="b"/>
            <a:pathLst>
              <a:path w="1965" h="163">
                <a:moveTo>
                  <a:pt x="0" y="137"/>
                </a:moveTo>
                <a:lnTo>
                  <a:pt x="5" y="37"/>
                </a:lnTo>
                <a:cubicBezTo>
                  <a:pt x="14" y="18"/>
                  <a:pt x="9" y="26"/>
                  <a:pt x="54" y="23"/>
                </a:cubicBezTo>
                <a:cubicBezTo>
                  <a:pt x="99" y="20"/>
                  <a:pt x="151" y="9"/>
                  <a:pt x="274" y="23"/>
                </a:cubicBezTo>
                <a:cubicBezTo>
                  <a:pt x="397" y="36"/>
                  <a:pt x="612" y="109"/>
                  <a:pt x="795" y="106"/>
                </a:cubicBezTo>
                <a:cubicBezTo>
                  <a:pt x="978" y="103"/>
                  <a:pt x="1224" y="14"/>
                  <a:pt x="1374" y="7"/>
                </a:cubicBezTo>
                <a:cubicBezTo>
                  <a:pt x="1524" y="0"/>
                  <a:pt x="1607" y="48"/>
                  <a:pt x="1698" y="65"/>
                </a:cubicBezTo>
                <a:cubicBezTo>
                  <a:pt x="1789" y="82"/>
                  <a:pt x="1877" y="103"/>
                  <a:pt x="1921" y="112"/>
                </a:cubicBezTo>
                <a:lnTo>
                  <a:pt x="1965" y="117"/>
                </a:lnTo>
                <a:lnTo>
                  <a:pt x="1959" y="163"/>
                </a:lnTo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418"/>
          <p:cNvSpPr/>
          <p:nvPr/>
        </p:nvSpPr>
        <p:spPr>
          <a:xfrm>
            <a:off x="1447920" y="2265480"/>
            <a:ext cx="0" cy="21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17"/>
          <p:cNvSpPr/>
          <p:nvPr/>
        </p:nvSpPr>
        <p:spPr>
          <a:xfrm>
            <a:off x="708120" y="2265480"/>
            <a:ext cx="0" cy="218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72"/>
          <p:cNvGrpSpPr/>
          <p:nvPr/>
        </p:nvGrpSpPr>
        <p:grpSpPr>
          <a:xfrm>
            <a:off x="3151080" y="5076720"/>
            <a:ext cx="4090680" cy="1270440"/>
            <a:chOff x="3151080" y="5076720"/>
            <a:chExt cx="4090680" cy="1270440"/>
          </a:xfrm>
        </p:grpSpPr>
        <p:grpSp>
          <p:nvGrpSpPr>
            <p:cNvPr id="459" name="Group 73"/>
            <p:cNvGrpSpPr/>
            <p:nvPr/>
          </p:nvGrpSpPr>
          <p:grpSpPr>
            <a:xfrm>
              <a:off x="6503400" y="5076720"/>
              <a:ext cx="67680" cy="1131120"/>
              <a:chOff x="6503400" y="5076720"/>
              <a:chExt cx="67680" cy="1131120"/>
            </a:xfrm>
          </p:grpSpPr>
          <p:sp>
            <p:nvSpPr>
              <p:cNvPr id="460" name="AutoShape 74"/>
              <p:cNvSpPr/>
              <p:nvPr/>
            </p:nvSpPr>
            <p:spPr>
              <a:xfrm>
                <a:off x="6503400" y="507672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AutoShape 75"/>
              <p:cNvSpPr/>
              <p:nvPr/>
            </p:nvSpPr>
            <p:spPr>
              <a:xfrm flipV="1">
                <a:off x="6503400" y="5811840"/>
                <a:ext cx="67680" cy="396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76"/>
            <p:cNvGrpSpPr/>
            <p:nvPr/>
          </p:nvGrpSpPr>
          <p:grpSpPr>
            <a:xfrm>
              <a:off x="3151080" y="5194080"/>
              <a:ext cx="67320" cy="1130760"/>
              <a:chOff x="3151080" y="5194080"/>
              <a:chExt cx="67320" cy="1130760"/>
            </a:xfrm>
          </p:grpSpPr>
          <p:sp>
            <p:nvSpPr>
              <p:cNvPr id="463" name="AutoShape 77"/>
              <p:cNvSpPr/>
              <p:nvPr/>
            </p:nvSpPr>
            <p:spPr>
              <a:xfrm>
                <a:off x="3151080" y="5194080"/>
                <a:ext cx="6732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utoShape 78"/>
              <p:cNvSpPr/>
              <p:nvPr/>
            </p:nvSpPr>
            <p:spPr>
              <a:xfrm flipV="1">
                <a:off x="3151080" y="5928840"/>
                <a:ext cx="6732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79"/>
            <p:cNvGrpSpPr/>
            <p:nvPr/>
          </p:nvGrpSpPr>
          <p:grpSpPr>
            <a:xfrm>
              <a:off x="3819960" y="5194080"/>
              <a:ext cx="67680" cy="1130760"/>
              <a:chOff x="3819960" y="5194080"/>
              <a:chExt cx="67680" cy="1130760"/>
            </a:xfrm>
          </p:grpSpPr>
          <p:sp>
            <p:nvSpPr>
              <p:cNvPr id="466" name="AutoShape 80"/>
              <p:cNvSpPr/>
              <p:nvPr/>
            </p:nvSpPr>
            <p:spPr>
              <a:xfrm>
                <a:off x="3819960" y="519408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81"/>
              <p:cNvSpPr/>
              <p:nvPr/>
            </p:nvSpPr>
            <p:spPr>
              <a:xfrm flipV="1">
                <a:off x="3819960" y="592884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82"/>
            <p:cNvGrpSpPr/>
            <p:nvPr/>
          </p:nvGrpSpPr>
          <p:grpSpPr>
            <a:xfrm>
              <a:off x="4491000" y="5076720"/>
              <a:ext cx="67680" cy="1130760"/>
              <a:chOff x="4491000" y="5076720"/>
              <a:chExt cx="67680" cy="1130760"/>
            </a:xfrm>
          </p:grpSpPr>
          <p:sp>
            <p:nvSpPr>
              <p:cNvPr id="469" name="AutoShape 83"/>
              <p:cNvSpPr/>
              <p:nvPr/>
            </p:nvSpPr>
            <p:spPr>
              <a:xfrm>
                <a:off x="4491000" y="507672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84"/>
              <p:cNvSpPr/>
              <p:nvPr/>
            </p:nvSpPr>
            <p:spPr>
              <a:xfrm flipV="1">
                <a:off x="4491000" y="581148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85"/>
            <p:cNvGrpSpPr/>
            <p:nvPr/>
          </p:nvGrpSpPr>
          <p:grpSpPr>
            <a:xfrm>
              <a:off x="5162040" y="5216400"/>
              <a:ext cx="67320" cy="1130760"/>
              <a:chOff x="5162040" y="5216400"/>
              <a:chExt cx="67320" cy="1130760"/>
            </a:xfrm>
          </p:grpSpPr>
          <p:sp>
            <p:nvSpPr>
              <p:cNvPr id="472" name="AutoShape 86"/>
              <p:cNvSpPr/>
              <p:nvPr/>
            </p:nvSpPr>
            <p:spPr>
              <a:xfrm>
                <a:off x="5162040" y="5216400"/>
                <a:ext cx="6732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87"/>
              <p:cNvSpPr/>
              <p:nvPr/>
            </p:nvSpPr>
            <p:spPr>
              <a:xfrm flipV="1">
                <a:off x="5162040" y="5951160"/>
                <a:ext cx="6732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88"/>
            <p:cNvGrpSpPr/>
            <p:nvPr/>
          </p:nvGrpSpPr>
          <p:grpSpPr>
            <a:xfrm>
              <a:off x="5832360" y="5179320"/>
              <a:ext cx="67680" cy="1130760"/>
              <a:chOff x="5832360" y="5179320"/>
              <a:chExt cx="67680" cy="1130760"/>
            </a:xfrm>
          </p:grpSpPr>
          <p:sp>
            <p:nvSpPr>
              <p:cNvPr id="475" name="AutoShape 89"/>
              <p:cNvSpPr/>
              <p:nvPr/>
            </p:nvSpPr>
            <p:spPr>
              <a:xfrm>
                <a:off x="5832360" y="517932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AutoShape 90"/>
              <p:cNvSpPr/>
              <p:nvPr/>
            </p:nvSpPr>
            <p:spPr>
              <a:xfrm flipV="1">
                <a:off x="5832360" y="591408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91"/>
            <p:cNvGrpSpPr/>
            <p:nvPr/>
          </p:nvGrpSpPr>
          <p:grpSpPr>
            <a:xfrm>
              <a:off x="7174080" y="5172120"/>
              <a:ext cx="67680" cy="1130760"/>
              <a:chOff x="7174080" y="5172120"/>
              <a:chExt cx="67680" cy="1130760"/>
            </a:xfrm>
          </p:grpSpPr>
          <p:sp>
            <p:nvSpPr>
              <p:cNvPr id="478" name="AutoShape 92"/>
              <p:cNvSpPr/>
              <p:nvPr/>
            </p:nvSpPr>
            <p:spPr>
              <a:xfrm>
                <a:off x="7174080" y="5172120"/>
                <a:ext cx="67680" cy="39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AutoShape 93"/>
              <p:cNvSpPr/>
              <p:nvPr/>
            </p:nvSpPr>
            <p:spPr>
              <a:xfrm flipV="1">
                <a:off x="7174080" y="590688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Arc 44"/>
          <p:cNvSpPr/>
          <p:nvPr/>
        </p:nvSpPr>
        <p:spPr>
          <a:xfrm rot="10800000">
            <a:off x="705960" y="4443120"/>
            <a:ext cx="1600200" cy="1609560"/>
          </a:xfrm>
          <a:custGeom>
            <a:avLst/>
            <a:gdLst/>
            <a:ahLst/>
            <a:rect l="l" t="t" r="r" b="b"/>
            <a:pathLst>
              <a:path fill="none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</a:path>
              <a:path stroke="0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  <a:lnTo>
                  <a:pt x="0" y="21582"/>
                </a:lnTo>
                <a:lnTo>
                  <a:pt x="890" y="0"/>
                </a:lnTo>
                <a:close/>
              </a:path>
            </a:pathLst>
          </a:custGeom>
          <a:solidFill>
            <a:srgbClr val="3399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41"/>
          <p:cNvSpPr/>
          <p:nvPr/>
        </p:nvSpPr>
        <p:spPr>
          <a:xfrm>
            <a:off x="4506840" y="5702400"/>
            <a:ext cx="3095640" cy="392040"/>
          </a:xfrm>
          <a:custGeom>
            <a:avLst/>
            <a:gdLst/>
            <a:ahLst/>
            <a:rect l="l" t="t" r="r" b="b"/>
            <a:pathLst>
              <a:path w="1895" h="240">
                <a:moveTo>
                  <a:pt x="602" y="77"/>
                </a:moveTo>
                <a:cubicBezTo>
                  <a:pt x="502" y="82"/>
                  <a:pt x="4" y="81"/>
                  <a:pt x="2" y="107"/>
                </a:cubicBezTo>
                <a:cubicBezTo>
                  <a:pt x="0" y="133"/>
                  <a:pt x="400" y="232"/>
                  <a:pt x="590" y="232"/>
                </a:cubicBezTo>
                <a:cubicBezTo>
                  <a:pt x="780" y="232"/>
                  <a:pt x="953" y="114"/>
                  <a:pt x="1142" y="107"/>
                </a:cubicBezTo>
                <a:cubicBezTo>
                  <a:pt x="1331" y="100"/>
                  <a:pt x="1599" y="176"/>
                  <a:pt x="1724" y="193"/>
                </a:cubicBezTo>
                <a:cubicBezTo>
                  <a:pt x="1850" y="210"/>
                  <a:pt x="1867" y="240"/>
                  <a:pt x="1895" y="209"/>
                </a:cubicBezTo>
                <a:lnTo>
                  <a:pt x="1893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9"/>
          <p:cNvSpPr/>
          <p:nvPr/>
        </p:nvSpPr>
        <p:spPr>
          <a:xfrm>
            <a:off x="974880" y="2257560"/>
            <a:ext cx="209520" cy="2206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98"/>
          <p:cNvSpPr/>
          <p:nvPr/>
        </p:nvSpPr>
        <p:spPr>
          <a:xfrm flipV="1">
            <a:off x="1068480" y="2688840"/>
            <a:ext cx="0" cy="5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99"/>
          <p:cNvSpPr/>
          <p:nvPr/>
        </p:nvSpPr>
        <p:spPr>
          <a:xfrm>
            <a:off x="849240" y="2352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00"/>
          <p:cNvSpPr/>
          <p:nvPr/>
        </p:nvSpPr>
        <p:spPr>
          <a:xfrm>
            <a:off x="1306440" y="2352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rc 101"/>
          <p:cNvSpPr/>
          <p:nvPr/>
        </p:nvSpPr>
        <p:spPr>
          <a:xfrm rot="10800000">
            <a:off x="1384200" y="4755960"/>
            <a:ext cx="611280" cy="795240"/>
          </a:xfrm>
          <a:custGeom>
            <a:avLst/>
            <a:gdLst/>
            <a:ahLst/>
            <a:rect l="l" t="t" r="r" b="b"/>
            <a:pathLst>
              <a:path fill="none" w="17206" h="19801">
                <a:moveTo>
                  <a:pt x="8630" y="-1"/>
                </a:moveTo>
                <a:cubicBezTo>
                  <a:pt x="12018" y="1476"/>
                  <a:pt x="14971" y="3798"/>
                  <a:pt x="17206" y="6742"/>
                </a:cubicBezTo>
              </a:path>
              <a:path stroke="0" w="17206" h="19801">
                <a:moveTo>
                  <a:pt x="8630" y="-1"/>
                </a:moveTo>
                <a:cubicBezTo>
                  <a:pt x="12018" y="1476"/>
                  <a:pt x="14971" y="3798"/>
                  <a:pt x="17206" y="6742"/>
                </a:cubicBezTo>
                <a:lnTo>
                  <a:pt x="0" y="19801"/>
                </a:lnTo>
                <a:lnTo>
                  <a:pt x="86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rc 102"/>
          <p:cNvSpPr/>
          <p:nvPr/>
        </p:nvSpPr>
        <p:spPr>
          <a:xfrm rot="10800000">
            <a:off x="1182240" y="4441320"/>
            <a:ext cx="987480" cy="1109880"/>
          </a:xfrm>
          <a:custGeom>
            <a:avLst/>
            <a:gdLst/>
            <a:ahLst/>
            <a:rect l="l" t="t" r="r" b="b"/>
            <a:pathLst>
              <a:path fill="none" w="21600" h="20526">
                <a:moveTo>
                  <a:pt x="6725" y="-1"/>
                </a:moveTo>
                <a:cubicBezTo>
                  <a:pt x="15599" y="2907"/>
                  <a:pt x="21600" y="11187"/>
                  <a:pt x="21600" y="20526"/>
                </a:cubicBezTo>
              </a:path>
              <a:path stroke="0" w="21600" h="20526">
                <a:moveTo>
                  <a:pt x="6725" y="-1"/>
                </a:moveTo>
                <a:cubicBezTo>
                  <a:pt x="15599" y="2907"/>
                  <a:pt x="21600" y="11187"/>
                  <a:pt x="21600" y="20526"/>
                </a:cubicBezTo>
                <a:lnTo>
                  <a:pt x="0" y="20526"/>
                </a:lnTo>
                <a:lnTo>
                  <a:pt x="6725" y="-1"/>
                </a:lnTo>
                <a:close/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38"/>
          <p:cNvSpPr/>
          <p:nvPr/>
        </p:nvSpPr>
        <p:spPr>
          <a:xfrm rot="21283800">
            <a:off x="4466880" y="5730480"/>
            <a:ext cx="879480" cy="163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rc 104"/>
          <p:cNvSpPr/>
          <p:nvPr/>
        </p:nvSpPr>
        <p:spPr>
          <a:xfrm rot="10800000">
            <a:off x="1447560" y="4419720"/>
            <a:ext cx="871560" cy="884160"/>
          </a:xfrm>
          <a:custGeom>
            <a:avLst/>
            <a:gdLst/>
            <a:ahLst/>
            <a:rect l="l" t="t" r="r" b="b"/>
            <a:pathLst>
              <a:path fill="none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</a:path>
              <a:path stroke="0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  <a:lnTo>
                  <a:pt x="0" y="21578"/>
                </a:lnTo>
                <a:lnTo>
                  <a:pt x="98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217"/>
          <p:cNvGrpSpPr/>
          <p:nvPr/>
        </p:nvGrpSpPr>
        <p:grpSpPr>
          <a:xfrm>
            <a:off x="784080" y="328680"/>
            <a:ext cx="2118960" cy="1983960"/>
            <a:chOff x="784080" y="328680"/>
            <a:chExt cx="2118960" cy="1983960"/>
          </a:xfrm>
        </p:grpSpPr>
        <p:pic>
          <p:nvPicPr>
            <p:cNvPr id="491" name="Picture 218" descr="thumbnail"/>
            <p:cNvPicPr/>
            <p:nvPr/>
          </p:nvPicPr>
          <p:blipFill>
            <a:blip r:embed="rId5"/>
            <a:stretch/>
          </p:blipFill>
          <p:spPr>
            <a:xfrm flipH="1" rot="120000">
              <a:off x="985680" y="357120"/>
              <a:ext cx="1674720" cy="19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Line 424"/>
            <p:cNvSpPr/>
            <p:nvPr/>
          </p:nvSpPr>
          <p:spPr>
            <a:xfrm>
              <a:off x="784080" y="2258640"/>
              <a:ext cx="21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20"/>
            <p:cNvSpPr/>
            <p:nvPr/>
          </p:nvSpPr>
          <p:spPr>
            <a:xfrm>
              <a:off x="15645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21"/>
            <p:cNvSpPr/>
            <p:nvPr/>
          </p:nvSpPr>
          <p:spPr>
            <a:xfrm>
              <a:off x="196524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22"/>
            <p:cNvSpPr/>
            <p:nvPr/>
          </p:nvSpPr>
          <p:spPr>
            <a:xfrm>
              <a:off x="20109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23"/>
            <p:cNvSpPr/>
            <p:nvPr/>
          </p:nvSpPr>
          <p:spPr>
            <a:xfrm>
              <a:off x="161208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24"/>
            <p:cNvSpPr/>
            <p:nvPr/>
          </p:nvSpPr>
          <p:spPr>
            <a:xfrm>
              <a:off x="235728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25"/>
            <p:cNvSpPr/>
            <p:nvPr/>
          </p:nvSpPr>
          <p:spPr>
            <a:xfrm>
              <a:off x="279540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26"/>
            <p:cNvSpPr/>
            <p:nvPr/>
          </p:nvSpPr>
          <p:spPr>
            <a:xfrm>
              <a:off x="20631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227"/>
            <p:cNvSpPr/>
            <p:nvPr/>
          </p:nvSpPr>
          <p:spPr>
            <a:xfrm flipH="1">
              <a:off x="17805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28"/>
            <p:cNvSpPr/>
            <p:nvPr/>
          </p:nvSpPr>
          <p:spPr>
            <a:xfrm flipH="1">
              <a:off x="182124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29"/>
            <p:cNvSpPr/>
            <p:nvPr/>
          </p:nvSpPr>
          <p:spPr>
            <a:xfrm flipH="1">
              <a:off x="25923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30"/>
            <p:cNvSpPr/>
            <p:nvPr/>
          </p:nvSpPr>
          <p:spPr>
            <a:xfrm flipH="1">
              <a:off x="144684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231"/>
            <p:cNvSpPr/>
            <p:nvPr/>
          </p:nvSpPr>
          <p:spPr>
            <a:xfrm>
              <a:off x="22935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32"/>
            <p:cNvSpPr/>
            <p:nvPr/>
          </p:nvSpPr>
          <p:spPr>
            <a:xfrm flipH="1">
              <a:off x="253872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33"/>
            <p:cNvSpPr/>
            <p:nvPr/>
          </p:nvSpPr>
          <p:spPr>
            <a:xfrm flipH="1">
              <a:off x="264312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Arc 104"/>
          <p:cNvSpPr/>
          <p:nvPr/>
        </p:nvSpPr>
        <p:spPr>
          <a:xfrm rot="10800000">
            <a:off x="1452240" y="4412880"/>
            <a:ext cx="871560" cy="885960"/>
          </a:xfrm>
          <a:custGeom>
            <a:avLst/>
            <a:gdLst/>
            <a:ahLst/>
            <a:rect l="l" t="t" r="r" b="b"/>
            <a:pathLst>
              <a:path fill="none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</a:path>
              <a:path stroke="0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  <a:lnTo>
                  <a:pt x="0" y="21578"/>
                </a:lnTo>
                <a:lnTo>
                  <a:pt x="98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08"/>
          <p:cNvSpPr/>
          <p:nvPr/>
        </p:nvSpPr>
        <p:spPr>
          <a:xfrm>
            <a:off x="968400" y="4444920"/>
            <a:ext cx="3971880" cy="1384560"/>
          </a:xfrm>
          <a:custGeom>
            <a:avLst/>
            <a:gdLst/>
            <a:ahLst/>
            <a:rect l="l" t="t" r="r" b="b"/>
            <a:pathLst>
              <a:path w="2502" h="872">
                <a:moveTo>
                  <a:pt x="0" y="6"/>
                </a:moveTo>
                <a:lnTo>
                  <a:pt x="9" y="167"/>
                </a:lnTo>
                <a:cubicBezTo>
                  <a:pt x="35" y="251"/>
                  <a:pt x="71" y="412"/>
                  <a:pt x="154" y="512"/>
                </a:cubicBezTo>
                <a:cubicBezTo>
                  <a:pt x="238" y="613"/>
                  <a:pt x="325" y="722"/>
                  <a:pt x="506" y="772"/>
                </a:cubicBezTo>
                <a:cubicBezTo>
                  <a:pt x="687" y="822"/>
                  <a:pt x="1072" y="797"/>
                  <a:pt x="1240" y="810"/>
                </a:cubicBezTo>
                <a:cubicBezTo>
                  <a:pt x="1408" y="823"/>
                  <a:pt x="1426" y="840"/>
                  <a:pt x="1512" y="848"/>
                </a:cubicBezTo>
                <a:cubicBezTo>
                  <a:pt x="1598" y="856"/>
                  <a:pt x="1665" y="856"/>
                  <a:pt x="1754" y="855"/>
                </a:cubicBezTo>
                <a:cubicBezTo>
                  <a:pt x="1843" y="854"/>
                  <a:pt x="1950" y="840"/>
                  <a:pt x="2048" y="840"/>
                </a:cubicBezTo>
                <a:cubicBezTo>
                  <a:pt x="2146" y="840"/>
                  <a:pt x="2272" y="849"/>
                  <a:pt x="2344" y="853"/>
                </a:cubicBezTo>
                <a:cubicBezTo>
                  <a:pt x="2416" y="857"/>
                  <a:pt x="2460" y="872"/>
                  <a:pt x="2481" y="862"/>
                </a:cubicBezTo>
                <a:cubicBezTo>
                  <a:pt x="2502" y="852"/>
                  <a:pt x="2480" y="806"/>
                  <a:pt x="2467" y="790"/>
                </a:cubicBezTo>
                <a:cubicBezTo>
                  <a:pt x="2454" y="774"/>
                  <a:pt x="2446" y="775"/>
                  <a:pt x="2404" y="769"/>
                </a:cubicBezTo>
                <a:cubicBezTo>
                  <a:pt x="2362" y="763"/>
                  <a:pt x="2304" y="754"/>
                  <a:pt x="2217" y="752"/>
                </a:cubicBezTo>
                <a:cubicBezTo>
                  <a:pt x="2130" y="750"/>
                  <a:pt x="1989" y="757"/>
                  <a:pt x="1884" y="759"/>
                </a:cubicBezTo>
                <a:cubicBezTo>
                  <a:pt x="1779" y="761"/>
                  <a:pt x="1683" y="771"/>
                  <a:pt x="1584" y="766"/>
                </a:cubicBezTo>
                <a:cubicBezTo>
                  <a:pt x="1485" y="761"/>
                  <a:pt x="1464" y="742"/>
                  <a:pt x="1287" y="726"/>
                </a:cubicBezTo>
                <a:cubicBezTo>
                  <a:pt x="1110" y="710"/>
                  <a:pt x="698" y="723"/>
                  <a:pt x="522" y="667"/>
                </a:cubicBezTo>
                <a:cubicBezTo>
                  <a:pt x="346" y="610"/>
                  <a:pt x="294" y="490"/>
                  <a:pt x="228" y="386"/>
                </a:cubicBezTo>
                <a:cubicBezTo>
                  <a:pt x="163" y="282"/>
                  <a:pt x="143" y="110"/>
                  <a:pt x="127" y="46"/>
                </a:cubicBezTo>
                <a:lnTo>
                  <a:pt x="127" y="0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43"/>
          <p:cNvSpPr/>
          <p:nvPr/>
        </p:nvSpPr>
        <p:spPr>
          <a:xfrm>
            <a:off x="2643120" y="5656320"/>
            <a:ext cx="492120" cy="23760"/>
          </a:xfrm>
          <a:custGeom>
            <a:avLst/>
            <a:gdLst/>
            <a:ahLst/>
            <a:rect l="l" t="t" r="r" b="b"/>
            <a:pathLst>
              <a:path w="301" h="15">
                <a:moveTo>
                  <a:pt x="301" y="15"/>
                </a:moveTo>
                <a:cubicBezTo>
                  <a:pt x="275" y="13"/>
                  <a:pt x="192" y="4"/>
                  <a:pt x="142" y="2"/>
                </a:cubicBezTo>
                <a:cubicBezTo>
                  <a:pt x="92" y="0"/>
                  <a:pt x="30" y="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60"/>
          <p:cNvSpPr/>
          <p:nvPr/>
        </p:nvSpPr>
        <p:spPr>
          <a:xfrm>
            <a:off x="5408640" y="5657760"/>
            <a:ext cx="95400" cy="6516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61"/>
          <p:cNvSpPr/>
          <p:nvPr/>
        </p:nvSpPr>
        <p:spPr>
          <a:xfrm rot="209400">
            <a:off x="4803480" y="5613480"/>
            <a:ext cx="771480" cy="3016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62"/>
          <p:cNvGrpSpPr/>
          <p:nvPr/>
        </p:nvGrpSpPr>
        <p:grpSpPr>
          <a:xfrm>
            <a:off x="5080680" y="5608440"/>
            <a:ext cx="231480" cy="236160"/>
            <a:chOff x="5080680" y="5608440"/>
            <a:chExt cx="231480" cy="236160"/>
          </a:xfrm>
        </p:grpSpPr>
        <p:sp>
          <p:nvSpPr>
            <p:cNvPr id="513" name="AutoShape 64"/>
            <p:cNvSpPr/>
            <p:nvPr/>
          </p:nvSpPr>
          <p:spPr>
            <a:xfrm flipV="1" rot="12510600">
              <a:off x="5184720" y="5615640"/>
              <a:ext cx="838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49" y="1524"/>
                    <a:pt x="8497" y="5080"/>
                    <a:pt x="8497" y="10800"/>
                  </a:cubicBezTo>
                  <a:cubicBezTo>
                    <a:pt x="8497" y="16520"/>
                    <a:pt x="15049" y="200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5"/>
            <p:cNvSpPr/>
            <p:nvPr/>
          </p:nvSpPr>
          <p:spPr>
            <a:xfrm flipV="1" rot="3306600">
              <a:off x="5128920" y="5704200"/>
              <a:ext cx="57960" cy="147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 rot="10800000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66"/>
          <p:cNvSpPr/>
          <p:nvPr/>
        </p:nvSpPr>
        <p:spPr>
          <a:xfrm>
            <a:off x="950760" y="3363840"/>
            <a:ext cx="250920" cy="654120"/>
          </a:xfrm>
          <a:prstGeom prst="rect">
            <a:avLst/>
          </a:prstGeom>
          <a:gradFill rotWithShape="0">
            <a:gsLst>
              <a:gs pos="0">
                <a:srgbClr val="080808"/>
              </a:gs>
              <a:gs pos="50000">
                <a:srgbClr val="808080"/>
              </a:gs>
              <a:gs pos="100000">
                <a:srgbClr val="080808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67"/>
          <p:cNvSpPr/>
          <p:nvPr/>
        </p:nvSpPr>
        <p:spPr>
          <a:xfrm>
            <a:off x="1028880" y="3780000"/>
            <a:ext cx="95040" cy="129960"/>
          </a:xfrm>
          <a:prstGeom prst="ellipse">
            <a:avLst/>
          </a:prstGeom>
          <a:solidFill>
            <a:srgbClr val="29292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99"/>
          <p:cNvSpPr/>
          <p:nvPr/>
        </p:nvSpPr>
        <p:spPr>
          <a:xfrm>
            <a:off x="1895400" y="5799240"/>
            <a:ext cx="428760" cy="47520"/>
          </a:xfrm>
          <a:custGeom>
            <a:avLst/>
            <a:gdLst/>
            <a:ahLst/>
            <a:rect l="l" t="t" r="r" b="b"/>
            <a:pathLst>
              <a:path w="328" h="104">
                <a:moveTo>
                  <a:pt x="0" y="84"/>
                </a:moveTo>
                <a:cubicBezTo>
                  <a:pt x="18" y="85"/>
                  <a:pt x="68" y="104"/>
                  <a:pt x="110" y="93"/>
                </a:cubicBezTo>
                <a:cubicBezTo>
                  <a:pt x="152" y="82"/>
                  <a:pt x="218" y="30"/>
                  <a:pt x="254" y="15"/>
                </a:cubicBezTo>
                <a:cubicBezTo>
                  <a:pt x="290" y="0"/>
                  <a:pt x="313" y="7"/>
                  <a:pt x="328" y="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99"/>
          <p:cNvSpPr/>
          <p:nvPr/>
        </p:nvSpPr>
        <p:spPr>
          <a:xfrm>
            <a:off x="1430280" y="4915080"/>
            <a:ext cx="255600" cy="218880"/>
          </a:xfrm>
          <a:custGeom>
            <a:avLst/>
            <a:gdLst/>
            <a:ahLst/>
            <a:rect l="l" t="t" r="r" b="b"/>
            <a:pathLst>
              <a:path w="161" h="138">
                <a:moveTo>
                  <a:pt x="0" y="0"/>
                </a:moveTo>
                <a:cubicBezTo>
                  <a:pt x="9" y="4"/>
                  <a:pt x="35" y="13"/>
                  <a:pt x="56" y="30"/>
                </a:cubicBezTo>
                <a:cubicBezTo>
                  <a:pt x="77" y="46"/>
                  <a:pt x="110" y="83"/>
                  <a:pt x="127" y="101"/>
                </a:cubicBezTo>
                <a:cubicBezTo>
                  <a:pt x="144" y="119"/>
                  <a:pt x="154" y="130"/>
                  <a:pt x="161" y="13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6"/>
          <p:cNvSpPr/>
          <p:nvPr/>
        </p:nvSpPr>
        <p:spPr>
          <a:xfrm>
            <a:off x="950760" y="3967200"/>
            <a:ext cx="250920" cy="266760"/>
          </a:xfrm>
          <a:prstGeom prst="rect">
            <a:avLst/>
          </a:prstGeom>
          <a:gradFill rotWithShape="0">
            <a:gsLst>
              <a:gs pos="0">
                <a:srgbClr val="100d00"/>
              </a:gs>
              <a:gs pos="50000">
                <a:srgbClr val="ffcc00"/>
              </a:gs>
              <a:gs pos="100000">
                <a:srgbClr val="100d00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6"/>
          <p:cNvSpPr/>
          <p:nvPr/>
        </p:nvSpPr>
        <p:spPr>
          <a:xfrm>
            <a:off x="950760" y="4191120"/>
            <a:ext cx="250920" cy="266760"/>
          </a:xfrm>
          <a:prstGeom prst="rect">
            <a:avLst/>
          </a:prstGeom>
          <a:gradFill rotWithShape="0">
            <a:gsLst>
              <a:gs pos="0">
                <a:srgbClr val="061003"/>
              </a:gs>
              <a:gs pos="50000">
                <a:srgbClr val="66ff33"/>
              </a:gs>
              <a:gs pos="100000">
                <a:srgbClr val="061003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71"/>
          <p:cNvSpPr/>
          <p:nvPr/>
        </p:nvSpPr>
        <p:spPr>
          <a:xfrm>
            <a:off x="542880" y="2259000"/>
            <a:ext cx="23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2"/>
          <p:cNvGrpSpPr/>
          <p:nvPr/>
        </p:nvGrpSpPr>
        <p:grpSpPr>
          <a:xfrm>
            <a:off x="4798080" y="5657400"/>
            <a:ext cx="153000" cy="198000"/>
            <a:chOff x="4798080" y="5657400"/>
            <a:chExt cx="153000" cy="198000"/>
          </a:xfrm>
        </p:grpSpPr>
        <p:sp>
          <p:nvSpPr>
            <p:cNvPr id="523" name="AutoShape 73"/>
            <p:cNvSpPr/>
            <p:nvPr/>
          </p:nvSpPr>
          <p:spPr>
            <a:xfrm rot="6139800">
              <a:off x="4912200" y="5685480"/>
              <a:ext cx="49320" cy="18000"/>
            </a:xfrm>
            <a:custGeom>
              <a:avLst/>
              <a:gdLst>
                <a:gd name="textAreaLeft" fmla="*/ 8640 w 49320"/>
                <a:gd name="textAreaRight" fmla="*/ 40680 w 49320"/>
                <a:gd name="textAreaTop" fmla="*/ 2880 h 18000"/>
                <a:gd name="textAreaBottom" fmla="*/ 1512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21" y="11664"/>
                  </a:lnTo>
                  <a:lnTo>
                    <a:pt x="198" y="12861"/>
                  </a:lnTo>
                  <a:lnTo>
                    <a:pt x="1267" y="13533"/>
                  </a:lnTo>
                  <a:lnTo>
                    <a:pt x="786" y="14846"/>
                  </a:lnTo>
                  <a:lnTo>
                    <a:pt x="2044" y="15456"/>
                  </a:lnTo>
                  <a:lnTo>
                    <a:pt x="1742" y="16682"/>
                  </a:lnTo>
                  <a:lnTo>
                    <a:pt x="3093" y="17041"/>
                  </a:lnTo>
                  <a:lnTo>
                    <a:pt x="3163" y="18437"/>
                  </a:lnTo>
                  <a:lnTo>
                    <a:pt x="4425" y="18397"/>
                  </a:lnTo>
                  <a:lnTo>
                    <a:pt x="4761" y="19754"/>
                  </a:lnTo>
                  <a:lnTo>
                    <a:pt x="5992" y="19474"/>
                  </a:lnTo>
                  <a:lnTo>
                    <a:pt x="6580" y="20741"/>
                  </a:lnTo>
                  <a:lnTo>
                    <a:pt x="7901" y="20284"/>
                  </a:lnTo>
                  <a:lnTo>
                    <a:pt x="8555" y="21364"/>
                  </a:lnTo>
                  <a:lnTo>
                    <a:pt x="9763" y="20663"/>
                  </a:lnTo>
                  <a:lnTo>
                    <a:pt x="10800" y="21600"/>
                  </a:lnTo>
                  <a:lnTo>
                    <a:pt x="11664" y="20679"/>
                  </a:lnTo>
                  <a:lnTo>
                    <a:pt x="12861" y="21402"/>
                  </a:lnTo>
                  <a:lnTo>
                    <a:pt x="13533" y="20333"/>
                  </a:lnTo>
                  <a:lnTo>
                    <a:pt x="14846" y="20814"/>
                  </a:lnTo>
                  <a:lnTo>
                    <a:pt x="15456" y="19556"/>
                  </a:lnTo>
                  <a:lnTo>
                    <a:pt x="16682" y="19858"/>
                  </a:lnTo>
                  <a:lnTo>
                    <a:pt x="17041" y="18507"/>
                  </a:lnTo>
                  <a:lnTo>
                    <a:pt x="18437" y="18437"/>
                  </a:lnTo>
                  <a:lnTo>
                    <a:pt x="18397" y="17175"/>
                  </a:lnTo>
                  <a:lnTo>
                    <a:pt x="19754" y="16839"/>
                  </a:lnTo>
                  <a:lnTo>
                    <a:pt x="19474" y="15608"/>
                  </a:lnTo>
                  <a:lnTo>
                    <a:pt x="20741" y="15020"/>
                  </a:lnTo>
                  <a:lnTo>
                    <a:pt x="20284" y="13699"/>
                  </a:lnTo>
                  <a:lnTo>
                    <a:pt x="21364" y="13045"/>
                  </a:lnTo>
                  <a:lnTo>
                    <a:pt x="20663" y="11837"/>
                  </a:lnTo>
                  <a:lnTo>
                    <a:pt x="21600" y="10800"/>
                  </a:lnTo>
                  <a:lnTo>
                    <a:pt x="20679" y="9936"/>
                  </a:lnTo>
                  <a:lnTo>
                    <a:pt x="21402" y="8739"/>
                  </a:lnTo>
                  <a:lnTo>
                    <a:pt x="20333" y="8067"/>
                  </a:lnTo>
                  <a:lnTo>
                    <a:pt x="20814" y="6754"/>
                  </a:lnTo>
                  <a:lnTo>
                    <a:pt x="19556" y="6144"/>
                  </a:lnTo>
                  <a:lnTo>
                    <a:pt x="19858" y="4918"/>
                  </a:lnTo>
                  <a:lnTo>
                    <a:pt x="18507" y="4559"/>
                  </a:lnTo>
                  <a:lnTo>
                    <a:pt x="18437" y="3163"/>
                  </a:lnTo>
                  <a:lnTo>
                    <a:pt x="17175" y="3203"/>
                  </a:lnTo>
                  <a:lnTo>
                    <a:pt x="16839" y="1846"/>
                  </a:lnTo>
                  <a:lnTo>
                    <a:pt x="15608" y="2126"/>
                  </a:lnTo>
                  <a:lnTo>
                    <a:pt x="15020" y="859"/>
                  </a:lnTo>
                  <a:lnTo>
                    <a:pt x="13699" y="1316"/>
                  </a:lnTo>
                  <a:lnTo>
                    <a:pt x="13045" y="236"/>
                  </a:lnTo>
                  <a:lnTo>
                    <a:pt x="11837" y="937"/>
                  </a:lnTo>
                  <a:lnTo>
                    <a:pt x="10800" y="0"/>
                  </a:lnTo>
                  <a:lnTo>
                    <a:pt x="9936" y="921"/>
                  </a:lnTo>
                  <a:lnTo>
                    <a:pt x="8739" y="198"/>
                  </a:lnTo>
                  <a:lnTo>
                    <a:pt x="8067" y="1267"/>
                  </a:lnTo>
                  <a:lnTo>
                    <a:pt x="6754" y="786"/>
                  </a:lnTo>
                  <a:lnTo>
                    <a:pt x="6144" y="2044"/>
                  </a:lnTo>
                  <a:lnTo>
                    <a:pt x="4918" y="1742"/>
                  </a:lnTo>
                  <a:lnTo>
                    <a:pt x="4559" y="3093"/>
                  </a:lnTo>
                  <a:lnTo>
                    <a:pt x="3163" y="3163"/>
                  </a:lnTo>
                  <a:lnTo>
                    <a:pt x="3203" y="4425"/>
                  </a:lnTo>
                  <a:lnTo>
                    <a:pt x="1846" y="4761"/>
                  </a:lnTo>
                  <a:lnTo>
                    <a:pt x="2126" y="5992"/>
                  </a:lnTo>
                  <a:lnTo>
                    <a:pt x="859" y="6580"/>
                  </a:lnTo>
                  <a:lnTo>
                    <a:pt x="1316" y="7901"/>
                  </a:lnTo>
                  <a:lnTo>
                    <a:pt x="236" y="8555"/>
                  </a:lnTo>
                  <a:lnTo>
                    <a:pt x="937" y="976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74"/>
            <p:cNvSpPr/>
            <p:nvPr/>
          </p:nvSpPr>
          <p:spPr>
            <a:xfrm rot="6139800">
              <a:off x="4882680" y="5820120"/>
              <a:ext cx="49320" cy="18000"/>
            </a:xfrm>
            <a:custGeom>
              <a:avLst/>
              <a:gdLst>
                <a:gd name="textAreaLeft" fmla="*/ 8640 w 49320"/>
                <a:gd name="textAreaRight" fmla="*/ 40680 w 49320"/>
                <a:gd name="textAreaTop" fmla="*/ 2880 h 18000"/>
                <a:gd name="textAreaBottom" fmla="*/ 1512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21" y="11664"/>
                  </a:lnTo>
                  <a:lnTo>
                    <a:pt x="198" y="12861"/>
                  </a:lnTo>
                  <a:lnTo>
                    <a:pt x="1267" y="13533"/>
                  </a:lnTo>
                  <a:lnTo>
                    <a:pt x="786" y="14846"/>
                  </a:lnTo>
                  <a:lnTo>
                    <a:pt x="2044" y="15456"/>
                  </a:lnTo>
                  <a:lnTo>
                    <a:pt x="1742" y="16682"/>
                  </a:lnTo>
                  <a:lnTo>
                    <a:pt x="3093" y="17041"/>
                  </a:lnTo>
                  <a:lnTo>
                    <a:pt x="3163" y="18437"/>
                  </a:lnTo>
                  <a:lnTo>
                    <a:pt x="4425" y="18397"/>
                  </a:lnTo>
                  <a:lnTo>
                    <a:pt x="4761" y="19754"/>
                  </a:lnTo>
                  <a:lnTo>
                    <a:pt x="5992" y="19474"/>
                  </a:lnTo>
                  <a:lnTo>
                    <a:pt x="6580" y="20741"/>
                  </a:lnTo>
                  <a:lnTo>
                    <a:pt x="7901" y="20284"/>
                  </a:lnTo>
                  <a:lnTo>
                    <a:pt x="8555" y="21364"/>
                  </a:lnTo>
                  <a:lnTo>
                    <a:pt x="9763" y="20663"/>
                  </a:lnTo>
                  <a:lnTo>
                    <a:pt x="10800" y="21600"/>
                  </a:lnTo>
                  <a:lnTo>
                    <a:pt x="11664" y="20679"/>
                  </a:lnTo>
                  <a:lnTo>
                    <a:pt x="12861" y="21402"/>
                  </a:lnTo>
                  <a:lnTo>
                    <a:pt x="13533" y="20333"/>
                  </a:lnTo>
                  <a:lnTo>
                    <a:pt x="14846" y="20814"/>
                  </a:lnTo>
                  <a:lnTo>
                    <a:pt x="15456" y="19556"/>
                  </a:lnTo>
                  <a:lnTo>
                    <a:pt x="16682" y="19858"/>
                  </a:lnTo>
                  <a:lnTo>
                    <a:pt x="17041" y="18507"/>
                  </a:lnTo>
                  <a:lnTo>
                    <a:pt x="18437" y="18437"/>
                  </a:lnTo>
                  <a:lnTo>
                    <a:pt x="18397" y="17175"/>
                  </a:lnTo>
                  <a:lnTo>
                    <a:pt x="19754" y="16839"/>
                  </a:lnTo>
                  <a:lnTo>
                    <a:pt x="19474" y="15608"/>
                  </a:lnTo>
                  <a:lnTo>
                    <a:pt x="20741" y="15020"/>
                  </a:lnTo>
                  <a:lnTo>
                    <a:pt x="20284" y="13699"/>
                  </a:lnTo>
                  <a:lnTo>
                    <a:pt x="21364" y="13045"/>
                  </a:lnTo>
                  <a:lnTo>
                    <a:pt x="20663" y="11837"/>
                  </a:lnTo>
                  <a:lnTo>
                    <a:pt x="21600" y="10800"/>
                  </a:lnTo>
                  <a:lnTo>
                    <a:pt x="20679" y="9936"/>
                  </a:lnTo>
                  <a:lnTo>
                    <a:pt x="21402" y="8739"/>
                  </a:lnTo>
                  <a:lnTo>
                    <a:pt x="20333" y="8067"/>
                  </a:lnTo>
                  <a:lnTo>
                    <a:pt x="20814" y="6754"/>
                  </a:lnTo>
                  <a:lnTo>
                    <a:pt x="19556" y="6144"/>
                  </a:lnTo>
                  <a:lnTo>
                    <a:pt x="19858" y="4918"/>
                  </a:lnTo>
                  <a:lnTo>
                    <a:pt x="18507" y="4559"/>
                  </a:lnTo>
                  <a:lnTo>
                    <a:pt x="18437" y="3163"/>
                  </a:lnTo>
                  <a:lnTo>
                    <a:pt x="17175" y="3203"/>
                  </a:lnTo>
                  <a:lnTo>
                    <a:pt x="16839" y="1846"/>
                  </a:lnTo>
                  <a:lnTo>
                    <a:pt x="15608" y="2126"/>
                  </a:lnTo>
                  <a:lnTo>
                    <a:pt x="15020" y="859"/>
                  </a:lnTo>
                  <a:lnTo>
                    <a:pt x="13699" y="1316"/>
                  </a:lnTo>
                  <a:lnTo>
                    <a:pt x="13045" y="236"/>
                  </a:lnTo>
                  <a:lnTo>
                    <a:pt x="11837" y="937"/>
                  </a:lnTo>
                  <a:lnTo>
                    <a:pt x="10800" y="0"/>
                  </a:lnTo>
                  <a:lnTo>
                    <a:pt x="9936" y="921"/>
                  </a:lnTo>
                  <a:lnTo>
                    <a:pt x="8739" y="198"/>
                  </a:lnTo>
                  <a:lnTo>
                    <a:pt x="8067" y="1267"/>
                  </a:lnTo>
                  <a:lnTo>
                    <a:pt x="6754" y="786"/>
                  </a:lnTo>
                  <a:lnTo>
                    <a:pt x="6144" y="2044"/>
                  </a:lnTo>
                  <a:lnTo>
                    <a:pt x="4918" y="1742"/>
                  </a:lnTo>
                  <a:lnTo>
                    <a:pt x="4559" y="3093"/>
                  </a:lnTo>
                  <a:lnTo>
                    <a:pt x="3163" y="3163"/>
                  </a:lnTo>
                  <a:lnTo>
                    <a:pt x="3203" y="4425"/>
                  </a:lnTo>
                  <a:lnTo>
                    <a:pt x="1846" y="4761"/>
                  </a:lnTo>
                  <a:lnTo>
                    <a:pt x="2126" y="5992"/>
                  </a:lnTo>
                  <a:lnTo>
                    <a:pt x="859" y="6580"/>
                  </a:lnTo>
                  <a:lnTo>
                    <a:pt x="1316" y="7901"/>
                  </a:lnTo>
                  <a:lnTo>
                    <a:pt x="236" y="8555"/>
                  </a:lnTo>
                  <a:lnTo>
                    <a:pt x="937" y="976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75"/>
            <p:cNvSpPr/>
            <p:nvPr/>
          </p:nvSpPr>
          <p:spPr>
            <a:xfrm rot="6139800">
              <a:off x="4844160" y="5743800"/>
              <a:ext cx="135000" cy="31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76"/>
            <p:cNvSpPr/>
            <p:nvPr/>
          </p:nvSpPr>
          <p:spPr>
            <a:xfrm flipH="1">
              <a:off x="4909320" y="5681880"/>
              <a:ext cx="36000" cy="16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77"/>
            <p:cNvSpPr/>
            <p:nvPr/>
          </p:nvSpPr>
          <p:spPr>
            <a:xfrm flipH="1">
              <a:off x="4798080" y="5658120"/>
              <a:ext cx="36000" cy="16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78"/>
            <p:cNvSpPr/>
            <p:nvPr/>
          </p:nvSpPr>
          <p:spPr>
            <a:xfrm rot="6139800">
              <a:off x="4858200" y="5637960"/>
              <a:ext cx="33480" cy="9000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79"/>
            <p:cNvSpPr/>
            <p:nvPr/>
          </p:nvSpPr>
          <p:spPr>
            <a:xfrm rot="6139800">
              <a:off x="4829040" y="5770800"/>
              <a:ext cx="33480" cy="9000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0"/>
            <p:cNvSpPr/>
            <p:nvPr/>
          </p:nvSpPr>
          <p:spPr>
            <a:xfrm rot="6139800">
              <a:off x="4908600" y="5680080"/>
              <a:ext cx="39240" cy="280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1"/>
            <p:cNvSpPr/>
            <p:nvPr/>
          </p:nvSpPr>
          <p:spPr>
            <a:xfrm rot="6139800">
              <a:off x="4879440" y="5813640"/>
              <a:ext cx="39240" cy="280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82"/>
            <p:cNvSpPr/>
            <p:nvPr/>
          </p:nvSpPr>
          <p:spPr>
            <a:xfrm rot="6139800">
              <a:off x="4916160" y="5691600"/>
              <a:ext cx="41760" cy="10440"/>
            </a:xfrm>
            <a:custGeom>
              <a:avLst/>
              <a:gdLst/>
              <a:ahLst/>
              <a:rect l="l" t="t" r="r" b="b"/>
              <a:pathLst>
                <a:path w="118" h="120">
                  <a:moveTo>
                    <a:pt x="0" y="120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83"/>
            <p:cNvSpPr/>
            <p:nvPr/>
          </p:nvSpPr>
          <p:spPr>
            <a:xfrm flipH="1" rot="6139200">
              <a:off x="4886640" y="5823720"/>
              <a:ext cx="41760" cy="10440"/>
            </a:xfrm>
            <a:custGeom>
              <a:avLst/>
              <a:gdLst/>
              <a:ahLst/>
              <a:rect l="l" t="t" r="r" b="b"/>
              <a:pathLst>
                <a:path w="118" h="120">
                  <a:moveTo>
                    <a:pt x="0" y="120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Freeform 84"/>
          <p:cNvSpPr/>
          <p:nvPr/>
        </p:nvSpPr>
        <p:spPr>
          <a:xfrm>
            <a:off x="1179360" y="3170160"/>
            <a:ext cx="1435320" cy="520920"/>
          </a:xfrm>
          <a:custGeom>
            <a:avLst/>
            <a:gdLst/>
            <a:ahLst/>
            <a:rect l="l" t="t" r="r" b="b"/>
            <a:pathLst>
              <a:path w="904" h="381">
                <a:moveTo>
                  <a:pt x="0" y="381"/>
                </a:moveTo>
                <a:lnTo>
                  <a:pt x="238" y="0"/>
                </a:lnTo>
                <a:lnTo>
                  <a:pt x="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85"/>
          <p:cNvSpPr/>
          <p:nvPr/>
        </p:nvSpPr>
        <p:spPr>
          <a:xfrm>
            <a:off x="1179360" y="3500280"/>
            <a:ext cx="1435320" cy="520920"/>
          </a:xfrm>
          <a:custGeom>
            <a:avLst/>
            <a:gdLst/>
            <a:ahLst/>
            <a:rect l="l" t="t" r="r" b="b"/>
            <a:pathLst>
              <a:path w="904" h="381">
                <a:moveTo>
                  <a:pt x="0" y="381"/>
                </a:moveTo>
                <a:lnTo>
                  <a:pt x="238" y="0"/>
                </a:lnTo>
                <a:lnTo>
                  <a:pt x="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86"/>
          <p:cNvSpPr/>
          <p:nvPr/>
        </p:nvSpPr>
        <p:spPr>
          <a:xfrm>
            <a:off x="1179360" y="3840120"/>
            <a:ext cx="1435320" cy="520920"/>
          </a:xfrm>
          <a:custGeom>
            <a:avLst/>
            <a:gdLst/>
            <a:ahLst/>
            <a:rect l="l" t="t" r="r" b="b"/>
            <a:pathLst>
              <a:path w="904" h="381">
                <a:moveTo>
                  <a:pt x="0" y="381"/>
                </a:moveTo>
                <a:lnTo>
                  <a:pt x="238" y="0"/>
                </a:lnTo>
                <a:lnTo>
                  <a:pt x="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87"/>
          <p:cNvSpPr/>
          <p:nvPr/>
        </p:nvSpPr>
        <p:spPr>
          <a:xfrm>
            <a:off x="1698480" y="3013200"/>
            <a:ext cx="1255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etSweep Pum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8"/>
          <p:cNvSpPr/>
          <p:nvPr/>
        </p:nvSpPr>
        <p:spPr>
          <a:xfrm>
            <a:off x="1695960" y="3357720"/>
            <a:ext cx="172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 Flow Standing Val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9"/>
          <p:cNvSpPr/>
          <p:nvPr/>
        </p:nvSpPr>
        <p:spPr>
          <a:xfrm>
            <a:off x="1697040" y="3703680"/>
            <a:ext cx="17701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etSweep Control Val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90"/>
          <p:cNvSpPr/>
          <p:nvPr/>
        </p:nvSpPr>
        <p:spPr>
          <a:xfrm>
            <a:off x="4906800" y="5157720"/>
            <a:ext cx="588960" cy="506520"/>
          </a:xfrm>
          <a:custGeom>
            <a:avLst/>
            <a:gdLst/>
            <a:ahLst/>
            <a:rect l="l" t="t" r="r" b="b"/>
            <a:pathLst>
              <a:path w="371" h="391">
                <a:moveTo>
                  <a:pt x="0" y="391"/>
                </a:moveTo>
                <a:lnTo>
                  <a:pt x="116" y="0"/>
                </a:lnTo>
                <a:lnTo>
                  <a:pt x="371" y="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1"/>
          <p:cNvSpPr/>
          <p:nvPr/>
        </p:nvSpPr>
        <p:spPr>
          <a:xfrm>
            <a:off x="5198040" y="5029200"/>
            <a:ext cx="39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6"/>
          <p:cNvSpPr/>
          <p:nvPr/>
        </p:nvSpPr>
        <p:spPr>
          <a:xfrm rot="20400000">
            <a:off x="1090080" y="4893840"/>
            <a:ext cx="250920" cy="266760"/>
          </a:xfrm>
          <a:prstGeom prst="rect">
            <a:avLst/>
          </a:prstGeom>
          <a:gradFill rotWithShape="0">
            <a:gsLst>
              <a:gs pos="0">
                <a:srgbClr val="100300"/>
              </a:gs>
              <a:gs pos="50000">
                <a:srgbClr val="ff3300"/>
              </a:gs>
              <a:gs pos="100000">
                <a:srgbClr val="100300"/>
              </a:gs>
            </a:gsLst>
            <a:lin ang="12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93"/>
          <p:cNvGrpSpPr/>
          <p:nvPr/>
        </p:nvGrpSpPr>
        <p:grpSpPr>
          <a:xfrm>
            <a:off x="717480" y="4383360"/>
            <a:ext cx="783720" cy="600480"/>
            <a:chOff x="717480" y="4383360"/>
            <a:chExt cx="783720" cy="600480"/>
          </a:xfrm>
        </p:grpSpPr>
        <p:sp>
          <p:nvSpPr>
            <p:cNvPr id="544" name="Rectangle 94"/>
            <p:cNvSpPr/>
            <p:nvPr/>
          </p:nvSpPr>
          <p:spPr>
            <a:xfrm rot="21000000">
              <a:off x="883440" y="4418280"/>
              <a:ext cx="450000" cy="530280"/>
            </a:xfrm>
            <a:prstGeom prst="rect">
              <a:avLst/>
            </a:prstGeom>
            <a:gradFill rotWithShape="0">
              <a:gsLst>
                <a:gs pos="0">
                  <a:srgbClr val="101010"/>
                </a:gs>
                <a:gs pos="50000">
                  <a:srgbClr val="ffffff"/>
                </a:gs>
                <a:gs pos="100000">
                  <a:srgbClr val="10101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95"/>
            <p:cNvSpPr/>
            <p:nvPr/>
          </p:nvSpPr>
          <p:spPr>
            <a:xfrm rot="21000000">
              <a:off x="727200" y="4478040"/>
              <a:ext cx="725040" cy="178200"/>
            </a:xfrm>
            <a:custGeom>
              <a:avLst/>
              <a:gdLst>
                <a:gd name="textAreaLeft" fmla="*/ 103320 w 725040"/>
                <a:gd name="textAreaRight" fmla="*/ 621720 w 725040"/>
                <a:gd name="textAreaTop" fmla="*/ 25560 h 178200"/>
                <a:gd name="textAreaBottom" fmla="*/ 152640 h 17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4" y="21600"/>
                  </a:lnTo>
                  <a:lnTo>
                    <a:pt x="1904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0303"/>
                </a:gs>
                <a:gs pos="50000">
                  <a:srgbClr val="333333"/>
                </a:gs>
                <a:gs pos="100000">
                  <a:srgbClr val="030303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96"/>
            <p:cNvSpPr/>
            <p:nvPr/>
          </p:nvSpPr>
          <p:spPr>
            <a:xfrm rot="21000000">
              <a:off x="766080" y="4699440"/>
              <a:ext cx="725040" cy="178200"/>
            </a:xfrm>
            <a:custGeom>
              <a:avLst/>
              <a:gdLst>
                <a:gd name="textAreaLeft" fmla="*/ 103320 w 725040"/>
                <a:gd name="textAreaRight" fmla="*/ 621720 w 725040"/>
                <a:gd name="textAreaTop" fmla="*/ 25560 h 178200"/>
                <a:gd name="textAreaBottom" fmla="*/ 152640 h 17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4" y="21600"/>
                  </a:lnTo>
                  <a:lnTo>
                    <a:pt x="1904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0303"/>
                </a:gs>
                <a:gs pos="50000">
                  <a:srgbClr val="333333"/>
                </a:gs>
                <a:gs pos="100000">
                  <a:srgbClr val="030303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Freeform 97"/>
          <p:cNvSpPr/>
          <p:nvPr/>
        </p:nvSpPr>
        <p:spPr>
          <a:xfrm>
            <a:off x="1298520" y="4186080"/>
            <a:ext cx="1033560" cy="341640"/>
          </a:xfrm>
          <a:custGeom>
            <a:avLst/>
            <a:gdLst/>
            <a:ahLst/>
            <a:rect l="l" t="t" r="r" b="b"/>
            <a:pathLst>
              <a:path w="651" h="215">
                <a:moveTo>
                  <a:pt x="0" y="215"/>
                </a:moveTo>
                <a:lnTo>
                  <a:pt x="163" y="0"/>
                </a:lnTo>
                <a:lnTo>
                  <a:pt x="651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8"/>
          <p:cNvSpPr/>
          <p:nvPr/>
        </p:nvSpPr>
        <p:spPr>
          <a:xfrm>
            <a:off x="1699920" y="4049640"/>
            <a:ext cx="787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p To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235"/>
          <p:cNvGrpSpPr/>
          <p:nvPr/>
        </p:nvGrpSpPr>
        <p:grpSpPr>
          <a:xfrm>
            <a:off x="856080" y="4367160"/>
            <a:ext cx="517680" cy="626040"/>
            <a:chOff x="856080" y="4367160"/>
            <a:chExt cx="517680" cy="626040"/>
          </a:xfrm>
        </p:grpSpPr>
        <p:grpSp>
          <p:nvGrpSpPr>
            <p:cNvPr id="550" name="Group 222"/>
            <p:cNvGrpSpPr/>
            <p:nvPr/>
          </p:nvGrpSpPr>
          <p:grpSpPr>
            <a:xfrm>
              <a:off x="1217160" y="4367160"/>
              <a:ext cx="156600" cy="557280"/>
              <a:chOff x="1217160" y="4367160"/>
              <a:chExt cx="156600" cy="557280"/>
            </a:xfrm>
          </p:grpSpPr>
          <p:sp>
            <p:nvSpPr>
              <p:cNvPr id="551" name="Freeform 223"/>
              <p:cNvSpPr/>
              <p:nvPr/>
            </p:nvSpPr>
            <p:spPr>
              <a:xfrm flipH="1" rot="4864800">
                <a:off x="1026360" y="4612320"/>
                <a:ext cx="548640" cy="61200"/>
              </a:xfrm>
              <a:custGeom>
                <a:avLst/>
                <a:gdLst>
                  <a:gd name="textAreaLeft" fmla="*/ 360 w 548640"/>
                  <a:gd name="textAreaRight" fmla="*/ 549360 w 5486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23" h="46">
                    <a:moveTo>
                      <a:pt x="0" y="0"/>
                    </a:moveTo>
                    <a:lnTo>
                      <a:pt x="25" y="34"/>
                    </a:lnTo>
                    <a:lnTo>
                      <a:pt x="253" y="46"/>
                    </a:lnTo>
                    <a:lnTo>
                      <a:pt x="323" y="6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24"/>
              <p:cNvSpPr/>
              <p:nvPr/>
            </p:nvSpPr>
            <p:spPr>
              <a:xfrm flipH="1" rot="4864800">
                <a:off x="1069560" y="4631760"/>
                <a:ext cx="478440" cy="51840"/>
              </a:xfrm>
              <a:custGeom>
                <a:avLst/>
                <a:gdLst>
                  <a:gd name="textAreaLeft" fmla="*/ 0 w 478440"/>
                  <a:gd name="textAreaRight" fmla="*/ 478440 w 478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39">
                    <a:moveTo>
                      <a:pt x="0" y="0"/>
                    </a:moveTo>
                    <a:lnTo>
                      <a:pt x="18" y="27"/>
                    </a:lnTo>
                    <a:lnTo>
                      <a:pt x="246" y="39"/>
                    </a:lnTo>
                    <a:lnTo>
                      <a:pt x="282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25"/>
              <p:cNvSpPr/>
              <p:nvPr/>
            </p:nvSpPr>
            <p:spPr>
              <a:xfrm flipH="1" rot="4864800">
                <a:off x="1023480" y="4626720"/>
                <a:ext cx="529560" cy="62280"/>
              </a:xfrm>
              <a:custGeom>
                <a:avLst/>
                <a:gdLst>
                  <a:gd name="textAreaLeft" fmla="*/ -360 w 529560"/>
                  <a:gd name="textAreaRight" fmla="*/ 529560 w 5295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312" h="47">
                    <a:moveTo>
                      <a:pt x="0" y="0"/>
                    </a:moveTo>
                    <a:lnTo>
                      <a:pt x="25" y="34"/>
                    </a:lnTo>
                    <a:lnTo>
                      <a:pt x="259" y="47"/>
                    </a:lnTo>
                    <a:lnTo>
                      <a:pt x="312" y="1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231"/>
            <p:cNvGrpSpPr/>
            <p:nvPr/>
          </p:nvGrpSpPr>
          <p:grpSpPr>
            <a:xfrm>
              <a:off x="856080" y="4442040"/>
              <a:ext cx="170280" cy="551160"/>
              <a:chOff x="856080" y="4442040"/>
              <a:chExt cx="170280" cy="551160"/>
            </a:xfrm>
          </p:grpSpPr>
          <p:sp>
            <p:nvSpPr>
              <p:cNvPr id="555" name="Freeform 232"/>
              <p:cNvSpPr/>
              <p:nvPr/>
            </p:nvSpPr>
            <p:spPr>
              <a:xfrm flipH="1" flipV="1" rot="4800000">
                <a:off x="659160" y="4686840"/>
                <a:ext cx="548640" cy="61200"/>
              </a:xfrm>
              <a:custGeom>
                <a:avLst/>
                <a:gdLst>
                  <a:gd name="textAreaLeft" fmla="*/ 360 w 548640"/>
                  <a:gd name="textAreaRight" fmla="*/ 549360 w 548640"/>
                  <a:gd name="textAreaTop" fmla="*/ 360 h 61200"/>
                  <a:gd name="textAreaBottom" fmla="*/ 61920 h 61200"/>
                </a:gdLst>
                <a:ahLst/>
                <a:rect l="textAreaLeft" t="textAreaTop" r="textAreaRight" b="textAreaBottom"/>
                <a:pathLst>
                  <a:path w="323" h="46">
                    <a:moveTo>
                      <a:pt x="0" y="0"/>
                    </a:moveTo>
                    <a:lnTo>
                      <a:pt x="25" y="34"/>
                    </a:lnTo>
                    <a:lnTo>
                      <a:pt x="253" y="46"/>
                    </a:lnTo>
                    <a:lnTo>
                      <a:pt x="323" y="6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33"/>
              <p:cNvSpPr/>
              <p:nvPr/>
            </p:nvSpPr>
            <p:spPr>
              <a:xfrm flipH="1" flipV="1" rot="4800000">
                <a:off x="691560" y="4707720"/>
                <a:ext cx="478440" cy="51480"/>
              </a:xfrm>
              <a:custGeom>
                <a:avLst/>
                <a:gdLst>
                  <a:gd name="textAreaLeft" fmla="*/ 0 w 478440"/>
                  <a:gd name="textAreaRight" fmla="*/ 478440 w 478440"/>
                  <a:gd name="textAreaTop" fmla="*/ -360 h 51480"/>
                  <a:gd name="textAreaBottom" fmla="*/ 51480 h 51480"/>
                </a:gdLst>
                <a:ahLst/>
                <a:rect l="textAreaLeft" t="textAreaTop" r="textAreaRight" b="textAreaBottom"/>
                <a:pathLst>
                  <a:path w="282" h="39">
                    <a:moveTo>
                      <a:pt x="0" y="0"/>
                    </a:moveTo>
                    <a:lnTo>
                      <a:pt x="18" y="27"/>
                    </a:lnTo>
                    <a:lnTo>
                      <a:pt x="246" y="39"/>
                    </a:lnTo>
                    <a:lnTo>
                      <a:pt x="282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34"/>
              <p:cNvSpPr/>
              <p:nvPr/>
            </p:nvSpPr>
            <p:spPr>
              <a:xfrm flipH="1" flipV="1" rot="4800000">
                <a:off x="684720" y="4695120"/>
                <a:ext cx="529560" cy="62280"/>
              </a:xfrm>
              <a:custGeom>
                <a:avLst/>
                <a:gdLst>
                  <a:gd name="textAreaLeft" fmla="*/ -360 w 529560"/>
                  <a:gd name="textAreaRight" fmla="*/ 529560 w 529560"/>
                  <a:gd name="textAreaTop" fmla="*/ -360 h 62280"/>
                  <a:gd name="textAreaBottom" fmla="*/ 62280 h 62280"/>
                </a:gdLst>
                <a:ahLst/>
                <a:rect l="textAreaLeft" t="textAreaTop" r="textAreaRight" b="textAreaBottom"/>
                <a:pathLst>
                  <a:path w="312" h="47">
                    <a:moveTo>
                      <a:pt x="0" y="0"/>
                    </a:moveTo>
                    <a:lnTo>
                      <a:pt x="25" y="34"/>
                    </a:lnTo>
                    <a:lnTo>
                      <a:pt x="259" y="47"/>
                    </a:lnTo>
                    <a:lnTo>
                      <a:pt x="312" y="1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8" name="Line 99"/>
          <p:cNvSpPr/>
          <p:nvPr/>
        </p:nvSpPr>
        <p:spPr>
          <a:xfrm>
            <a:off x="907920" y="5010120"/>
            <a:ext cx="174600" cy="282600"/>
          </a:xfrm>
          <a:custGeom>
            <a:avLst/>
            <a:gdLst/>
            <a:ahLst/>
            <a:rect l="l" t="t" r="r" b="b"/>
            <a:pathLst>
              <a:path w="110" h="178">
                <a:moveTo>
                  <a:pt x="10" y="0"/>
                </a:moveTo>
                <a:cubicBezTo>
                  <a:pt x="10" y="8"/>
                  <a:pt x="0" y="27"/>
                  <a:pt x="9" y="48"/>
                </a:cubicBezTo>
                <a:cubicBezTo>
                  <a:pt x="18" y="69"/>
                  <a:pt x="47" y="105"/>
                  <a:pt x="64" y="127"/>
                </a:cubicBezTo>
                <a:cubicBezTo>
                  <a:pt x="81" y="149"/>
                  <a:pt x="101" y="168"/>
                  <a:pt x="110" y="17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99"/>
          <p:cNvSpPr/>
          <p:nvPr/>
        </p:nvSpPr>
        <p:spPr>
          <a:xfrm>
            <a:off x="1866960" y="5423040"/>
            <a:ext cx="450720" cy="107640"/>
          </a:xfrm>
          <a:custGeom>
            <a:avLst/>
            <a:gdLst/>
            <a:ahLst/>
            <a:rect l="l" t="t" r="r" b="b"/>
            <a:pathLst>
              <a:path w="284" h="68">
                <a:moveTo>
                  <a:pt x="0" y="0"/>
                </a:moveTo>
                <a:cubicBezTo>
                  <a:pt x="18" y="8"/>
                  <a:pt x="62" y="40"/>
                  <a:pt x="99" y="51"/>
                </a:cubicBezTo>
                <a:cubicBezTo>
                  <a:pt x="136" y="62"/>
                  <a:pt x="192" y="62"/>
                  <a:pt x="223" y="65"/>
                </a:cubicBezTo>
                <a:cubicBezTo>
                  <a:pt x="254" y="68"/>
                  <a:pt x="272" y="67"/>
                  <a:pt x="284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3"/>
          <p:cNvSpPr/>
          <p:nvPr/>
        </p:nvSpPr>
        <p:spPr>
          <a:xfrm>
            <a:off x="4203720" y="556560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43"/>
          <p:cNvSpPr/>
          <p:nvPr/>
        </p:nvSpPr>
        <p:spPr>
          <a:xfrm>
            <a:off x="4192560" y="58341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12"/>
          <p:cNvSpPr/>
          <p:nvPr/>
        </p:nvSpPr>
        <p:spPr>
          <a:xfrm flipH="1">
            <a:off x="2268000" y="5292720"/>
            <a:ext cx="82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13"/>
          <p:cNvSpPr/>
          <p:nvPr/>
        </p:nvSpPr>
        <p:spPr>
          <a:xfrm flipH="1">
            <a:off x="2239560" y="5925960"/>
            <a:ext cx="324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114"/>
          <p:cNvSpPr/>
          <p:nvPr/>
        </p:nvSpPr>
        <p:spPr>
          <a:xfrm>
            <a:off x="1303200" y="4687920"/>
            <a:ext cx="1033560" cy="341280"/>
          </a:xfrm>
          <a:custGeom>
            <a:avLst/>
            <a:gdLst/>
            <a:ahLst/>
            <a:rect l="l" t="t" r="r" b="b"/>
            <a:pathLst>
              <a:path w="651" h="215">
                <a:moveTo>
                  <a:pt x="0" y="215"/>
                </a:moveTo>
                <a:lnTo>
                  <a:pt x="163" y="0"/>
                </a:lnTo>
                <a:lnTo>
                  <a:pt x="651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5"/>
          <p:cNvSpPr/>
          <p:nvPr/>
        </p:nvSpPr>
        <p:spPr>
          <a:xfrm>
            <a:off x="1704960" y="4551480"/>
            <a:ext cx="787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Su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379680" y="1255680"/>
            <a:ext cx="399096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168480"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EP JetSweep™ Gen II – Version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ll Cleaning Proc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lanced, high rate clean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unning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flushing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 fluid control between 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rotate to break sand brid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1301760" y="3963960"/>
            <a:ext cx="28440" cy="343080"/>
          </a:xfrm>
          <a:custGeom>
            <a:avLst/>
            <a:gdLst/>
            <a:ahLst/>
            <a:rect l="l" t="t" r="r" b="b"/>
            <a:pathLst>
              <a:path w="18" h="216">
                <a:moveTo>
                  <a:pt x="14" y="0"/>
                </a:moveTo>
                <a:cubicBezTo>
                  <a:pt x="15" y="14"/>
                  <a:pt x="18" y="48"/>
                  <a:pt x="16" y="84"/>
                </a:cubicBezTo>
                <a:cubicBezTo>
                  <a:pt x="14" y="120"/>
                  <a:pt x="3" y="189"/>
                  <a:pt x="0" y="2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99"/>
          <p:cNvSpPr/>
          <p:nvPr/>
        </p:nvSpPr>
        <p:spPr>
          <a:xfrm>
            <a:off x="804960" y="4083120"/>
            <a:ext cx="44280" cy="328680"/>
          </a:xfrm>
          <a:custGeom>
            <a:avLst/>
            <a:gdLst/>
            <a:ahLst/>
            <a:rect l="l" t="t" r="r" b="b"/>
            <a:pathLst>
              <a:path w="28" h="207">
                <a:moveTo>
                  <a:pt x="28" y="207"/>
                </a:moveTo>
                <a:cubicBezTo>
                  <a:pt x="24" y="189"/>
                  <a:pt x="8" y="134"/>
                  <a:pt x="4" y="100"/>
                </a:cubicBezTo>
                <a:cubicBezTo>
                  <a:pt x="0" y="66"/>
                  <a:pt x="2" y="17"/>
                  <a:pt x="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99"/>
          <p:cNvSpPr/>
          <p:nvPr/>
        </p:nvSpPr>
        <p:spPr>
          <a:xfrm>
            <a:off x="1203480" y="3605040"/>
            <a:ext cx="117360" cy="214560"/>
          </a:xfrm>
          <a:custGeom>
            <a:avLst/>
            <a:gdLst/>
            <a:ahLst/>
            <a:rect l="l" t="t" r="r" b="b"/>
            <a:pathLst>
              <a:path w="78" h="135">
                <a:moveTo>
                  <a:pt x="77" y="0"/>
                </a:moveTo>
                <a:cubicBezTo>
                  <a:pt x="75" y="16"/>
                  <a:pt x="78" y="77"/>
                  <a:pt x="65" y="99"/>
                </a:cubicBezTo>
                <a:cubicBezTo>
                  <a:pt x="52" y="121"/>
                  <a:pt x="14" y="127"/>
                  <a:pt x="0" y="13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99"/>
          <p:cNvSpPr/>
          <p:nvPr/>
        </p:nvSpPr>
        <p:spPr>
          <a:xfrm flipH="1">
            <a:off x="835920" y="3619440"/>
            <a:ext cx="112680" cy="214200"/>
          </a:xfrm>
          <a:custGeom>
            <a:avLst/>
            <a:gdLst/>
            <a:ahLst/>
            <a:rect l="l" t="t" r="r" b="b"/>
            <a:pathLst>
              <a:path w="78" h="135">
                <a:moveTo>
                  <a:pt x="77" y="0"/>
                </a:moveTo>
                <a:cubicBezTo>
                  <a:pt x="75" y="16"/>
                  <a:pt x="78" y="77"/>
                  <a:pt x="65" y="99"/>
                </a:cubicBezTo>
                <a:cubicBezTo>
                  <a:pt x="52" y="121"/>
                  <a:pt x="14" y="127"/>
                  <a:pt x="0" y="13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3379680" y="1255680"/>
            <a:ext cx="3990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168480"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EP JetSweep™ 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ll Cleaning Proc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lanced, high rate clean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unning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flushing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id control between 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rotate to break sand brid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8"/>
          <p:cNvSpPr/>
          <p:nvPr/>
        </p:nvSpPr>
        <p:spPr>
          <a:xfrm>
            <a:off x="825480" y="2255760"/>
            <a:ext cx="507960" cy="1293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8"/>
          <p:cNvSpPr/>
          <p:nvPr/>
        </p:nvSpPr>
        <p:spPr>
          <a:xfrm>
            <a:off x="700200" y="3530520"/>
            <a:ext cx="744480" cy="92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18"/>
          <p:cNvSpPr/>
          <p:nvPr/>
        </p:nvSpPr>
        <p:spPr>
          <a:xfrm>
            <a:off x="1447920" y="2265480"/>
            <a:ext cx="0" cy="21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417"/>
          <p:cNvSpPr/>
          <p:nvPr/>
        </p:nvSpPr>
        <p:spPr>
          <a:xfrm>
            <a:off x="708120" y="2265480"/>
            <a:ext cx="0" cy="218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72"/>
          <p:cNvGrpSpPr/>
          <p:nvPr/>
        </p:nvGrpSpPr>
        <p:grpSpPr>
          <a:xfrm>
            <a:off x="4308480" y="5076720"/>
            <a:ext cx="4090680" cy="1270440"/>
            <a:chOff x="4308480" y="5076720"/>
            <a:chExt cx="4090680" cy="1270440"/>
          </a:xfrm>
        </p:grpSpPr>
        <p:grpSp>
          <p:nvGrpSpPr>
            <p:cNvPr id="577" name="Group 73"/>
            <p:cNvGrpSpPr/>
            <p:nvPr/>
          </p:nvGrpSpPr>
          <p:grpSpPr>
            <a:xfrm>
              <a:off x="7660800" y="5076720"/>
              <a:ext cx="67680" cy="1131120"/>
              <a:chOff x="7660800" y="5076720"/>
              <a:chExt cx="67680" cy="1131120"/>
            </a:xfrm>
          </p:grpSpPr>
          <p:sp>
            <p:nvSpPr>
              <p:cNvPr id="578" name="AutoShape 74"/>
              <p:cNvSpPr/>
              <p:nvPr/>
            </p:nvSpPr>
            <p:spPr>
              <a:xfrm>
                <a:off x="7660800" y="507672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75"/>
              <p:cNvSpPr/>
              <p:nvPr/>
            </p:nvSpPr>
            <p:spPr>
              <a:xfrm flipV="1">
                <a:off x="7660800" y="5811840"/>
                <a:ext cx="67680" cy="396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76"/>
            <p:cNvGrpSpPr/>
            <p:nvPr/>
          </p:nvGrpSpPr>
          <p:grpSpPr>
            <a:xfrm>
              <a:off x="4308480" y="5194080"/>
              <a:ext cx="67320" cy="1130760"/>
              <a:chOff x="4308480" y="5194080"/>
              <a:chExt cx="67320" cy="1130760"/>
            </a:xfrm>
          </p:grpSpPr>
          <p:sp>
            <p:nvSpPr>
              <p:cNvPr id="581" name="AutoShape 77"/>
              <p:cNvSpPr/>
              <p:nvPr/>
            </p:nvSpPr>
            <p:spPr>
              <a:xfrm>
                <a:off x="4308480" y="5194080"/>
                <a:ext cx="6732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78"/>
              <p:cNvSpPr/>
              <p:nvPr/>
            </p:nvSpPr>
            <p:spPr>
              <a:xfrm flipV="1">
                <a:off x="4308480" y="5928840"/>
                <a:ext cx="6732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79"/>
            <p:cNvGrpSpPr/>
            <p:nvPr/>
          </p:nvGrpSpPr>
          <p:grpSpPr>
            <a:xfrm>
              <a:off x="4977360" y="5194080"/>
              <a:ext cx="67680" cy="1130760"/>
              <a:chOff x="4977360" y="5194080"/>
              <a:chExt cx="67680" cy="1130760"/>
            </a:xfrm>
          </p:grpSpPr>
          <p:sp>
            <p:nvSpPr>
              <p:cNvPr id="584" name="AutoShape 80"/>
              <p:cNvSpPr/>
              <p:nvPr/>
            </p:nvSpPr>
            <p:spPr>
              <a:xfrm>
                <a:off x="4977360" y="519408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AutoShape 81"/>
              <p:cNvSpPr/>
              <p:nvPr/>
            </p:nvSpPr>
            <p:spPr>
              <a:xfrm flipV="1">
                <a:off x="4977360" y="592884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82"/>
            <p:cNvGrpSpPr/>
            <p:nvPr/>
          </p:nvGrpSpPr>
          <p:grpSpPr>
            <a:xfrm>
              <a:off x="5648400" y="5076720"/>
              <a:ext cx="67680" cy="1130760"/>
              <a:chOff x="5648400" y="5076720"/>
              <a:chExt cx="67680" cy="1130760"/>
            </a:xfrm>
          </p:grpSpPr>
          <p:sp>
            <p:nvSpPr>
              <p:cNvPr id="587" name="AutoShape 83"/>
              <p:cNvSpPr/>
              <p:nvPr/>
            </p:nvSpPr>
            <p:spPr>
              <a:xfrm>
                <a:off x="5648400" y="507672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84"/>
              <p:cNvSpPr/>
              <p:nvPr/>
            </p:nvSpPr>
            <p:spPr>
              <a:xfrm flipV="1">
                <a:off x="5648400" y="581148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85"/>
            <p:cNvGrpSpPr/>
            <p:nvPr/>
          </p:nvGrpSpPr>
          <p:grpSpPr>
            <a:xfrm>
              <a:off x="6319440" y="5216400"/>
              <a:ext cx="67320" cy="1130760"/>
              <a:chOff x="6319440" y="5216400"/>
              <a:chExt cx="67320" cy="1130760"/>
            </a:xfrm>
          </p:grpSpPr>
          <p:sp>
            <p:nvSpPr>
              <p:cNvPr id="590" name="AutoShape 86"/>
              <p:cNvSpPr/>
              <p:nvPr/>
            </p:nvSpPr>
            <p:spPr>
              <a:xfrm>
                <a:off x="6319440" y="5216400"/>
                <a:ext cx="6732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AutoShape 87"/>
              <p:cNvSpPr/>
              <p:nvPr/>
            </p:nvSpPr>
            <p:spPr>
              <a:xfrm flipV="1">
                <a:off x="6319440" y="5951160"/>
                <a:ext cx="6732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88"/>
            <p:cNvGrpSpPr/>
            <p:nvPr/>
          </p:nvGrpSpPr>
          <p:grpSpPr>
            <a:xfrm>
              <a:off x="6989760" y="5179320"/>
              <a:ext cx="67680" cy="1130760"/>
              <a:chOff x="6989760" y="5179320"/>
              <a:chExt cx="67680" cy="1130760"/>
            </a:xfrm>
          </p:grpSpPr>
          <p:sp>
            <p:nvSpPr>
              <p:cNvPr id="593" name="AutoShape 89"/>
              <p:cNvSpPr/>
              <p:nvPr/>
            </p:nvSpPr>
            <p:spPr>
              <a:xfrm>
                <a:off x="6989760" y="517932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90"/>
              <p:cNvSpPr/>
              <p:nvPr/>
            </p:nvSpPr>
            <p:spPr>
              <a:xfrm flipV="1">
                <a:off x="6989760" y="591408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91"/>
            <p:cNvGrpSpPr/>
            <p:nvPr/>
          </p:nvGrpSpPr>
          <p:grpSpPr>
            <a:xfrm>
              <a:off x="8331480" y="5172120"/>
              <a:ext cx="67680" cy="1130760"/>
              <a:chOff x="8331480" y="5172120"/>
              <a:chExt cx="67680" cy="1130760"/>
            </a:xfrm>
          </p:grpSpPr>
          <p:sp>
            <p:nvSpPr>
              <p:cNvPr id="596" name="AutoShape 92"/>
              <p:cNvSpPr/>
              <p:nvPr/>
            </p:nvSpPr>
            <p:spPr>
              <a:xfrm>
                <a:off x="8331480" y="5172120"/>
                <a:ext cx="67680" cy="39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93"/>
              <p:cNvSpPr/>
              <p:nvPr/>
            </p:nvSpPr>
            <p:spPr>
              <a:xfrm flipV="1">
                <a:off x="8331480" y="590688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36"/>
          <p:cNvGrpSpPr/>
          <p:nvPr/>
        </p:nvGrpSpPr>
        <p:grpSpPr>
          <a:xfrm>
            <a:off x="2219400" y="5460840"/>
            <a:ext cx="1321920" cy="435240"/>
            <a:chOff x="2219400" y="5460840"/>
            <a:chExt cx="1321920" cy="435240"/>
          </a:xfrm>
        </p:grpSpPr>
        <p:sp>
          <p:nvSpPr>
            <p:cNvPr id="599" name="Rectangle 37"/>
            <p:cNvSpPr/>
            <p:nvPr/>
          </p:nvSpPr>
          <p:spPr>
            <a:xfrm rot="5400000">
              <a:off x="2664360" y="5016240"/>
              <a:ext cx="432360" cy="13212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418"/>
            <p:cNvSpPr/>
            <p:nvPr/>
          </p:nvSpPr>
          <p:spPr>
            <a:xfrm flipH="1">
              <a:off x="2233440" y="5896080"/>
              <a:ext cx="130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17"/>
            <p:cNvSpPr/>
            <p:nvPr/>
          </p:nvSpPr>
          <p:spPr>
            <a:xfrm flipH="1">
              <a:off x="2219400" y="5466600"/>
              <a:ext cx="132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Rectangle 173"/>
          <p:cNvSpPr/>
          <p:nvPr/>
        </p:nvSpPr>
        <p:spPr>
          <a:xfrm rot="5400000">
            <a:off x="2866320" y="5225760"/>
            <a:ext cx="432000" cy="9018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41"/>
          <p:cNvSpPr/>
          <p:nvPr/>
        </p:nvSpPr>
        <p:spPr>
          <a:xfrm>
            <a:off x="3430440" y="5462640"/>
            <a:ext cx="5335560" cy="334800"/>
          </a:xfrm>
          <a:custGeom>
            <a:avLst/>
            <a:gdLst/>
            <a:ahLst/>
            <a:rect l="l" t="t" r="r" b="b"/>
            <a:pathLst>
              <a:path w="3266" h="205">
                <a:moveTo>
                  <a:pt x="5" y="106"/>
                </a:moveTo>
                <a:lnTo>
                  <a:pt x="0" y="34"/>
                </a:lnTo>
                <a:cubicBezTo>
                  <a:pt x="7" y="20"/>
                  <a:pt x="4" y="23"/>
                  <a:pt x="49" y="20"/>
                </a:cubicBezTo>
                <a:cubicBezTo>
                  <a:pt x="94" y="17"/>
                  <a:pt x="146" y="6"/>
                  <a:pt x="269" y="20"/>
                </a:cubicBezTo>
                <a:cubicBezTo>
                  <a:pt x="392" y="33"/>
                  <a:pt x="607" y="105"/>
                  <a:pt x="790" y="103"/>
                </a:cubicBezTo>
                <a:cubicBezTo>
                  <a:pt x="974" y="100"/>
                  <a:pt x="1177" y="0"/>
                  <a:pt x="1371" y="3"/>
                </a:cubicBezTo>
                <a:cubicBezTo>
                  <a:pt x="1565" y="5"/>
                  <a:pt x="1770" y="114"/>
                  <a:pt x="1960" y="114"/>
                </a:cubicBezTo>
                <a:cubicBezTo>
                  <a:pt x="2150" y="114"/>
                  <a:pt x="2295" y="4"/>
                  <a:pt x="2512" y="3"/>
                </a:cubicBezTo>
                <a:cubicBezTo>
                  <a:pt x="2729" y="1"/>
                  <a:pt x="3141" y="74"/>
                  <a:pt x="3266" y="108"/>
                </a:cubicBezTo>
                <a:lnTo>
                  <a:pt x="3264" y="205"/>
                </a:lnTo>
              </a:path>
            </a:pathLst>
          </a:custGeom>
          <a:solidFill>
            <a:srgbClr val="99cc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rc 44"/>
          <p:cNvSpPr/>
          <p:nvPr/>
        </p:nvSpPr>
        <p:spPr>
          <a:xfrm rot="10800000">
            <a:off x="705960" y="4443120"/>
            <a:ext cx="1600200" cy="1609560"/>
          </a:xfrm>
          <a:custGeom>
            <a:avLst/>
            <a:gdLst/>
            <a:ahLst/>
            <a:rect l="l" t="t" r="r" b="b"/>
            <a:pathLst>
              <a:path fill="none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</a:path>
              <a:path stroke="0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  <a:lnTo>
                  <a:pt x="0" y="21582"/>
                </a:lnTo>
                <a:lnTo>
                  <a:pt x="890" y="0"/>
                </a:lnTo>
                <a:close/>
              </a:path>
            </a:pathLst>
          </a:custGeom>
          <a:solidFill>
            <a:srgbClr val="3399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41"/>
          <p:cNvSpPr/>
          <p:nvPr/>
        </p:nvSpPr>
        <p:spPr>
          <a:xfrm>
            <a:off x="3427560" y="5715000"/>
            <a:ext cx="5340240" cy="363600"/>
          </a:xfrm>
          <a:custGeom>
            <a:avLst/>
            <a:gdLst/>
            <a:ahLst/>
            <a:rect l="l" t="t" r="r" b="b"/>
            <a:pathLst>
              <a:path w="3629" h="247">
                <a:moveTo>
                  <a:pt x="5" y="0"/>
                </a:moveTo>
                <a:lnTo>
                  <a:pt x="1" y="144"/>
                </a:lnTo>
                <a:cubicBezTo>
                  <a:pt x="7" y="167"/>
                  <a:pt x="0" y="140"/>
                  <a:pt x="43" y="138"/>
                </a:cubicBezTo>
                <a:cubicBezTo>
                  <a:pt x="86" y="136"/>
                  <a:pt x="122" y="115"/>
                  <a:pt x="262" y="130"/>
                </a:cubicBezTo>
                <a:cubicBezTo>
                  <a:pt x="402" y="145"/>
                  <a:pt x="670" y="228"/>
                  <a:pt x="881" y="226"/>
                </a:cubicBezTo>
                <a:cubicBezTo>
                  <a:pt x="1092" y="224"/>
                  <a:pt x="1310" y="112"/>
                  <a:pt x="1526" y="115"/>
                </a:cubicBezTo>
                <a:cubicBezTo>
                  <a:pt x="1742" y="118"/>
                  <a:pt x="1968" y="239"/>
                  <a:pt x="2179" y="239"/>
                </a:cubicBezTo>
                <a:cubicBezTo>
                  <a:pt x="2390" y="239"/>
                  <a:pt x="2582" y="122"/>
                  <a:pt x="2792" y="115"/>
                </a:cubicBezTo>
                <a:cubicBezTo>
                  <a:pt x="3002" y="108"/>
                  <a:pt x="3300" y="183"/>
                  <a:pt x="3439" y="200"/>
                </a:cubicBezTo>
                <a:cubicBezTo>
                  <a:pt x="3579" y="217"/>
                  <a:pt x="3598" y="247"/>
                  <a:pt x="3629" y="216"/>
                </a:cubicBezTo>
                <a:lnTo>
                  <a:pt x="3627" y="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41"/>
          <p:cNvSpPr/>
          <p:nvPr/>
        </p:nvSpPr>
        <p:spPr>
          <a:xfrm>
            <a:off x="3403440" y="5456160"/>
            <a:ext cx="3211560" cy="266760"/>
          </a:xfrm>
          <a:custGeom>
            <a:avLst/>
            <a:gdLst/>
            <a:ahLst/>
            <a:rect l="l" t="t" r="r" b="b"/>
            <a:pathLst>
              <a:path w="1965" h="163">
                <a:moveTo>
                  <a:pt x="0" y="137"/>
                </a:moveTo>
                <a:lnTo>
                  <a:pt x="5" y="37"/>
                </a:lnTo>
                <a:cubicBezTo>
                  <a:pt x="14" y="18"/>
                  <a:pt x="9" y="26"/>
                  <a:pt x="54" y="23"/>
                </a:cubicBezTo>
                <a:cubicBezTo>
                  <a:pt x="99" y="20"/>
                  <a:pt x="151" y="9"/>
                  <a:pt x="274" y="23"/>
                </a:cubicBezTo>
                <a:cubicBezTo>
                  <a:pt x="397" y="36"/>
                  <a:pt x="612" y="109"/>
                  <a:pt x="795" y="106"/>
                </a:cubicBezTo>
                <a:cubicBezTo>
                  <a:pt x="978" y="103"/>
                  <a:pt x="1224" y="14"/>
                  <a:pt x="1374" y="7"/>
                </a:cubicBezTo>
                <a:cubicBezTo>
                  <a:pt x="1524" y="0"/>
                  <a:pt x="1607" y="48"/>
                  <a:pt x="1698" y="65"/>
                </a:cubicBezTo>
                <a:cubicBezTo>
                  <a:pt x="1789" y="82"/>
                  <a:pt x="1877" y="103"/>
                  <a:pt x="1921" y="112"/>
                </a:cubicBezTo>
                <a:lnTo>
                  <a:pt x="1965" y="117"/>
                </a:lnTo>
                <a:lnTo>
                  <a:pt x="1959" y="163"/>
                </a:lnTo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0"/>
          <p:cNvSpPr/>
          <p:nvPr/>
        </p:nvSpPr>
        <p:spPr>
          <a:xfrm rot="5400000">
            <a:off x="3004200" y="5363280"/>
            <a:ext cx="432000" cy="6271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41"/>
          <p:cNvSpPr/>
          <p:nvPr/>
        </p:nvSpPr>
        <p:spPr>
          <a:xfrm>
            <a:off x="5664240" y="5702400"/>
            <a:ext cx="3095640" cy="392040"/>
          </a:xfrm>
          <a:custGeom>
            <a:avLst/>
            <a:gdLst/>
            <a:ahLst/>
            <a:rect l="l" t="t" r="r" b="b"/>
            <a:pathLst>
              <a:path w="1895" h="240">
                <a:moveTo>
                  <a:pt x="602" y="77"/>
                </a:moveTo>
                <a:cubicBezTo>
                  <a:pt x="502" y="82"/>
                  <a:pt x="4" y="81"/>
                  <a:pt x="2" y="107"/>
                </a:cubicBezTo>
                <a:cubicBezTo>
                  <a:pt x="0" y="133"/>
                  <a:pt x="400" y="232"/>
                  <a:pt x="590" y="232"/>
                </a:cubicBezTo>
                <a:cubicBezTo>
                  <a:pt x="780" y="232"/>
                  <a:pt x="953" y="114"/>
                  <a:pt x="1142" y="107"/>
                </a:cubicBezTo>
                <a:cubicBezTo>
                  <a:pt x="1331" y="100"/>
                  <a:pt x="1599" y="176"/>
                  <a:pt x="1724" y="193"/>
                </a:cubicBezTo>
                <a:cubicBezTo>
                  <a:pt x="1850" y="210"/>
                  <a:pt x="1867" y="240"/>
                  <a:pt x="1895" y="209"/>
                </a:cubicBezTo>
                <a:lnTo>
                  <a:pt x="1893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9"/>
          <p:cNvSpPr/>
          <p:nvPr/>
        </p:nvSpPr>
        <p:spPr>
          <a:xfrm>
            <a:off x="974880" y="2257560"/>
            <a:ext cx="209520" cy="2206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rc 69"/>
          <p:cNvSpPr/>
          <p:nvPr/>
        </p:nvSpPr>
        <p:spPr>
          <a:xfrm rot="10800000">
            <a:off x="974520" y="4449600"/>
            <a:ext cx="1128600" cy="1278000"/>
          </a:xfrm>
          <a:custGeom>
            <a:avLst/>
            <a:gdLst/>
            <a:ahLst/>
            <a:rect l="l" t="t" r="r" b="b"/>
            <a:pathLst>
              <a:path fill="none" w="21600" h="20764">
                <a:moveTo>
                  <a:pt x="5951" y="0"/>
                </a:moveTo>
                <a:cubicBezTo>
                  <a:pt x="15215" y="2655"/>
                  <a:pt x="21600" y="11126"/>
                  <a:pt x="21600" y="20764"/>
                </a:cubicBezTo>
              </a:path>
              <a:path stroke="0" w="21600" h="20764">
                <a:moveTo>
                  <a:pt x="5951" y="0"/>
                </a:moveTo>
                <a:cubicBezTo>
                  <a:pt x="15215" y="2655"/>
                  <a:pt x="21600" y="11126"/>
                  <a:pt x="21600" y="20764"/>
                </a:cubicBezTo>
                <a:lnTo>
                  <a:pt x="0" y="20764"/>
                </a:lnTo>
                <a:lnTo>
                  <a:pt x="5951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rc 97"/>
          <p:cNvSpPr/>
          <p:nvPr/>
        </p:nvSpPr>
        <p:spPr>
          <a:xfrm rot="10800000">
            <a:off x="1635120" y="4495320"/>
            <a:ext cx="635040" cy="1328760"/>
          </a:xfrm>
          <a:custGeom>
            <a:avLst/>
            <a:gdLst/>
            <a:ahLst/>
            <a:rect l="l" t="t" r="r" b="b"/>
            <a:pathLst>
              <a:path fill="none" w="10393" h="21162">
                <a:moveTo>
                  <a:pt x="4328" y="0"/>
                </a:moveTo>
                <a:cubicBezTo>
                  <a:pt x="6450" y="434"/>
                  <a:pt x="8494" y="1184"/>
                  <a:pt x="10393" y="2226"/>
                </a:cubicBezTo>
              </a:path>
              <a:path stroke="0" w="10393" h="21162">
                <a:moveTo>
                  <a:pt x="4328" y="0"/>
                </a:moveTo>
                <a:cubicBezTo>
                  <a:pt x="6450" y="434"/>
                  <a:pt x="8494" y="1184"/>
                  <a:pt x="10393" y="2226"/>
                </a:cubicBezTo>
                <a:lnTo>
                  <a:pt x="0" y="21162"/>
                </a:lnTo>
                <a:lnTo>
                  <a:pt x="432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98"/>
          <p:cNvSpPr/>
          <p:nvPr/>
        </p:nvSpPr>
        <p:spPr>
          <a:xfrm flipV="1">
            <a:off x="1068480" y="2688840"/>
            <a:ext cx="0" cy="5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99"/>
          <p:cNvSpPr/>
          <p:nvPr/>
        </p:nvSpPr>
        <p:spPr>
          <a:xfrm>
            <a:off x="900000" y="3102120"/>
            <a:ext cx="0" cy="34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00"/>
          <p:cNvSpPr/>
          <p:nvPr/>
        </p:nvSpPr>
        <p:spPr>
          <a:xfrm>
            <a:off x="1254240" y="3102120"/>
            <a:ext cx="0" cy="34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rc 101"/>
          <p:cNvSpPr/>
          <p:nvPr/>
        </p:nvSpPr>
        <p:spPr>
          <a:xfrm rot="10800000">
            <a:off x="1384200" y="4755960"/>
            <a:ext cx="611280" cy="795240"/>
          </a:xfrm>
          <a:custGeom>
            <a:avLst/>
            <a:gdLst/>
            <a:ahLst/>
            <a:rect l="l" t="t" r="r" b="b"/>
            <a:pathLst>
              <a:path fill="none" w="17206" h="19801">
                <a:moveTo>
                  <a:pt x="8630" y="-1"/>
                </a:moveTo>
                <a:cubicBezTo>
                  <a:pt x="12018" y="1476"/>
                  <a:pt x="14971" y="3798"/>
                  <a:pt x="17206" y="6742"/>
                </a:cubicBezTo>
              </a:path>
              <a:path stroke="0" w="17206" h="19801">
                <a:moveTo>
                  <a:pt x="8630" y="-1"/>
                </a:moveTo>
                <a:cubicBezTo>
                  <a:pt x="12018" y="1476"/>
                  <a:pt x="14971" y="3798"/>
                  <a:pt x="17206" y="6742"/>
                </a:cubicBezTo>
                <a:lnTo>
                  <a:pt x="0" y="19801"/>
                </a:lnTo>
                <a:lnTo>
                  <a:pt x="86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rc 102"/>
          <p:cNvSpPr/>
          <p:nvPr/>
        </p:nvSpPr>
        <p:spPr>
          <a:xfrm rot="10800000">
            <a:off x="1182240" y="4441320"/>
            <a:ext cx="987480" cy="1109880"/>
          </a:xfrm>
          <a:custGeom>
            <a:avLst/>
            <a:gdLst/>
            <a:ahLst/>
            <a:rect l="l" t="t" r="r" b="b"/>
            <a:pathLst>
              <a:path fill="none" w="21600" h="20526">
                <a:moveTo>
                  <a:pt x="6725" y="-1"/>
                </a:moveTo>
                <a:cubicBezTo>
                  <a:pt x="15599" y="2907"/>
                  <a:pt x="21600" y="11187"/>
                  <a:pt x="21600" y="20526"/>
                </a:cubicBezTo>
              </a:path>
              <a:path stroke="0" w="21600" h="20526">
                <a:moveTo>
                  <a:pt x="6725" y="-1"/>
                </a:moveTo>
                <a:cubicBezTo>
                  <a:pt x="15599" y="2907"/>
                  <a:pt x="21600" y="11187"/>
                  <a:pt x="21600" y="20526"/>
                </a:cubicBezTo>
                <a:lnTo>
                  <a:pt x="0" y="20526"/>
                </a:lnTo>
                <a:lnTo>
                  <a:pt x="6725" y="-1"/>
                </a:lnTo>
                <a:close/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rc 103"/>
          <p:cNvSpPr/>
          <p:nvPr/>
        </p:nvSpPr>
        <p:spPr>
          <a:xfrm rot="10800000">
            <a:off x="1508040" y="4203360"/>
            <a:ext cx="874800" cy="1268280"/>
          </a:xfrm>
          <a:custGeom>
            <a:avLst/>
            <a:gdLst/>
            <a:ahLst/>
            <a:rect l="l" t="t" r="r" b="b"/>
            <a:pathLst>
              <a:path fill="none" w="14296" h="20247">
                <a:moveTo>
                  <a:pt x="7524" y="-1"/>
                </a:moveTo>
                <a:cubicBezTo>
                  <a:pt x="10011" y="924"/>
                  <a:pt x="12306" y="2298"/>
                  <a:pt x="14296" y="4054"/>
                </a:cubicBezTo>
              </a:path>
              <a:path stroke="0" w="14296" h="20247">
                <a:moveTo>
                  <a:pt x="7524" y="-1"/>
                </a:moveTo>
                <a:cubicBezTo>
                  <a:pt x="10011" y="924"/>
                  <a:pt x="12306" y="2298"/>
                  <a:pt x="14296" y="4054"/>
                </a:cubicBezTo>
                <a:lnTo>
                  <a:pt x="0" y="20247"/>
                </a:lnTo>
                <a:lnTo>
                  <a:pt x="7524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53"/>
          <p:cNvSpPr/>
          <p:nvPr/>
        </p:nvSpPr>
        <p:spPr>
          <a:xfrm rot="21283800">
            <a:off x="5624280" y="5730480"/>
            <a:ext cx="879480" cy="1634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rc 104"/>
          <p:cNvSpPr/>
          <p:nvPr/>
        </p:nvSpPr>
        <p:spPr>
          <a:xfrm rot="10800000">
            <a:off x="1447560" y="4419720"/>
            <a:ext cx="871560" cy="884160"/>
          </a:xfrm>
          <a:custGeom>
            <a:avLst/>
            <a:gdLst/>
            <a:ahLst/>
            <a:rect l="l" t="t" r="r" b="b"/>
            <a:pathLst>
              <a:path fill="none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</a:path>
              <a:path stroke="0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  <a:lnTo>
                  <a:pt x="0" y="21578"/>
                </a:lnTo>
                <a:lnTo>
                  <a:pt x="98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174"/>
          <p:cNvGrpSpPr/>
          <p:nvPr/>
        </p:nvGrpSpPr>
        <p:grpSpPr>
          <a:xfrm>
            <a:off x="2340000" y="5467320"/>
            <a:ext cx="1192320" cy="428400"/>
            <a:chOff x="2340000" y="5467320"/>
            <a:chExt cx="1192320" cy="428400"/>
          </a:xfrm>
        </p:grpSpPr>
        <p:sp>
          <p:nvSpPr>
            <p:cNvPr id="621" name="Line 418"/>
            <p:cNvSpPr/>
            <p:nvPr/>
          </p:nvSpPr>
          <p:spPr>
            <a:xfrm flipH="1">
              <a:off x="2352600" y="5895720"/>
              <a:ext cx="117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7"/>
            <p:cNvSpPr/>
            <p:nvPr/>
          </p:nvSpPr>
          <p:spPr>
            <a:xfrm flipH="1">
              <a:off x="2340000" y="5467320"/>
              <a:ext cx="119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17"/>
          <p:cNvGrpSpPr/>
          <p:nvPr/>
        </p:nvGrpSpPr>
        <p:grpSpPr>
          <a:xfrm>
            <a:off x="784080" y="328680"/>
            <a:ext cx="2118960" cy="1983960"/>
            <a:chOff x="784080" y="328680"/>
            <a:chExt cx="2118960" cy="1983960"/>
          </a:xfrm>
        </p:grpSpPr>
        <p:pic>
          <p:nvPicPr>
            <p:cNvPr id="624" name="Picture 218" descr="thumbnail"/>
            <p:cNvPicPr/>
            <p:nvPr/>
          </p:nvPicPr>
          <p:blipFill>
            <a:blip r:embed="rId6"/>
            <a:stretch/>
          </p:blipFill>
          <p:spPr>
            <a:xfrm flipH="1" rot="120000">
              <a:off x="985680" y="357120"/>
              <a:ext cx="1674720" cy="19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Line 424"/>
            <p:cNvSpPr/>
            <p:nvPr/>
          </p:nvSpPr>
          <p:spPr>
            <a:xfrm>
              <a:off x="784080" y="2258640"/>
              <a:ext cx="21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20"/>
            <p:cNvSpPr/>
            <p:nvPr/>
          </p:nvSpPr>
          <p:spPr>
            <a:xfrm>
              <a:off x="15645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21"/>
            <p:cNvSpPr/>
            <p:nvPr/>
          </p:nvSpPr>
          <p:spPr>
            <a:xfrm>
              <a:off x="196524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222"/>
            <p:cNvSpPr/>
            <p:nvPr/>
          </p:nvSpPr>
          <p:spPr>
            <a:xfrm>
              <a:off x="20109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23"/>
            <p:cNvSpPr/>
            <p:nvPr/>
          </p:nvSpPr>
          <p:spPr>
            <a:xfrm>
              <a:off x="161208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224"/>
            <p:cNvSpPr/>
            <p:nvPr/>
          </p:nvSpPr>
          <p:spPr>
            <a:xfrm>
              <a:off x="235728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25"/>
            <p:cNvSpPr/>
            <p:nvPr/>
          </p:nvSpPr>
          <p:spPr>
            <a:xfrm>
              <a:off x="279540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26"/>
            <p:cNvSpPr/>
            <p:nvPr/>
          </p:nvSpPr>
          <p:spPr>
            <a:xfrm>
              <a:off x="20631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227"/>
            <p:cNvSpPr/>
            <p:nvPr/>
          </p:nvSpPr>
          <p:spPr>
            <a:xfrm flipH="1">
              <a:off x="17805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28"/>
            <p:cNvSpPr/>
            <p:nvPr/>
          </p:nvSpPr>
          <p:spPr>
            <a:xfrm flipH="1">
              <a:off x="182124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29"/>
            <p:cNvSpPr/>
            <p:nvPr/>
          </p:nvSpPr>
          <p:spPr>
            <a:xfrm flipH="1">
              <a:off x="25923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30"/>
            <p:cNvSpPr/>
            <p:nvPr/>
          </p:nvSpPr>
          <p:spPr>
            <a:xfrm flipH="1">
              <a:off x="144684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31"/>
            <p:cNvSpPr/>
            <p:nvPr/>
          </p:nvSpPr>
          <p:spPr>
            <a:xfrm>
              <a:off x="22935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2"/>
            <p:cNvSpPr/>
            <p:nvPr/>
          </p:nvSpPr>
          <p:spPr>
            <a:xfrm flipH="1">
              <a:off x="253872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33"/>
            <p:cNvSpPr/>
            <p:nvPr/>
          </p:nvSpPr>
          <p:spPr>
            <a:xfrm flipH="1">
              <a:off x="264312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Line 143"/>
          <p:cNvSpPr/>
          <p:nvPr/>
        </p:nvSpPr>
        <p:spPr>
          <a:xfrm>
            <a:off x="3230640" y="554688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43"/>
          <p:cNvSpPr/>
          <p:nvPr/>
        </p:nvSpPr>
        <p:spPr>
          <a:xfrm>
            <a:off x="3219480" y="581508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43"/>
          <p:cNvSpPr/>
          <p:nvPr/>
        </p:nvSpPr>
        <p:spPr>
          <a:xfrm>
            <a:off x="4465800" y="5891040"/>
            <a:ext cx="488880" cy="22320"/>
          </a:xfrm>
          <a:custGeom>
            <a:avLst/>
            <a:gdLst/>
            <a:ahLst/>
            <a:rect l="l" t="t" r="r" b="b"/>
            <a:pathLst>
              <a:path w="299" h="14">
                <a:moveTo>
                  <a:pt x="0" y="0"/>
                </a:moveTo>
                <a:cubicBezTo>
                  <a:pt x="25" y="2"/>
                  <a:pt x="102" y="14"/>
                  <a:pt x="152" y="14"/>
                </a:cubicBezTo>
                <a:cubicBezTo>
                  <a:pt x="202" y="14"/>
                  <a:pt x="269" y="3"/>
                  <a:pt x="299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78"/>
          <p:cNvGrpSpPr/>
          <p:nvPr/>
        </p:nvGrpSpPr>
        <p:grpSpPr>
          <a:xfrm>
            <a:off x="825480" y="2265480"/>
            <a:ext cx="506160" cy="2183760"/>
            <a:chOff x="825480" y="2265480"/>
            <a:chExt cx="506160" cy="2183760"/>
          </a:xfrm>
        </p:grpSpPr>
        <p:sp>
          <p:nvSpPr>
            <p:cNvPr id="644" name="Line 412"/>
            <p:cNvSpPr/>
            <p:nvPr/>
          </p:nvSpPr>
          <p:spPr>
            <a:xfrm>
              <a:off x="825480" y="2265480"/>
              <a:ext cx="0" cy="218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413"/>
            <p:cNvSpPr/>
            <p:nvPr/>
          </p:nvSpPr>
          <p:spPr>
            <a:xfrm>
              <a:off x="1331640" y="2265480"/>
              <a:ext cx="0" cy="218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Arc 44"/>
          <p:cNvSpPr/>
          <p:nvPr/>
        </p:nvSpPr>
        <p:spPr>
          <a:xfrm rot="10800000">
            <a:off x="823680" y="4438440"/>
            <a:ext cx="1306440" cy="1415880"/>
          </a:xfrm>
          <a:custGeom>
            <a:avLst/>
            <a:gdLst/>
            <a:ahLst/>
            <a:rect l="l" t="t" r="r" b="b"/>
            <a:pathLst>
              <a:path fill="none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</a:path>
              <a:path stroke="0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  <a:lnTo>
                  <a:pt x="0" y="21582"/>
                </a:lnTo>
                <a:lnTo>
                  <a:pt x="890" y="0"/>
                </a:lnTo>
                <a:close/>
              </a:path>
            </a:pathLst>
          </a:custGeom>
          <a:solidFill>
            <a:srgbClr val="33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rc 104"/>
          <p:cNvSpPr/>
          <p:nvPr/>
        </p:nvSpPr>
        <p:spPr>
          <a:xfrm rot="10800000">
            <a:off x="1452240" y="4412880"/>
            <a:ext cx="871560" cy="885960"/>
          </a:xfrm>
          <a:custGeom>
            <a:avLst/>
            <a:gdLst/>
            <a:ahLst/>
            <a:rect l="l" t="t" r="r" b="b"/>
            <a:pathLst>
              <a:path fill="none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</a:path>
              <a:path stroke="0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  <a:lnTo>
                  <a:pt x="0" y="21578"/>
                </a:lnTo>
                <a:lnTo>
                  <a:pt x="98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rc 44"/>
          <p:cNvSpPr/>
          <p:nvPr/>
        </p:nvSpPr>
        <p:spPr>
          <a:xfrm rot="10800000">
            <a:off x="1329840" y="4429080"/>
            <a:ext cx="824040" cy="1023840"/>
          </a:xfrm>
          <a:custGeom>
            <a:avLst/>
            <a:gdLst/>
            <a:ahLst/>
            <a:rect l="l" t="t" r="r" b="b"/>
            <a:pathLst>
              <a:path fill="none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</a:path>
              <a:path stroke="0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  <a:lnTo>
                  <a:pt x="0" y="21582"/>
                </a:lnTo>
                <a:lnTo>
                  <a:pt x="89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08"/>
          <p:cNvSpPr/>
          <p:nvPr/>
        </p:nvSpPr>
        <p:spPr>
          <a:xfrm>
            <a:off x="968400" y="4444920"/>
            <a:ext cx="5622840" cy="1403280"/>
          </a:xfrm>
          <a:custGeom>
            <a:avLst/>
            <a:gdLst/>
            <a:ahLst/>
            <a:rect l="l" t="t" r="r" b="b"/>
            <a:pathLst>
              <a:path w="3442" h="859">
                <a:moveTo>
                  <a:pt x="0" y="6"/>
                </a:moveTo>
                <a:lnTo>
                  <a:pt x="9" y="162"/>
                </a:lnTo>
                <a:cubicBezTo>
                  <a:pt x="34" y="244"/>
                  <a:pt x="69" y="400"/>
                  <a:pt x="150" y="498"/>
                </a:cubicBezTo>
                <a:cubicBezTo>
                  <a:pt x="231" y="596"/>
                  <a:pt x="299" y="701"/>
                  <a:pt x="492" y="750"/>
                </a:cubicBezTo>
                <a:cubicBezTo>
                  <a:pt x="685" y="799"/>
                  <a:pt x="1128" y="785"/>
                  <a:pt x="1311" y="792"/>
                </a:cubicBezTo>
                <a:cubicBezTo>
                  <a:pt x="1494" y="799"/>
                  <a:pt x="1519" y="793"/>
                  <a:pt x="1588" y="794"/>
                </a:cubicBezTo>
                <a:cubicBezTo>
                  <a:pt x="1657" y="795"/>
                  <a:pt x="1661" y="793"/>
                  <a:pt x="1728" y="796"/>
                </a:cubicBezTo>
                <a:cubicBezTo>
                  <a:pt x="1795" y="799"/>
                  <a:pt x="1898" y="810"/>
                  <a:pt x="1990" y="816"/>
                </a:cubicBezTo>
                <a:cubicBezTo>
                  <a:pt x="2082" y="821"/>
                  <a:pt x="2190" y="829"/>
                  <a:pt x="2278" y="829"/>
                </a:cubicBezTo>
                <a:cubicBezTo>
                  <a:pt x="2366" y="829"/>
                  <a:pt x="2429" y="820"/>
                  <a:pt x="2516" y="815"/>
                </a:cubicBezTo>
                <a:cubicBezTo>
                  <a:pt x="2603" y="810"/>
                  <a:pt x="2702" y="797"/>
                  <a:pt x="2800" y="801"/>
                </a:cubicBezTo>
                <a:cubicBezTo>
                  <a:pt x="2898" y="805"/>
                  <a:pt x="3038" y="838"/>
                  <a:pt x="3104" y="839"/>
                </a:cubicBezTo>
                <a:cubicBezTo>
                  <a:pt x="3170" y="840"/>
                  <a:pt x="3151" y="802"/>
                  <a:pt x="3198" y="805"/>
                </a:cubicBezTo>
                <a:cubicBezTo>
                  <a:pt x="3245" y="808"/>
                  <a:pt x="3347" y="856"/>
                  <a:pt x="3388" y="859"/>
                </a:cubicBezTo>
                <a:lnTo>
                  <a:pt x="3442" y="821"/>
                </a:lnTo>
                <a:lnTo>
                  <a:pt x="3330" y="815"/>
                </a:lnTo>
                <a:cubicBezTo>
                  <a:pt x="3285" y="807"/>
                  <a:pt x="3245" y="788"/>
                  <a:pt x="3170" y="773"/>
                </a:cubicBezTo>
                <a:cubicBezTo>
                  <a:pt x="3095" y="758"/>
                  <a:pt x="2975" y="731"/>
                  <a:pt x="2878" y="723"/>
                </a:cubicBezTo>
                <a:cubicBezTo>
                  <a:pt x="2781" y="715"/>
                  <a:pt x="2677" y="723"/>
                  <a:pt x="2590" y="727"/>
                </a:cubicBezTo>
                <a:cubicBezTo>
                  <a:pt x="2503" y="731"/>
                  <a:pt x="2428" y="746"/>
                  <a:pt x="2354" y="749"/>
                </a:cubicBezTo>
                <a:cubicBezTo>
                  <a:pt x="2280" y="752"/>
                  <a:pt x="2234" y="751"/>
                  <a:pt x="2146" y="746"/>
                </a:cubicBezTo>
                <a:cubicBezTo>
                  <a:pt x="2058" y="742"/>
                  <a:pt x="1918" y="728"/>
                  <a:pt x="1828" y="721"/>
                </a:cubicBezTo>
                <a:cubicBezTo>
                  <a:pt x="1738" y="714"/>
                  <a:pt x="1704" y="708"/>
                  <a:pt x="1608" y="705"/>
                </a:cubicBezTo>
                <a:cubicBezTo>
                  <a:pt x="1512" y="702"/>
                  <a:pt x="1434" y="714"/>
                  <a:pt x="1251" y="705"/>
                </a:cubicBezTo>
                <a:cubicBezTo>
                  <a:pt x="1068" y="696"/>
                  <a:pt x="678" y="703"/>
                  <a:pt x="507" y="648"/>
                </a:cubicBezTo>
                <a:cubicBezTo>
                  <a:pt x="336" y="593"/>
                  <a:pt x="286" y="476"/>
                  <a:pt x="222" y="375"/>
                </a:cubicBezTo>
                <a:cubicBezTo>
                  <a:pt x="158" y="274"/>
                  <a:pt x="139" y="107"/>
                  <a:pt x="123" y="45"/>
                </a:cubicBezTo>
                <a:lnTo>
                  <a:pt x="123" y="0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3"/>
          <p:cNvSpPr/>
          <p:nvPr/>
        </p:nvSpPr>
        <p:spPr>
          <a:xfrm>
            <a:off x="3568680" y="5668920"/>
            <a:ext cx="492120" cy="23760"/>
          </a:xfrm>
          <a:custGeom>
            <a:avLst/>
            <a:gdLst/>
            <a:ahLst/>
            <a:rect l="l" t="t" r="r" b="b"/>
            <a:pathLst>
              <a:path w="301" h="15">
                <a:moveTo>
                  <a:pt x="301" y="15"/>
                </a:moveTo>
                <a:cubicBezTo>
                  <a:pt x="275" y="13"/>
                  <a:pt x="192" y="4"/>
                  <a:pt x="142" y="2"/>
                </a:cubicBezTo>
                <a:cubicBezTo>
                  <a:pt x="92" y="0"/>
                  <a:pt x="30" y="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6"/>
          <p:cNvSpPr/>
          <p:nvPr/>
        </p:nvSpPr>
        <p:spPr>
          <a:xfrm>
            <a:off x="6566040" y="5657760"/>
            <a:ext cx="95040" cy="6516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87"/>
          <p:cNvSpPr/>
          <p:nvPr/>
        </p:nvSpPr>
        <p:spPr>
          <a:xfrm rot="209400">
            <a:off x="5960880" y="5613480"/>
            <a:ext cx="771480" cy="3016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88"/>
          <p:cNvGrpSpPr/>
          <p:nvPr/>
        </p:nvGrpSpPr>
        <p:grpSpPr>
          <a:xfrm>
            <a:off x="6237360" y="5608800"/>
            <a:ext cx="232560" cy="236160"/>
            <a:chOff x="6237360" y="5608800"/>
            <a:chExt cx="232560" cy="236160"/>
          </a:xfrm>
        </p:grpSpPr>
        <p:sp>
          <p:nvSpPr>
            <p:cNvPr id="654" name="AutoShape 64"/>
            <p:cNvSpPr/>
            <p:nvPr/>
          </p:nvSpPr>
          <p:spPr>
            <a:xfrm flipV="1" rot="12510600">
              <a:off x="6342480" y="5616000"/>
              <a:ext cx="838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49" y="1524"/>
                    <a:pt x="8497" y="5080"/>
                    <a:pt x="8497" y="10800"/>
                  </a:cubicBezTo>
                  <a:cubicBezTo>
                    <a:pt x="8497" y="16520"/>
                    <a:pt x="15049" y="200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65"/>
            <p:cNvSpPr/>
            <p:nvPr/>
          </p:nvSpPr>
          <p:spPr>
            <a:xfrm flipV="1" rot="3306600">
              <a:off x="6285600" y="5704200"/>
              <a:ext cx="57960" cy="14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 rot="10800000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91"/>
          <p:cNvGrpSpPr/>
          <p:nvPr/>
        </p:nvGrpSpPr>
        <p:grpSpPr>
          <a:xfrm>
            <a:off x="950760" y="3363840"/>
            <a:ext cx="250560" cy="654120"/>
            <a:chOff x="950760" y="3363840"/>
            <a:chExt cx="250560" cy="654120"/>
          </a:xfrm>
        </p:grpSpPr>
        <p:sp>
          <p:nvSpPr>
            <p:cNvPr id="657" name="Rectangle 66"/>
            <p:cNvSpPr/>
            <p:nvPr/>
          </p:nvSpPr>
          <p:spPr>
            <a:xfrm>
              <a:off x="950760" y="3363840"/>
              <a:ext cx="250560" cy="65412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50000">
                  <a:srgbClr val="808080"/>
                </a:gs>
                <a:gs pos="100000">
                  <a:srgbClr val="08080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67"/>
            <p:cNvSpPr/>
            <p:nvPr/>
          </p:nvSpPr>
          <p:spPr>
            <a:xfrm>
              <a:off x="1027440" y="3839040"/>
              <a:ext cx="96120" cy="70920"/>
            </a:xfrm>
            <a:prstGeom prst="ellipse">
              <a:avLst/>
            </a:prstGeom>
            <a:solidFill>
              <a:srgbClr val="29292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Line 99"/>
          <p:cNvSpPr/>
          <p:nvPr/>
        </p:nvSpPr>
        <p:spPr>
          <a:xfrm>
            <a:off x="760320" y="3719520"/>
            <a:ext cx="0" cy="342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00"/>
          <p:cNvSpPr/>
          <p:nvPr/>
        </p:nvSpPr>
        <p:spPr>
          <a:xfrm>
            <a:off x="1397160" y="3719520"/>
            <a:ext cx="0" cy="342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9"/>
          <p:cNvSpPr/>
          <p:nvPr/>
        </p:nvSpPr>
        <p:spPr>
          <a:xfrm>
            <a:off x="1911240" y="5813280"/>
            <a:ext cx="428760" cy="150840"/>
          </a:xfrm>
          <a:custGeom>
            <a:avLst/>
            <a:gdLst/>
            <a:ahLst/>
            <a:rect l="l" t="t" r="r" b="b"/>
            <a:pathLst>
              <a:path w="328" h="104">
                <a:moveTo>
                  <a:pt x="0" y="84"/>
                </a:moveTo>
                <a:cubicBezTo>
                  <a:pt x="18" y="85"/>
                  <a:pt x="68" y="104"/>
                  <a:pt x="110" y="93"/>
                </a:cubicBezTo>
                <a:cubicBezTo>
                  <a:pt x="152" y="82"/>
                  <a:pt x="218" y="30"/>
                  <a:pt x="254" y="15"/>
                </a:cubicBezTo>
                <a:cubicBezTo>
                  <a:pt x="290" y="0"/>
                  <a:pt x="313" y="7"/>
                  <a:pt x="328" y="5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99"/>
          <p:cNvSpPr/>
          <p:nvPr/>
        </p:nvSpPr>
        <p:spPr>
          <a:xfrm>
            <a:off x="2019240" y="5335560"/>
            <a:ext cx="258840" cy="181080"/>
          </a:xfrm>
          <a:custGeom>
            <a:avLst/>
            <a:gdLst/>
            <a:ahLst/>
            <a:rect l="l" t="t" r="r" b="b"/>
            <a:pathLst>
              <a:path w="264" h="111">
                <a:moveTo>
                  <a:pt x="0" y="0"/>
                </a:moveTo>
                <a:cubicBezTo>
                  <a:pt x="15" y="4"/>
                  <a:pt x="56" y="13"/>
                  <a:pt x="90" y="29"/>
                </a:cubicBezTo>
                <a:cubicBezTo>
                  <a:pt x="124" y="45"/>
                  <a:pt x="176" y="84"/>
                  <a:pt x="205" y="98"/>
                </a:cubicBezTo>
                <a:cubicBezTo>
                  <a:pt x="234" y="111"/>
                  <a:pt x="252" y="105"/>
                  <a:pt x="264" y="10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66"/>
          <p:cNvSpPr/>
          <p:nvPr/>
        </p:nvSpPr>
        <p:spPr>
          <a:xfrm>
            <a:off x="950760" y="3967200"/>
            <a:ext cx="250920" cy="266760"/>
          </a:xfrm>
          <a:prstGeom prst="rect">
            <a:avLst/>
          </a:prstGeom>
          <a:gradFill rotWithShape="0">
            <a:gsLst>
              <a:gs pos="0">
                <a:srgbClr val="100d00"/>
              </a:gs>
              <a:gs pos="50000">
                <a:srgbClr val="ffcc00"/>
              </a:gs>
              <a:gs pos="100000">
                <a:srgbClr val="100d00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6"/>
          <p:cNvSpPr/>
          <p:nvPr/>
        </p:nvSpPr>
        <p:spPr>
          <a:xfrm>
            <a:off x="950760" y="4191120"/>
            <a:ext cx="250920" cy="266760"/>
          </a:xfrm>
          <a:prstGeom prst="rect">
            <a:avLst/>
          </a:prstGeom>
          <a:gradFill rotWithShape="0">
            <a:gsLst>
              <a:gs pos="0">
                <a:srgbClr val="061003"/>
              </a:gs>
              <a:gs pos="50000">
                <a:srgbClr val="66ff33"/>
              </a:gs>
              <a:gs pos="100000">
                <a:srgbClr val="061003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00"/>
          <p:cNvSpPr/>
          <p:nvPr/>
        </p:nvSpPr>
        <p:spPr>
          <a:xfrm>
            <a:off x="542880" y="2259000"/>
            <a:ext cx="23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9"/>
          <p:cNvSpPr/>
          <p:nvPr/>
        </p:nvSpPr>
        <p:spPr>
          <a:xfrm>
            <a:off x="760320" y="249696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0"/>
          <p:cNvSpPr/>
          <p:nvPr/>
        </p:nvSpPr>
        <p:spPr>
          <a:xfrm>
            <a:off x="1397160" y="249696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43"/>
          <p:cNvSpPr/>
          <p:nvPr/>
        </p:nvSpPr>
        <p:spPr>
          <a:xfrm>
            <a:off x="4492800" y="5629320"/>
            <a:ext cx="487080" cy="23760"/>
          </a:xfrm>
          <a:custGeom>
            <a:avLst/>
            <a:gdLst/>
            <a:ahLst/>
            <a:rect l="l" t="t" r="r" b="b"/>
            <a:pathLst>
              <a:path w="299" h="14">
                <a:moveTo>
                  <a:pt x="0" y="0"/>
                </a:moveTo>
                <a:cubicBezTo>
                  <a:pt x="25" y="2"/>
                  <a:pt x="102" y="14"/>
                  <a:pt x="152" y="14"/>
                </a:cubicBezTo>
                <a:cubicBezTo>
                  <a:pt x="202" y="14"/>
                  <a:pt x="269" y="3"/>
                  <a:pt x="299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104"/>
          <p:cNvGrpSpPr/>
          <p:nvPr/>
        </p:nvGrpSpPr>
        <p:grpSpPr>
          <a:xfrm>
            <a:off x="5954760" y="5657040"/>
            <a:ext cx="153360" cy="198360"/>
            <a:chOff x="5954760" y="5657040"/>
            <a:chExt cx="153360" cy="198360"/>
          </a:xfrm>
        </p:grpSpPr>
        <p:sp>
          <p:nvSpPr>
            <p:cNvPr id="670" name="AutoShape 105"/>
            <p:cNvSpPr/>
            <p:nvPr/>
          </p:nvSpPr>
          <p:spPr>
            <a:xfrm rot="6139800">
              <a:off x="6069240" y="5685480"/>
              <a:ext cx="49320" cy="18000"/>
            </a:xfrm>
            <a:custGeom>
              <a:avLst/>
              <a:gdLst>
                <a:gd name="textAreaLeft" fmla="*/ 8640 w 49320"/>
                <a:gd name="textAreaRight" fmla="*/ 40680 w 49320"/>
                <a:gd name="textAreaTop" fmla="*/ 2880 h 18000"/>
                <a:gd name="textAreaBottom" fmla="*/ 1512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21" y="11664"/>
                  </a:lnTo>
                  <a:lnTo>
                    <a:pt x="198" y="12861"/>
                  </a:lnTo>
                  <a:lnTo>
                    <a:pt x="1267" y="13533"/>
                  </a:lnTo>
                  <a:lnTo>
                    <a:pt x="786" y="14846"/>
                  </a:lnTo>
                  <a:lnTo>
                    <a:pt x="2044" y="15456"/>
                  </a:lnTo>
                  <a:lnTo>
                    <a:pt x="1742" y="16682"/>
                  </a:lnTo>
                  <a:lnTo>
                    <a:pt x="3093" y="17041"/>
                  </a:lnTo>
                  <a:lnTo>
                    <a:pt x="3163" y="18437"/>
                  </a:lnTo>
                  <a:lnTo>
                    <a:pt x="4425" y="18397"/>
                  </a:lnTo>
                  <a:lnTo>
                    <a:pt x="4761" y="19754"/>
                  </a:lnTo>
                  <a:lnTo>
                    <a:pt x="5992" y="19474"/>
                  </a:lnTo>
                  <a:lnTo>
                    <a:pt x="6580" y="20741"/>
                  </a:lnTo>
                  <a:lnTo>
                    <a:pt x="7901" y="20284"/>
                  </a:lnTo>
                  <a:lnTo>
                    <a:pt x="8555" y="21364"/>
                  </a:lnTo>
                  <a:lnTo>
                    <a:pt x="9763" y="20663"/>
                  </a:lnTo>
                  <a:lnTo>
                    <a:pt x="10800" y="21600"/>
                  </a:lnTo>
                  <a:lnTo>
                    <a:pt x="11664" y="20679"/>
                  </a:lnTo>
                  <a:lnTo>
                    <a:pt x="12861" y="21402"/>
                  </a:lnTo>
                  <a:lnTo>
                    <a:pt x="13533" y="20333"/>
                  </a:lnTo>
                  <a:lnTo>
                    <a:pt x="14846" y="20814"/>
                  </a:lnTo>
                  <a:lnTo>
                    <a:pt x="15456" y="19556"/>
                  </a:lnTo>
                  <a:lnTo>
                    <a:pt x="16682" y="19858"/>
                  </a:lnTo>
                  <a:lnTo>
                    <a:pt x="17041" y="18507"/>
                  </a:lnTo>
                  <a:lnTo>
                    <a:pt x="18437" y="18437"/>
                  </a:lnTo>
                  <a:lnTo>
                    <a:pt x="18397" y="17175"/>
                  </a:lnTo>
                  <a:lnTo>
                    <a:pt x="19754" y="16839"/>
                  </a:lnTo>
                  <a:lnTo>
                    <a:pt x="19474" y="15608"/>
                  </a:lnTo>
                  <a:lnTo>
                    <a:pt x="20741" y="15020"/>
                  </a:lnTo>
                  <a:lnTo>
                    <a:pt x="20284" y="13699"/>
                  </a:lnTo>
                  <a:lnTo>
                    <a:pt x="21364" y="13045"/>
                  </a:lnTo>
                  <a:lnTo>
                    <a:pt x="20663" y="11837"/>
                  </a:lnTo>
                  <a:lnTo>
                    <a:pt x="21600" y="10800"/>
                  </a:lnTo>
                  <a:lnTo>
                    <a:pt x="20679" y="9936"/>
                  </a:lnTo>
                  <a:lnTo>
                    <a:pt x="21402" y="8739"/>
                  </a:lnTo>
                  <a:lnTo>
                    <a:pt x="20333" y="8067"/>
                  </a:lnTo>
                  <a:lnTo>
                    <a:pt x="20814" y="6754"/>
                  </a:lnTo>
                  <a:lnTo>
                    <a:pt x="19556" y="6144"/>
                  </a:lnTo>
                  <a:lnTo>
                    <a:pt x="19858" y="4918"/>
                  </a:lnTo>
                  <a:lnTo>
                    <a:pt x="18507" y="4559"/>
                  </a:lnTo>
                  <a:lnTo>
                    <a:pt x="18437" y="3163"/>
                  </a:lnTo>
                  <a:lnTo>
                    <a:pt x="17175" y="3203"/>
                  </a:lnTo>
                  <a:lnTo>
                    <a:pt x="16839" y="1846"/>
                  </a:lnTo>
                  <a:lnTo>
                    <a:pt x="15608" y="2126"/>
                  </a:lnTo>
                  <a:lnTo>
                    <a:pt x="15020" y="859"/>
                  </a:lnTo>
                  <a:lnTo>
                    <a:pt x="13699" y="1316"/>
                  </a:lnTo>
                  <a:lnTo>
                    <a:pt x="13045" y="236"/>
                  </a:lnTo>
                  <a:lnTo>
                    <a:pt x="11837" y="937"/>
                  </a:lnTo>
                  <a:lnTo>
                    <a:pt x="10800" y="0"/>
                  </a:lnTo>
                  <a:lnTo>
                    <a:pt x="9936" y="921"/>
                  </a:lnTo>
                  <a:lnTo>
                    <a:pt x="8739" y="198"/>
                  </a:lnTo>
                  <a:lnTo>
                    <a:pt x="8067" y="1267"/>
                  </a:lnTo>
                  <a:lnTo>
                    <a:pt x="6754" y="786"/>
                  </a:lnTo>
                  <a:lnTo>
                    <a:pt x="6144" y="2044"/>
                  </a:lnTo>
                  <a:lnTo>
                    <a:pt x="4918" y="1742"/>
                  </a:lnTo>
                  <a:lnTo>
                    <a:pt x="4559" y="3093"/>
                  </a:lnTo>
                  <a:lnTo>
                    <a:pt x="3163" y="3163"/>
                  </a:lnTo>
                  <a:lnTo>
                    <a:pt x="3203" y="4425"/>
                  </a:lnTo>
                  <a:lnTo>
                    <a:pt x="1846" y="4761"/>
                  </a:lnTo>
                  <a:lnTo>
                    <a:pt x="2126" y="5992"/>
                  </a:lnTo>
                  <a:lnTo>
                    <a:pt x="859" y="6580"/>
                  </a:lnTo>
                  <a:lnTo>
                    <a:pt x="1316" y="7901"/>
                  </a:lnTo>
                  <a:lnTo>
                    <a:pt x="236" y="8555"/>
                  </a:lnTo>
                  <a:lnTo>
                    <a:pt x="937" y="976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106"/>
            <p:cNvSpPr/>
            <p:nvPr/>
          </p:nvSpPr>
          <p:spPr>
            <a:xfrm rot="6139800">
              <a:off x="6039720" y="5820120"/>
              <a:ext cx="49320" cy="18000"/>
            </a:xfrm>
            <a:custGeom>
              <a:avLst/>
              <a:gdLst>
                <a:gd name="textAreaLeft" fmla="*/ 8640 w 49320"/>
                <a:gd name="textAreaRight" fmla="*/ 40680 w 49320"/>
                <a:gd name="textAreaTop" fmla="*/ 2880 h 18000"/>
                <a:gd name="textAreaBottom" fmla="*/ 1512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21" y="11664"/>
                  </a:lnTo>
                  <a:lnTo>
                    <a:pt x="198" y="12861"/>
                  </a:lnTo>
                  <a:lnTo>
                    <a:pt x="1267" y="13533"/>
                  </a:lnTo>
                  <a:lnTo>
                    <a:pt x="786" y="14846"/>
                  </a:lnTo>
                  <a:lnTo>
                    <a:pt x="2044" y="15456"/>
                  </a:lnTo>
                  <a:lnTo>
                    <a:pt x="1742" y="16682"/>
                  </a:lnTo>
                  <a:lnTo>
                    <a:pt x="3093" y="17041"/>
                  </a:lnTo>
                  <a:lnTo>
                    <a:pt x="3163" y="18437"/>
                  </a:lnTo>
                  <a:lnTo>
                    <a:pt x="4425" y="18397"/>
                  </a:lnTo>
                  <a:lnTo>
                    <a:pt x="4761" y="19754"/>
                  </a:lnTo>
                  <a:lnTo>
                    <a:pt x="5992" y="19474"/>
                  </a:lnTo>
                  <a:lnTo>
                    <a:pt x="6580" y="20741"/>
                  </a:lnTo>
                  <a:lnTo>
                    <a:pt x="7901" y="20284"/>
                  </a:lnTo>
                  <a:lnTo>
                    <a:pt x="8555" y="21364"/>
                  </a:lnTo>
                  <a:lnTo>
                    <a:pt x="9763" y="20663"/>
                  </a:lnTo>
                  <a:lnTo>
                    <a:pt x="10800" y="21600"/>
                  </a:lnTo>
                  <a:lnTo>
                    <a:pt x="11664" y="20679"/>
                  </a:lnTo>
                  <a:lnTo>
                    <a:pt x="12861" y="21402"/>
                  </a:lnTo>
                  <a:lnTo>
                    <a:pt x="13533" y="20333"/>
                  </a:lnTo>
                  <a:lnTo>
                    <a:pt x="14846" y="20814"/>
                  </a:lnTo>
                  <a:lnTo>
                    <a:pt x="15456" y="19556"/>
                  </a:lnTo>
                  <a:lnTo>
                    <a:pt x="16682" y="19858"/>
                  </a:lnTo>
                  <a:lnTo>
                    <a:pt x="17041" y="18507"/>
                  </a:lnTo>
                  <a:lnTo>
                    <a:pt x="18437" y="18437"/>
                  </a:lnTo>
                  <a:lnTo>
                    <a:pt x="18397" y="17175"/>
                  </a:lnTo>
                  <a:lnTo>
                    <a:pt x="19754" y="16839"/>
                  </a:lnTo>
                  <a:lnTo>
                    <a:pt x="19474" y="15608"/>
                  </a:lnTo>
                  <a:lnTo>
                    <a:pt x="20741" y="15020"/>
                  </a:lnTo>
                  <a:lnTo>
                    <a:pt x="20284" y="13699"/>
                  </a:lnTo>
                  <a:lnTo>
                    <a:pt x="21364" y="13045"/>
                  </a:lnTo>
                  <a:lnTo>
                    <a:pt x="20663" y="11837"/>
                  </a:lnTo>
                  <a:lnTo>
                    <a:pt x="21600" y="10800"/>
                  </a:lnTo>
                  <a:lnTo>
                    <a:pt x="20679" y="9936"/>
                  </a:lnTo>
                  <a:lnTo>
                    <a:pt x="21402" y="8739"/>
                  </a:lnTo>
                  <a:lnTo>
                    <a:pt x="20333" y="8067"/>
                  </a:lnTo>
                  <a:lnTo>
                    <a:pt x="20814" y="6754"/>
                  </a:lnTo>
                  <a:lnTo>
                    <a:pt x="19556" y="6144"/>
                  </a:lnTo>
                  <a:lnTo>
                    <a:pt x="19858" y="4918"/>
                  </a:lnTo>
                  <a:lnTo>
                    <a:pt x="18507" y="4559"/>
                  </a:lnTo>
                  <a:lnTo>
                    <a:pt x="18437" y="3163"/>
                  </a:lnTo>
                  <a:lnTo>
                    <a:pt x="17175" y="3203"/>
                  </a:lnTo>
                  <a:lnTo>
                    <a:pt x="16839" y="1846"/>
                  </a:lnTo>
                  <a:lnTo>
                    <a:pt x="15608" y="2126"/>
                  </a:lnTo>
                  <a:lnTo>
                    <a:pt x="15020" y="859"/>
                  </a:lnTo>
                  <a:lnTo>
                    <a:pt x="13699" y="1316"/>
                  </a:lnTo>
                  <a:lnTo>
                    <a:pt x="13045" y="236"/>
                  </a:lnTo>
                  <a:lnTo>
                    <a:pt x="11837" y="937"/>
                  </a:lnTo>
                  <a:lnTo>
                    <a:pt x="10800" y="0"/>
                  </a:lnTo>
                  <a:lnTo>
                    <a:pt x="9936" y="921"/>
                  </a:lnTo>
                  <a:lnTo>
                    <a:pt x="8739" y="198"/>
                  </a:lnTo>
                  <a:lnTo>
                    <a:pt x="8067" y="1267"/>
                  </a:lnTo>
                  <a:lnTo>
                    <a:pt x="6754" y="786"/>
                  </a:lnTo>
                  <a:lnTo>
                    <a:pt x="6144" y="2044"/>
                  </a:lnTo>
                  <a:lnTo>
                    <a:pt x="4918" y="1742"/>
                  </a:lnTo>
                  <a:lnTo>
                    <a:pt x="4559" y="3093"/>
                  </a:lnTo>
                  <a:lnTo>
                    <a:pt x="3163" y="3163"/>
                  </a:lnTo>
                  <a:lnTo>
                    <a:pt x="3203" y="4425"/>
                  </a:lnTo>
                  <a:lnTo>
                    <a:pt x="1846" y="4761"/>
                  </a:lnTo>
                  <a:lnTo>
                    <a:pt x="2126" y="5992"/>
                  </a:lnTo>
                  <a:lnTo>
                    <a:pt x="859" y="6580"/>
                  </a:lnTo>
                  <a:lnTo>
                    <a:pt x="1316" y="7901"/>
                  </a:lnTo>
                  <a:lnTo>
                    <a:pt x="236" y="8555"/>
                  </a:lnTo>
                  <a:lnTo>
                    <a:pt x="937" y="976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07"/>
            <p:cNvSpPr/>
            <p:nvPr/>
          </p:nvSpPr>
          <p:spPr>
            <a:xfrm rot="6139800">
              <a:off x="6000840" y="5743800"/>
              <a:ext cx="135000" cy="320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108"/>
            <p:cNvSpPr/>
            <p:nvPr/>
          </p:nvSpPr>
          <p:spPr>
            <a:xfrm flipH="1">
              <a:off x="6066360" y="5681880"/>
              <a:ext cx="36000" cy="16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09"/>
            <p:cNvSpPr/>
            <p:nvPr/>
          </p:nvSpPr>
          <p:spPr>
            <a:xfrm flipH="1">
              <a:off x="5954760" y="5658120"/>
              <a:ext cx="36000" cy="16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10"/>
            <p:cNvSpPr/>
            <p:nvPr/>
          </p:nvSpPr>
          <p:spPr>
            <a:xfrm rot="6139800">
              <a:off x="6014520" y="5637960"/>
              <a:ext cx="33480" cy="9036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11"/>
            <p:cNvSpPr/>
            <p:nvPr/>
          </p:nvSpPr>
          <p:spPr>
            <a:xfrm rot="6139800">
              <a:off x="5985360" y="5770800"/>
              <a:ext cx="33480" cy="9036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2"/>
            <p:cNvSpPr/>
            <p:nvPr/>
          </p:nvSpPr>
          <p:spPr>
            <a:xfrm rot="6139800">
              <a:off x="6065640" y="5680080"/>
              <a:ext cx="39240" cy="2844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13"/>
            <p:cNvSpPr/>
            <p:nvPr/>
          </p:nvSpPr>
          <p:spPr>
            <a:xfrm rot="6139800">
              <a:off x="6036480" y="5813640"/>
              <a:ext cx="39240" cy="2844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14"/>
            <p:cNvSpPr/>
            <p:nvPr/>
          </p:nvSpPr>
          <p:spPr>
            <a:xfrm rot="6139800">
              <a:off x="6073200" y="5691600"/>
              <a:ext cx="41760" cy="10440"/>
            </a:xfrm>
            <a:custGeom>
              <a:avLst/>
              <a:gdLst/>
              <a:ahLst/>
              <a:rect l="l" t="t" r="r" b="b"/>
              <a:pathLst>
                <a:path w="118" h="120">
                  <a:moveTo>
                    <a:pt x="0" y="120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15"/>
            <p:cNvSpPr/>
            <p:nvPr/>
          </p:nvSpPr>
          <p:spPr>
            <a:xfrm flipH="1" rot="6139200">
              <a:off x="6043680" y="5823720"/>
              <a:ext cx="41760" cy="10440"/>
            </a:xfrm>
            <a:custGeom>
              <a:avLst/>
              <a:gdLst/>
              <a:ahLst/>
              <a:rect l="l" t="t" r="r" b="b"/>
              <a:pathLst>
                <a:path w="118" h="120">
                  <a:moveTo>
                    <a:pt x="0" y="120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Freeform 116"/>
          <p:cNvSpPr/>
          <p:nvPr/>
        </p:nvSpPr>
        <p:spPr>
          <a:xfrm>
            <a:off x="1179360" y="3170160"/>
            <a:ext cx="1435320" cy="520920"/>
          </a:xfrm>
          <a:custGeom>
            <a:avLst/>
            <a:gdLst/>
            <a:ahLst/>
            <a:rect l="l" t="t" r="r" b="b"/>
            <a:pathLst>
              <a:path w="904" h="381">
                <a:moveTo>
                  <a:pt x="0" y="381"/>
                </a:moveTo>
                <a:lnTo>
                  <a:pt x="238" y="0"/>
                </a:lnTo>
                <a:lnTo>
                  <a:pt x="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17"/>
          <p:cNvSpPr/>
          <p:nvPr/>
        </p:nvSpPr>
        <p:spPr>
          <a:xfrm>
            <a:off x="1179360" y="3500280"/>
            <a:ext cx="1435320" cy="520920"/>
          </a:xfrm>
          <a:custGeom>
            <a:avLst/>
            <a:gdLst/>
            <a:ahLst/>
            <a:rect l="l" t="t" r="r" b="b"/>
            <a:pathLst>
              <a:path w="904" h="381">
                <a:moveTo>
                  <a:pt x="0" y="381"/>
                </a:moveTo>
                <a:lnTo>
                  <a:pt x="238" y="0"/>
                </a:lnTo>
                <a:lnTo>
                  <a:pt x="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18"/>
          <p:cNvSpPr/>
          <p:nvPr/>
        </p:nvSpPr>
        <p:spPr>
          <a:xfrm>
            <a:off x="1179360" y="3840120"/>
            <a:ext cx="1435320" cy="520920"/>
          </a:xfrm>
          <a:custGeom>
            <a:avLst/>
            <a:gdLst/>
            <a:ahLst/>
            <a:rect l="l" t="t" r="r" b="b"/>
            <a:pathLst>
              <a:path w="904" h="381">
                <a:moveTo>
                  <a:pt x="0" y="381"/>
                </a:moveTo>
                <a:lnTo>
                  <a:pt x="238" y="0"/>
                </a:lnTo>
                <a:lnTo>
                  <a:pt x="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19"/>
          <p:cNvSpPr/>
          <p:nvPr/>
        </p:nvSpPr>
        <p:spPr>
          <a:xfrm>
            <a:off x="1298520" y="4186080"/>
            <a:ext cx="1033560" cy="341640"/>
          </a:xfrm>
          <a:custGeom>
            <a:avLst/>
            <a:gdLst/>
            <a:ahLst/>
            <a:rect l="l" t="t" r="r" b="b"/>
            <a:pathLst>
              <a:path w="651" h="215">
                <a:moveTo>
                  <a:pt x="0" y="215"/>
                </a:moveTo>
                <a:lnTo>
                  <a:pt x="163" y="0"/>
                </a:lnTo>
                <a:lnTo>
                  <a:pt x="651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20"/>
          <p:cNvSpPr/>
          <p:nvPr/>
        </p:nvSpPr>
        <p:spPr>
          <a:xfrm>
            <a:off x="1698480" y="3013200"/>
            <a:ext cx="1255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etSweep Pum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21"/>
          <p:cNvSpPr/>
          <p:nvPr/>
        </p:nvSpPr>
        <p:spPr>
          <a:xfrm>
            <a:off x="1695960" y="3357720"/>
            <a:ext cx="172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 Flow Standing Val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2"/>
          <p:cNvSpPr/>
          <p:nvPr/>
        </p:nvSpPr>
        <p:spPr>
          <a:xfrm>
            <a:off x="1697040" y="3703680"/>
            <a:ext cx="17701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etSweep Control Val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23"/>
          <p:cNvSpPr/>
          <p:nvPr/>
        </p:nvSpPr>
        <p:spPr>
          <a:xfrm>
            <a:off x="1699920" y="4049640"/>
            <a:ext cx="787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p To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24"/>
          <p:cNvSpPr/>
          <p:nvPr/>
        </p:nvSpPr>
        <p:spPr>
          <a:xfrm>
            <a:off x="6064200" y="5170320"/>
            <a:ext cx="592200" cy="493920"/>
          </a:xfrm>
          <a:custGeom>
            <a:avLst/>
            <a:gdLst/>
            <a:ahLst/>
            <a:rect l="l" t="t" r="r" b="b"/>
            <a:pathLst>
              <a:path w="651" h="215">
                <a:moveTo>
                  <a:pt x="0" y="215"/>
                </a:moveTo>
                <a:lnTo>
                  <a:pt x="163" y="0"/>
                </a:lnTo>
                <a:lnTo>
                  <a:pt x="651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25"/>
          <p:cNvSpPr/>
          <p:nvPr/>
        </p:nvSpPr>
        <p:spPr>
          <a:xfrm>
            <a:off x="6355440" y="5046840"/>
            <a:ext cx="39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6"/>
          <p:cNvSpPr/>
          <p:nvPr/>
        </p:nvSpPr>
        <p:spPr>
          <a:xfrm rot="20220000">
            <a:off x="1074600" y="4893840"/>
            <a:ext cx="250920" cy="266760"/>
          </a:xfrm>
          <a:prstGeom prst="rect">
            <a:avLst/>
          </a:prstGeom>
          <a:gradFill rotWithShape="0">
            <a:gsLst>
              <a:gs pos="0">
                <a:srgbClr val="100300"/>
              </a:gs>
              <a:gs pos="50000">
                <a:srgbClr val="ff3300"/>
              </a:gs>
              <a:gs pos="100000">
                <a:srgbClr val="100300"/>
              </a:gs>
            </a:gsLst>
            <a:lin ang="138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31"/>
          <p:cNvSpPr/>
          <p:nvPr/>
        </p:nvSpPr>
        <p:spPr>
          <a:xfrm>
            <a:off x="1303200" y="4687920"/>
            <a:ext cx="1033560" cy="341280"/>
          </a:xfrm>
          <a:custGeom>
            <a:avLst/>
            <a:gdLst/>
            <a:ahLst/>
            <a:rect l="l" t="t" r="r" b="b"/>
            <a:pathLst>
              <a:path w="651" h="215">
                <a:moveTo>
                  <a:pt x="0" y="215"/>
                </a:moveTo>
                <a:lnTo>
                  <a:pt x="163" y="0"/>
                </a:lnTo>
                <a:lnTo>
                  <a:pt x="651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32"/>
          <p:cNvSpPr/>
          <p:nvPr/>
        </p:nvSpPr>
        <p:spPr>
          <a:xfrm>
            <a:off x="1704960" y="4551480"/>
            <a:ext cx="787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Su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33"/>
          <p:cNvGrpSpPr/>
          <p:nvPr/>
        </p:nvGrpSpPr>
        <p:grpSpPr>
          <a:xfrm>
            <a:off x="830880" y="4402800"/>
            <a:ext cx="553320" cy="562320"/>
            <a:chOff x="830880" y="4402800"/>
            <a:chExt cx="553320" cy="562320"/>
          </a:xfrm>
        </p:grpSpPr>
        <p:sp>
          <p:nvSpPr>
            <p:cNvPr id="695" name="Rectangle 134"/>
            <p:cNvSpPr/>
            <p:nvPr/>
          </p:nvSpPr>
          <p:spPr>
            <a:xfrm rot="21145200">
              <a:off x="951480" y="4421160"/>
              <a:ext cx="314280" cy="525600"/>
            </a:xfrm>
            <a:prstGeom prst="rect">
              <a:avLst/>
            </a:prstGeom>
            <a:gradFill rotWithShape="0">
              <a:gsLst>
                <a:gs pos="0">
                  <a:srgbClr val="101010"/>
                </a:gs>
                <a:gs pos="50000">
                  <a:srgbClr val="ffffff"/>
                </a:gs>
                <a:gs pos="100000">
                  <a:srgbClr val="10101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35"/>
            <p:cNvSpPr/>
            <p:nvPr/>
          </p:nvSpPr>
          <p:spPr>
            <a:xfrm rot="21145200">
              <a:off x="840240" y="4479840"/>
              <a:ext cx="504720" cy="176760"/>
            </a:xfrm>
            <a:custGeom>
              <a:avLst/>
              <a:gdLst>
                <a:gd name="textAreaLeft" fmla="*/ 72000 w 504720"/>
                <a:gd name="textAreaRight" fmla="*/ 432720 w 504720"/>
                <a:gd name="textAreaTop" fmla="*/ 25200 h 176760"/>
                <a:gd name="textAreaBottom" fmla="*/ 151560 h 17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4" y="21600"/>
                  </a:lnTo>
                  <a:lnTo>
                    <a:pt x="1904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0303"/>
                </a:gs>
                <a:gs pos="50000">
                  <a:srgbClr val="333333"/>
                </a:gs>
                <a:gs pos="100000">
                  <a:srgbClr val="030303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136"/>
            <p:cNvSpPr/>
            <p:nvPr/>
          </p:nvSpPr>
          <p:spPr>
            <a:xfrm rot="21145200">
              <a:off x="869760" y="4700880"/>
              <a:ext cx="504720" cy="176760"/>
            </a:xfrm>
            <a:custGeom>
              <a:avLst/>
              <a:gdLst>
                <a:gd name="textAreaLeft" fmla="*/ 72000 w 504720"/>
                <a:gd name="textAreaRight" fmla="*/ 432720 w 504720"/>
                <a:gd name="textAreaTop" fmla="*/ 25200 h 176760"/>
                <a:gd name="textAreaBottom" fmla="*/ 151560 h 17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4" y="21600"/>
                  </a:lnTo>
                  <a:lnTo>
                    <a:pt x="1904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0303"/>
                </a:gs>
                <a:gs pos="50000">
                  <a:srgbClr val="333333"/>
                </a:gs>
                <a:gs pos="100000">
                  <a:srgbClr val="030303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5:13:01Z</dcterms:created>
  <dc:creator>KFalk</dc:creator>
  <dc:description/>
  <dc:language>en-US</dc:language>
  <cp:lastModifiedBy>Jaclyn Schmidt</cp:lastModifiedBy>
  <cp:lastPrinted>2015-02-10T06:09:03Z</cp:lastPrinted>
  <dcterms:modified xsi:type="dcterms:W3CDTF">2018-08-24T20:01:38Z</dcterms:modified>
  <cp:revision>408</cp:revision>
  <dc:subject/>
  <dc:title>Slide 1</dc:title>
</cp:coreProperties>
</file>