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4AD5-BC58-4B77-AD33-32043D68A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1B51-3BFF-46ED-A15E-3E6F36E5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214-7990-4B9E-8CE7-D31537E2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3F1F-10C5-42DE-A89A-5A10E2F1E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A8A0-1DCE-43DE-981D-44CA6E23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B265-DC5D-4438-BBA5-6DA4FB4A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CF9F-7B62-4F80-92E5-E125135A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047E-B1DA-4C61-B61E-FB4E683B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1B8C-68AF-40EA-AF1A-235241A3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F141-D09B-4A4D-BD9F-1ECD1998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879F-0A58-4032-91A9-449EE953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5969-F69E-4FC2-8D88-D750029F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F389-4C96-443A-9C25-A7168A812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17847" r="0" b="20603"/>
          <a:stretch/>
        </p:blipFill>
        <p:spPr>
          <a:xfrm>
            <a:off x="0" y="1484280"/>
            <a:ext cx="9144000" cy="4221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9640" y="1268280"/>
            <a:ext cx="8280360" cy="100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58428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lease concentrate on the headings inside the red box for the homep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3860640"/>
            <a:ext cx="334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Please include room for 3 hero images one the homepage, one to represent each of the business areas  (see next page for an exam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ample of hero image for front of home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10 Reasons Why You Must Be At The 2009 Forum"/>
          <p:cNvPicPr/>
          <p:nvPr/>
        </p:nvPicPr>
        <p:blipFill>
          <a:blip r:embed="rId1"/>
          <a:srcRect l="2624" t="0" r="71127" b="0"/>
          <a:stretch/>
        </p:blipFill>
        <p:spPr>
          <a:xfrm>
            <a:off x="3132000" y="2205000"/>
            <a:ext cx="29527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13:59:04Z</dcterms:created>
  <dc:creator>Simon</dc:creator>
  <dc:description/>
  <dc:language>en-US</dc:language>
  <cp:lastModifiedBy>Simon</cp:lastModifiedBy>
  <dcterms:modified xsi:type="dcterms:W3CDTF">2010-02-08T14:26:57Z</dcterms:modified>
  <cp:revision>4</cp:revision>
  <dc:subject/>
  <dc:title>Slide 1</dc:title>
</cp:coreProperties>
</file>