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542-E4B8-4E96-B8A3-F79A58BA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8E6-97A7-4BB3-88AD-2D95F094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E793-9FC6-4706-BDD0-33C7DB0B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716-10BF-4060-A571-34AE9252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443-2757-4350-B87D-CB5293C6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09F2-21FB-4224-95C2-8E658521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0E6-EF1B-44CE-B485-2C591A02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A57-B29D-4ED8-B425-922F54EE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B32E-B3AD-4FC0-8A81-6E835B36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B23-9680-46B7-9727-5EBFAC4C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43A-E191-4352-BC6C-F5E822CC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C76-3653-4D67-ACE4-552B6BD0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120D-E455-43A5-AAFD-3441A3965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.au/imgres?imgurl=http://www.hope.ac.uk/images/stories/international/flags/brazil_flag.jpg&amp;imgrefurl=http://www.hope.ac.uk/international-countries/brazil.html&amp;usg=__drLuNBLrIQCO71zL3NT08GK0MiY=&amp;h=413&amp;w=596&amp;sz=27&amp;hl=en&amp;start=37&amp;um=1&amp;itbs=1&amp;tbnid=wHYsCLbxmVzC0M:&amp;tbnh=94&amp;tbnw=135&amp;prev=/images%3Fq%3Dbrazil%2Bflag%26ndsp%3D20%26hl%3Den%26sa%3DN%26start%3D20%26um%3D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.au/imgres?imgurl=http://www.ivvturkey.org/media/content/images/australia_flag.gif&amp;imgrefurl=http://www.ivvturkey.org/en/direct-member-clubs&amp;usg=__1uWahyTMlpAz6PGxWpr2nVZ5pI8=&amp;h=788&amp;w=1181&amp;sz=35&amp;hl=en&amp;start=2&amp;um=1&amp;itbs=1&amp;tbnid=l74_TgZVVdD6dM:&amp;tbnh=100&amp;tbnw=150&amp;prev=/images%3Fq%3Daustralia%2Bflag%26hl%3Den%26um%3D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images.google.com.au/imgres?imgurl=http://www.perfectmemorials.com/images/best_price_guarantee.gif&amp;imgrefurl=http://www.perfectmemorials.com/price_guarantee.php&amp;usg=__Mgx-nUrxECnFU2-eXURA54EC9mI=&amp;h=200&amp;w=200&amp;sz=17&amp;hl=en&amp;start=65&amp;itbs=1&amp;tbnid=SMYYXntMIyYJ8M:&amp;tbnh=104&amp;tbnw=104&amp;prev=/images%3Fq%3Dbest%2Bprice%2Bguaranteed%26gbv%3D2%26ndsp%3D20%26hl%3Den%26sa%3DN%26start%3D60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9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6600" y="614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9400" y="1117440"/>
            <a:ext cx="239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Sit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Hom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1-Logo and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-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-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-Fo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-Ide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Internal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70520" y="404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Site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1555920"/>
            <a:ext cx="1008000" cy="4330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433080"/>
              <a:gd name="textAreaBottom" fmla="*/ 43344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mo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09960" y="1555920"/>
            <a:ext cx="1008000" cy="4330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433080"/>
              <a:gd name="textAreaBottom" fmla="*/ 43344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6400" y="1555920"/>
            <a:ext cx="1008000" cy="4330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433080"/>
              <a:gd name="textAreaBottom" fmla="*/ 43344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9040" y="1555920"/>
            <a:ext cx="1008000" cy="4330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433080"/>
              <a:gd name="textAreaBottom" fmla="*/ 43344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ir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ick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49880" y="1555920"/>
            <a:ext cx="1008000" cy="4330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433080"/>
              <a:gd name="textAreaBottom" fmla="*/ 43344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s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00720" y="1555920"/>
            <a:ext cx="1008000" cy="4330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433080"/>
              <a:gd name="textAreaBottom" fmla="*/ 43344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n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51560" y="1555920"/>
            <a:ext cx="792360" cy="433080"/>
          </a:xfrm>
          <a:custGeom>
            <a:avLst/>
            <a:gdLst>
              <a:gd name="textAreaLeft" fmla="*/ 0 w 792360"/>
              <a:gd name="textAreaRight" fmla="*/ 792720 w 792360"/>
              <a:gd name="textAreaTop" fmla="*/ 0 h 433080"/>
              <a:gd name="textAreaBottom" fmla="*/ 43344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1555920"/>
            <a:ext cx="792360" cy="433080"/>
          </a:xfrm>
          <a:custGeom>
            <a:avLst/>
            <a:gdLst>
              <a:gd name="textAreaLeft" fmla="*/ 0 w 792360"/>
              <a:gd name="textAreaRight" fmla="*/ 792720 w 792360"/>
              <a:gd name="textAreaTop" fmla="*/ 0 h 433080"/>
              <a:gd name="textAreaBottom" fmla="*/ 43344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15200" y="1555920"/>
            <a:ext cx="792360" cy="433080"/>
          </a:xfrm>
          <a:custGeom>
            <a:avLst/>
            <a:gdLst>
              <a:gd name="textAreaLeft" fmla="*/ 0 w 792360"/>
              <a:gd name="textAreaRight" fmla="*/ 792720 w 792360"/>
              <a:gd name="textAreaTop" fmla="*/ 0 h 433080"/>
              <a:gd name="textAreaBottom" fmla="*/ 43344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3139920"/>
            <a:ext cx="1873440" cy="28908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mo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3571920"/>
            <a:ext cx="1873440" cy="28872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4003560"/>
            <a:ext cx="1873440" cy="28908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Health In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4435560"/>
            <a:ext cx="1873440" cy="28872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95560" y="2060640"/>
            <a:ext cx="1008000" cy="288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95560" y="2419200"/>
            <a:ext cx="1008000" cy="2890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lbour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560" y="2781360"/>
            <a:ext cx="1008000" cy="288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old Coa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95560" y="3141720"/>
            <a:ext cx="1008000" cy="288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95560" y="3500280"/>
            <a:ext cx="1008000" cy="2890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er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95560" y="3860640"/>
            <a:ext cx="1008000" cy="2890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elai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74840" y="2060640"/>
            <a:ext cx="1008360" cy="28872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4840" y="2419200"/>
            <a:ext cx="100836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lbour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74840" y="2781360"/>
            <a:ext cx="1008360" cy="28872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old Coa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4840" y="3141720"/>
            <a:ext cx="1008360" cy="28872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74840" y="3500280"/>
            <a:ext cx="100836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er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4840" y="3860640"/>
            <a:ext cx="100836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elai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48360" y="4867200"/>
            <a:ext cx="1873440" cy="28908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48360" y="5299200"/>
            <a:ext cx="1873440" cy="28872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p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5732640"/>
            <a:ext cx="1873440" cy="28872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6164280"/>
            <a:ext cx="1873440" cy="28908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4219560"/>
            <a:ext cx="1008000" cy="2890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4219560"/>
            <a:ext cx="1008000" cy="2890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8880" y="5805360"/>
            <a:ext cx="584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&gt; High School / Uni Students choose &gt; Parents pay $$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6145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1-Logo and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0920" y="1747800"/>
            <a:ext cx="2376360" cy="1249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3068640"/>
            <a:ext cx="871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700280"/>
            <a:ext cx="871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4005360"/>
            <a:ext cx="352440" cy="244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59640" y="3716280"/>
            <a:ext cx="347760" cy="230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052400" y="3668760"/>
            <a:ext cx="147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800 999 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800 999 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6160" y="3333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364500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 Col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116000" y="2997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27640" y="465300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708360" y="472428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clude on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148360" y="4005000"/>
            <a:ext cx="115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5084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5440" y="6145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-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6160" y="3333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14480" y="1987560"/>
            <a:ext cx="1008000" cy="4334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moco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09960" y="1987560"/>
            <a:ext cx="1008000" cy="4334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7" y="0"/>
                </a:lnTo>
                <a:lnTo>
                  <a:pt x="21600" y="10800"/>
                </a:lnTo>
                <a:lnTo>
                  <a:pt x="20137" y="21600"/>
                </a:lnTo>
                <a:lnTo>
                  <a:pt x="0" y="21600"/>
                </a:lnTo>
                <a:lnTo>
                  <a:pt x="1463" y="10800"/>
                </a:lnTo>
                <a:close/>
              </a:path>
            </a:pathLst>
          </a:custGeom>
          <a:solidFill>
            <a:srgbClr val="ccffcc"/>
          </a:solidFill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dad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46400" y="1987560"/>
            <a:ext cx="1008000" cy="4334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09" y="0"/>
                </a:lnTo>
                <a:lnTo>
                  <a:pt x="21600" y="10800"/>
                </a:lnTo>
                <a:lnTo>
                  <a:pt x="20409" y="21600"/>
                </a:lnTo>
                <a:lnTo>
                  <a:pt x="0" y="21600"/>
                </a:lnTo>
                <a:lnTo>
                  <a:pt x="1191" y="10800"/>
                </a:lnTo>
                <a:close/>
              </a:path>
            </a:pathLst>
          </a:custGeom>
          <a:solidFill>
            <a:srgbClr val="ccffcc"/>
          </a:solidFill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scol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99040" y="1987560"/>
            <a:ext cx="1008000" cy="4334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16" y="0"/>
                </a:lnTo>
                <a:lnTo>
                  <a:pt x="21600" y="10800"/>
                </a:lnTo>
                <a:lnTo>
                  <a:pt x="20716" y="21600"/>
                </a:lnTo>
                <a:lnTo>
                  <a:pt x="0" y="21600"/>
                </a:lnTo>
                <a:lnTo>
                  <a:pt x="884" y="10800"/>
                </a:lnTo>
                <a:close/>
              </a:path>
            </a:pathLst>
          </a:custGeom>
          <a:solidFill>
            <a:srgbClr val="ccffcc"/>
          </a:solidFill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ssagem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ere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49880" y="1987560"/>
            <a:ext cx="1008000" cy="4334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16" y="0"/>
                </a:lnTo>
                <a:lnTo>
                  <a:pt x="21600" y="10800"/>
                </a:lnTo>
                <a:lnTo>
                  <a:pt x="20716" y="21600"/>
                </a:lnTo>
                <a:lnTo>
                  <a:pt x="0" y="21600"/>
                </a:lnTo>
                <a:lnTo>
                  <a:pt x="884" y="10800"/>
                </a:lnTo>
                <a:close/>
              </a:path>
            </a:pathLst>
          </a:custGeom>
          <a:solidFill>
            <a:srgbClr val="ccffcc"/>
          </a:solidFill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s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00720" y="1987560"/>
            <a:ext cx="1008000" cy="4334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09" y="0"/>
                </a:lnTo>
                <a:lnTo>
                  <a:pt x="21600" y="10800"/>
                </a:lnTo>
                <a:lnTo>
                  <a:pt x="20409" y="21600"/>
                </a:lnTo>
                <a:lnTo>
                  <a:pt x="0" y="21600"/>
                </a:lnTo>
                <a:lnTo>
                  <a:pt x="1191" y="10800"/>
                </a:lnTo>
                <a:close/>
              </a:path>
            </a:pathLst>
          </a:custGeom>
          <a:solidFill>
            <a:srgbClr val="ccffcc"/>
          </a:solidFill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talhe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na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51560" y="1987560"/>
            <a:ext cx="792360" cy="433440"/>
          </a:xfrm>
          <a:custGeom>
            <a:avLst/>
            <a:gdLst>
              <a:gd name="textAreaLeft" fmla="*/ 0 w 792360"/>
              <a:gd name="textAreaRight" fmla="*/ 792720 w 7923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a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66840" y="1987560"/>
            <a:ext cx="144720" cy="14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6480" y="1987560"/>
            <a:ext cx="144360" cy="14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54480" y="1987560"/>
            <a:ext cx="144360" cy="14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560" y="1987560"/>
            <a:ext cx="144360" cy="14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57960" y="1987560"/>
            <a:ext cx="144360" cy="14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0840" y="1987560"/>
            <a:ext cx="792000" cy="433440"/>
          </a:xfrm>
          <a:custGeom>
            <a:avLst/>
            <a:gdLst>
              <a:gd name="textAreaLeft" fmla="*/ 0 w 792000"/>
              <a:gd name="textAreaRight" fmla="*/ 792360 w 792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28840" y="1555920"/>
            <a:ext cx="29772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Intercambio em 5 passos Ingles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66840" y="17859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99200" y="1785960"/>
            <a:ext cx="10080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66840" y="17445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07200" y="1744560"/>
            <a:ext cx="0" cy="716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15200" y="1987560"/>
            <a:ext cx="792360" cy="433440"/>
          </a:xfrm>
          <a:custGeom>
            <a:avLst/>
            <a:gdLst>
              <a:gd name="textAreaLeft" fmla="*/ 0 w 792360"/>
              <a:gd name="textAreaRight" fmla="*/ 792720 w 7923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789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teps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5440" y="61452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3-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6160" y="3333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649680" cy="1879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6880" y="15573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Ro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005440" y="880920"/>
            <a:ext cx="1800000" cy="25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076720" y="1268280"/>
            <a:ext cx="1165320" cy="1844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084720" y="1154160"/>
            <a:ext cx="1872000" cy="638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300720" y="1816200"/>
            <a:ext cx="885960" cy="39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6229440" y="2320920"/>
            <a:ext cx="542880" cy="314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6734160" y="2320920"/>
            <a:ext cx="523800" cy="333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7165800" y="2271600"/>
            <a:ext cx="505080" cy="409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7597800" y="2320920"/>
            <a:ext cx="390600" cy="352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006880" y="4046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qu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0"/>
          <a:srcRect l="0" t="0" r="0" b="12441"/>
          <a:stretch/>
        </p:blipFill>
        <p:spPr>
          <a:xfrm>
            <a:off x="468360" y="4869000"/>
            <a:ext cx="3057480" cy="151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0880" y="45086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quir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869000"/>
            <a:ext cx="3095640" cy="18000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989000"/>
            <a:ext cx="3527280" cy="180036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03640" y="765000"/>
            <a:ext cx="3097440" cy="23767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1"/>
          <a:stretch/>
        </p:blipFill>
        <p:spPr>
          <a:xfrm>
            <a:off x="4356000" y="4221000"/>
            <a:ext cx="2664000" cy="2246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84720" y="4149720"/>
            <a:ext cx="2808360" cy="23036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7240" y="378936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D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5440" y="61452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3-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6160" y="3333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227640" y="693720"/>
            <a:ext cx="2257560" cy="704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156360" y="1341360"/>
            <a:ext cx="2333520" cy="82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227640" y="2901960"/>
            <a:ext cx="2266920" cy="743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227640" y="2133720"/>
            <a:ext cx="2257560" cy="714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68360" y="1744560"/>
            <a:ext cx="4680000" cy="27352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6000" y="13413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ons +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539640" y="2757600"/>
            <a:ext cx="2266920" cy="742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539640" y="1844640"/>
            <a:ext cx="2257560" cy="714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2843280" y="1844640"/>
            <a:ext cx="2257200" cy="704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2771640" y="2637000"/>
            <a:ext cx="2333880" cy="828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940360" y="620640"/>
            <a:ext cx="2808360" cy="30956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2880" y="4869000"/>
            <a:ext cx="248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rice Guarant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539640" y="3651120"/>
            <a:ext cx="2257560" cy="714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2843280" y="3651120"/>
            <a:ext cx="22572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4360" y="6145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4-Fo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6160" y="3333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4920" y="3429000"/>
            <a:ext cx="8933040" cy="2305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283080" y="15048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 Lo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300720" y="1916280"/>
            <a:ext cx="1727280" cy="506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>
            <a:off x="6803640" y="2492280"/>
            <a:ext cx="7308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050920" y="115920"/>
            <a:ext cx="1657440" cy="873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908000" y="115920"/>
            <a:ext cx="6985080" cy="66690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380360" y="333360"/>
            <a:ext cx="1297080" cy="407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268360" y="907920"/>
            <a:ext cx="6445440" cy="638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2266920" y="1628640"/>
            <a:ext cx="3384720" cy="1806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5938920" y="1700280"/>
            <a:ext cx="2449440" cy="1887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2195640" y="5373720"/>
            <a:ext cx="2089080" cy="1219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2195640" y="3513240"/>
            <a:ext cx="2087280" cy="1716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4427640" y="3781440"/>
            <a:ext cx="4319640" cy="2527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tretch/>
        </p:blipFill>
        <p:spPr>
          <a:xfrm>
            <a:off x="6659640" y="333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5800" y="614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-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6160" y="3333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3720" y="33336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Interna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213680" y="92160"/>
            <a:ext cx="1822320" cy="67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22:16:11Z</dcterms:created>
  <dc:creator>lpinho</dc:creator>
  <dc:description/>
  <dc:language>en-US</dc:language>
  <cp:lastModifiedBy>lpinho</cp:lastModifiedBy>
  <dcterms:modified xsi:type="dcterms:W3CDTF">2009-11-24T21:08:08Z</dcterms:modified>
  <cp:revision>8</cp:revision>
  <dc:subject/>
  <dc:title>Slide 1</dc:title>
</cp:coreProperties>
</file>