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E53B-CE15-4061-9F28-DC81A3CE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823D-7E38-4642-9EBC-1EB97473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8A5A-3FB8-41F2-8DF9-3064564E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8BC4-4A4C-4DF8-B083-0D0748AE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0E11-A6FF-41DA-8068-84DDF237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C2B5-974A-4CD4-A5F2-BE5ABE03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CD87-E64B-4F91-98FC-446E4831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191E-5C26-43F4-99F7-A79A42CB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103C-66D6-4568-9103-6D824F62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B260-6491-4355-9418-F8387F15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5F9-6859-4FD0-9749-85C61CCB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F703-17D3-480F-8208-FB8E48E4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EB43-3309-4224-8A25-FBE031BA9D2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IA2"/>
          <p:cNvPicPr/>
          <p:nvPr/>
        </p:nvPicPr>
        <p:blipFill>
          <a:blip r:embed="rId1"/>
          <a:stretch/>
        </p:blipFill>
        <p:spPr>
          <a:xfrm>
            <a:off x="1619280" y="115920"/>
            <a:ext cx="5618160" cy="65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iStock_000009713453XSmall.jpg"/>
          <p:cNvPicPr/>
          <p:nvPr/>
        </p:nvPicPr>
        <p:blipFill>
          <a:blip r:embed="rId1"/>
          <a:srcRect l="0" t="16951" r="0" b="5796"/>
          <a:stretch/>
        </p:blipFill>
        <p:spPr>
          <a:xfrm>
            <a:off x="1371600" y="1828800"/>
            <a:ext cx="6095880" cy="31240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162720" y="763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 Rot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371600" y="4495680"/>
            <a:ext cx="6095880" cy="45720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is opções do pagamento em até 12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1600200" y="2286000"/>
            <a:ext cx="504720" cy="21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3"/>
          <a:stretch/>
        </p:blipFill>
        <p:spPr>
          <a:xfrm>
            <a:off x="1620720" y="1971720"/>
            <a:ext cx="385920" cy="25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1600200" y="2590920"/>
          <a:ext cx="431640" cy="23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2590920"/>
                    <a:ext cx="431640" cy="23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600200" y="2895480"/>
          <a:ext cx="431640" cy="238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00200" y="2895480"/>
                    <a:ext cx="4316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iStock_000008984693XSmall.jpg"/>
          <p:cNvPicPr/>
          <p:nvPr/>
        </p:nvPicPr>
        <p:blipFill>
          <a:blip r:embed="rId1"/>
          <a:srcRect l="0" t="16315" r="0" b="4087"/>
          <a:stretch/>
        </p:blipFill>
        <p:spPr>
          <a:xfrm>
            <a:off x="1143000" y="1905120"/>
            <a:ext cx="5640480" cy="29718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"/>
          <p:cNvSpPr/>
          <p:nvPr/>
        </p:nvSpPr>
        <p:spPr>
          <a:xfrm>
            <a:off x="162720" y="763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 Rot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143000" y="4448160"/>
            <a:ext cx="5638680" cy="44928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Black"/>
              </a:rPr>
              <a:t>Atendimento Online Sem Cobrança de Tax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684360" y="1413000"/>
          <a:ext cx="7993080" cy="17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13000"/>
                    <a:ext cx="799308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Rectangle 6"/>
          <p:cNvSpPr/>
          <p:nvPr/>
        </p:nvSpPr>
        <p:spPr>
          <a:xfrm>
            <a:off x="1110600" y="403560"/>
            <a:ext cx="17809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 especialist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 cursos de Inglê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081080" y="4437000"/>
            <a:ext cx="706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ício    |   Sobre Nós    |   Cidades   |    Escolas   |    Matricule-se     |   FAQ     |      B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1369080" y="3573360"/>
            <a:ext cx="75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Passos - 1 Escolha Cidade - 2 Escolha Escola - 3 Escolha Duração - 4 Matricule-se On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5718240" y="475200"/>
            <a:ext cx="20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gue Grátis - 24 Hora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2340000" y="907920"/>
            <a:ext cx="1079640" cy="649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6804000" y="765000"/>
            <a:ext cx="289080" cy="64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AutoShape 12"/>
          <p:cNvCxnSpPr>
            <a:stCxn id="46" idx="1"/>
            <a:endCxn id="51" idx="1"/>
          </p:cNvCxnSpPr>
          <p:nvPr/>
        </p:nvCxnSpPr>
        <p:spPr>
          <a:xfrm flipH="1" rot="10800000">
            <a:off x="1275840" y="2925000"/>
            <a:ext cx="775440" cy="802440"/>
          </a:xfrm>
          <a:prstGeom prst="bentConnector3">
            <a:avLst>
              <a:gd name="adj1" fmla="val -29493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1" name="Rectangle 13"/>
          <p:cNvSpPr/>
          <p:nvPr/>
        </p:nvSpPr>
        <p:spPr>
          <a:xfrm>
            <a:off x="2050920" y="2781360"/>
            <a:ext cx="73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AutoShape 14"/>
          <p:cNvCxnSpPr>
            <a:stCxn id="45" idx="1"/>
            <a:endCxn id="53" idx="1"/>
          </p:cNvCxnSpPr>
          <p:nvPr/>
        </p:nvCxnSpPr>
        <p:spPr>
          <a:xfrm rot="10800000">
            <a:off x="1029600" y="2518560"/>
            <a:ext cx="86400" cy="2071080"/>
          </a:xfrm>
          <a:prstGeom prst="bentConnector3">
            <a:avLst>
              <a:gd name="adj1" fmla="val 81631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3" name="Rectangle 15"/>
          <p:cNvSpPr/>
          <p:nvPr/>
        </p:nvSpPr>
        <p:spPr>
          <a:xfrm>
            <a:off x="1030320" y="2374920"/>
            <a:ext cx="73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84360" y="189000"/>
          <a:ext cx="748800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9000"/>
                    <a:ext cx="74880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3"/>
          <p:cNvSpPr/>
          <p:nvPr/>
        </p:nvSpPr>
        <p:spPr>
          <a:xfrm>
            <a:off x="5726160" y="2726280"/>
            <a:ext cx="1224000" cy="201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dades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dne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lbour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isb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ld Coa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ela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6156000" y="22780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tação On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7381800" y="270828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390800" y="37209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ur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5437080" y="2133720"/>
            <a:ext cx="3095640" cy="2950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716360" y="217440"/>
            <a:ext cx="4248360" cy="606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 especialistas em cursos de Inglês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meira e única agência só para cursos de Inglês. Outras agências vendem inumeros tipos de cursos. A IA se dedica exclusivamente à cursos de Inglês. Se o seu curso é de Inglês, seu lugar é definitivamente aqui!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aiba mais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câmbio fácil em 4 Passos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heca o passo a passo da Inglês Austrália. Na IA o planejamento do seu intercâmbio é facil, rápido e sem complicação. Faca tudo online sem sair de casa.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lique aqui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o Online Sem Cobrança de Taxas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Inglês Austrália não cobra taxa de administração, taxa de câmbio ou qualquer outra taxa. Faça seu intercâmbio sem pagar mais caro.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lique aqui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ja a opinião de quem escolheu a IA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heca quem viajou pela Inglês Austrália e veja porque um IA é a melhor opção na escolha e planejamento do seu intercâmbio de Inglês na Austrália.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aiba mai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419640" y="404640"/>
            <a:ext cx="1174680" cy="88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3780000" y="2349360"/>
            <a:ext cx="901440" cy="90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3"/>
          <a:stretch/>
        </p:blipFill>
        <p:spPr>
          <a:xfrm>
            <a:off x="3851280" y="3789360"/>
            <a:ext cx="806400" cy="757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4"/>
          <a:stretch/>
        </p:blipFill>
        <p:spPr>
          <a:xfrm>
            <a:off x="3851280" y="4941720"/>
            <a:ext cx="808200" cy="80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179280" y="1878120"/>
          <a:ext cx="2881440" cy="220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878120"/>
                    <a:ext cx="2881440" cy="22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Line 13"/>
          <p:cNvSpPr/>
          <p:nvPr/>
        </p:nvSpPr>
        <p:spPr>
          <a:xfrm flipV="1">
            <a:off x="3059280" y="1628280"/>
            <a:ext cx="504720" cy="505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116760" y="909720"/>
          <a:ext cx="2631960" cy="45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6760" y="909720"/>
                    <a:ext cx="263196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5" descr=""/>
          <p:cNvPicPr/>
          <p:nvPr/>
        </p:nvPicPr>
        <p:blipFill>
          <a:blip r:embed="rId3"/>
          <a:stretch/>
        </p:blipFill>
        <p:spPr>
          <a:xfrm>
            <a:off x="1909800" y="4672080"/>
            <a:ext cx="677880" cy="677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4"/>
          <a:stretch/>
        </p:blipFill>
        <p:spPr>
          <a:xfrm>
            <a:off x="1015920" y="4672080"/>
            <a:ext cx="677880" cy="677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5"/>
          <a:stretch/>
        </p:blipFill>
        <p:spPr>
          <a:xfrm>
            <a:off x="2816280" y="4672080"/>
            <a:ext cx="677880" cy="677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6"/>
          <a:stretch/>
        </p:blipFill>
        <p:spPr>
          <a:xfrm>
            <a:off x="3780000" y="4654440"/>
            <a:ext cx="722160" cy="7225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9"/>
          <p:cNvSpPr/>
          <p:nvPr/>
        </p:nvSpPr>
        <p:spPr>
          <a:xfrm>
            <a:off x="341280" y="1234080"/>
            <a:ext cx="3094560" cy="15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oções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dney         A partir de AU$999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lbourne          A partir de AU$999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isbane           A partir de AU$999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ld Coast          A partir de AU$999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th              A partir de AU$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 flipH="1">
            <a:off x="4643280" y="4941720"/>
            <a:ext cx="1368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 flipH="1" flipV="1">
            <a:off x="3419280" y="1630440"/>
            <a:ext cx="2665080" cy="71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2052720" y="3144600"/>
            <a:ext cx="2879640" cy="1159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e em contato 24 h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reva sua dúvida e entraremos em contato com você em 30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4"/>
          <p:cNvSpPr/>
          <p:nvPr/>
        </p:nvSpPr>
        <p:spPr>
          <a:xfrm flipH="1">
            <a:off x="5003280" y="2854440"/>
            <a:ext cx="108108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6227640" y="4799160"/>
            <a:ext cx="1944720" cy="502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68360" y="3716280"/>
          <a:ext cx="5904000" cy="15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716280"/>
                    <a:ext cx="5904000" cy="15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95280" y="5445000"/>
          <a:ext cx="7942320" cy="73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5445000"/>
                    <a:ext cx="794232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Rectangle 4"/>
          <p:cNvSpPr/>
          <p:nvPr/>
        </p:nvSpPr>
        <p:spPr>
          <a:xfrm>
            <a:off x="3671280" y="2554200"/>
            <a:ext cx="1085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í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bre Nó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4879800" y="2554200"/>
            <a:ext cx="1215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o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ricule-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6048720" y="2554200"/>
            <a:ext cx="129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oim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7234920" y="256536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cei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 flipH="1">
            <a:off x="6659280" y="2852640"/>
            <a:ext cx="1081080" cy="26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iStock_000007808634XSmall-1.jpg"/>
          <p:cNvPicPr/>
          <p:nvPr/>
        </p:nvPicPr>
        <p:blipFill>
          <a:blip r:embed="rId1"/>
          <a:srcRect l="0" t="29240" r="0" b="4417"/>
          <a:stretch/>
        </p:blipFill>
        <p:spPr>
          <a:xfrm>
            <a:off x="1409760" y="1816200"/>
            <a:ext cx="5829120" cy="306072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162720" y="763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 Rot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403280" y="4191120"/>
            <a:ext cx="5835600" cy="68580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câmbio fácil em 4 pas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ácil, rápido e sem complicação. Faça tudo online sem sair de c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iStock_000003062789XSmall.jpg"/>
          <p:cNvPicPr/>
          <p:nvPr/>
        </p:nvPicPr>
        <p:blipFill>
          <a:blip r:embed="rId1"/>
          <a:srcRect l="0" t="26711" r="0" b="0"/>
          <a:stretch/>
        </p:blipFill>
        <p:spPr>
          <a:xfrm>
            <a:off x="1447920" y="2041560"/>
            <a:ext cx="5638680" cy="275904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162720" y="874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 Rot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447920" y="4170240"/>
            <a:ext cx="5638680" cy="6145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Black"/>
              </a:rPr>
              <a:t>Os especialistas em cursos de inglê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mai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pções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de escola -  os melhores cursos -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ços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mais baix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162720" y="763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 Rot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iStock_000001837267XSmall.jpg"/>
          <p:cNvPicPr/>
          <p:nvPr/>
        </p:nvPicPr>
        <p:blipFill>
          <a:blip r:embed="rId1"/>
          <a:srcRect l="0" t="11480" r="0" b="14053"/>
          <a:stretch/>
        </p:blipFill>
        <p:spPr>
          <a:xfrm>
            <a:off x="1692360" y="1752480"/>
            <a:ext cx="5397480" cy="26672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1676520" y="2276640"/>
            <a:ext cx="2463840" cy="158400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eja a opinião de quem escolheu a </a:t>
            </a:r>
            <a:r>
              <a:rPr b="0" lang="pt-BR" sz="2000" spc="-1" strike="noStrike">
                <a:solidFill>
                  <a:srgbClr val="ffffff"/>
                </a:solidFill>
                <a:latin typeface="Arial Black"/>
              </a:rPr>
              <a:t>Inglês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Austr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7:26:15Z</dcterms:created>
  <dc:creator>lpinho</dc:creator>
  <dc:description/>
  <dc:language>en-US</dc:language>
  <cp:lastModifiedBy>Leandro Pinho</cp:lastModifiedBy>
  <dcterms:modified xsi:type="dcterms:W3CDTF">2010-03-11T09:53:44Z</dcterms:modified>
  <cp:revision>13</cp:revision>
  <dc:subject/>
  <dc:title>Slide 1</dc:title>
</cp:coreProperties>
</file>