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9D7-E203-426F-809C-5163115A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412-AED3-4185-87A6-94AE9E9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A82-1F15-4B9C-9FF5-3F0CB739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C54-9FAC-4AC5-835B-B2934BBB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AAE-A646-4324-837C-FAE9DA2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678-41AB-4D47-B597-07BB104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CC2-D260-4EC1-9460-842565B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8F4-1AEE-4FA4-9E6A-3A41FC39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5C2-4D3A-4C8F-BC19-D27BF04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C30-4337-4141-A958-41355EE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FD6-C5C9-4C8C-B4BC-E8C4C6C0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978-E0CA-4AC4-A2A9-B52B8D1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2192A-EE85-410B-A577-12D456FC7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9FC26-A00B-42EF-BCE3-E012DC2DB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chinese-tools.com/tools/calligraphy.html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creen Shot 2013-07-30 at 06.11.27.png"/>
          <p:cNvPicPr/>
          <p:nvPr/>
        </p:nvPicPr>
        <p:blipFill>
          <a:blip r:embed="rId1"/>
          <a:stretch/>
        </p:blipFill>
        <p:spPr>
          <a:xfrm>
            <a:off x="1216080" y="816120"/>
            <a:ext cx="2890800" cy="1865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creen Shot 2013-07-30 at 05.31.43.png"/>
          <p:cNvPicPr/>
          <p:nvPr/>
        </p:nvPicPr>
        <p:blipFill>
          <a:blip r:embed="rId2"/>
          <a:stretch/>
        </p:blipFill>
        <p:spPr>
          <a:xfrm>
            <a:off x="4106880" y="816120"/>
            <a:ext cx="4456080" cy="198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creen Shot 2013-07-30 at 06.15.48.png"/>
          <p:cNvPicPr/>
          <p:nvPr/>
        </p:nvPicPr>
        <p:blipFill>
          <a:blip r:embed="rId3"/>
          <a:stretch/>
        </p:blipFill>
        <p:spPr>
          <a:xfrm>
            <a:off x="1216080" y="3102120"/>
            <a:ext cx="1944720" cy="16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Screen Shot 2013-07-30 at 06.17.58.png"/>
          <p:cNvPicPr/>
          <p:nvPr/>
        </p:nvPicPr>
        <p:blipFill>
          <a:blip r:embed="rId4"/>
          <a:stretch/>
        </p:blipFill>
        <p:spPr>
          <a:xfrm>
            <a:off x="2774880" y="3621240"/>
            <a:ext cx="1717920" cy="657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creen Shot 2013-07-30 at 06.19.01.png"/>
          <p:cNvPicPr/>
          <p:nvPr/>
        </p:nvPicPr>
        <p:blipFill>
          <a:blip r:embed="rId5"/>
          <a:stretch/>
        </p:blipFill>
        <p:spPr>
          <a:xfrm>
            <a:off x="3032280" y="4278240"/>
            <a:ext cx="1415880" cy="20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Screen Shot 2013-07-30 at 06.21.02.png"/>
          <p:cNvPicPr/>
          <p:nvPr/>
        </p:nvPicPr>
        <p:blipFill>
          <a:blip r:embed="rId6"/>
          <a:stretch/>
        </p:blipFill>
        <p:spPr>
          <a:xfrm>
            <a:off x="4365720" y="4287960"/>
            <a:ext cx="164880" cy="536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>
            <a:off x="5620680" y="42782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Japanese Character should be i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886480" y="4788000"/>
            <a:ext cx="17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The text below 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O-BAR JAPON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IZAKA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EX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4785120" y="3621240"/>
            <a:ext cx="28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The font of the logo should be ink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926880" y="301680"/>
            <a:ext cx="52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 RESTaurant BUSINESS CARD =black 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538280" y="2982960"/>
            <a:ext cx="3244680" cy="1805040"/>
          </a:xfrm>
          <a:prstGeom prst="rect">
            <a:avLst/>
          </a:prstGeom>
          <a:noFill/>
          <a:ln w="9360">
            <a:solidFill>
              <a:srgbClr val="000000">
                <a:alpha val="88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158760" y="3251160"/>
            <a:ext cx="97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V Spo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ilar to MiY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usiness C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8"/>
          <p:cNvCxnSpPr/>
          <p:nvPr/>
        </p:nvCxnSpPr>
        <p:spPr>
          <a:xfrm flipV="1">
            <a:off x="604800" y="1739520"/>
            <a:ext cx="1029600" cy="1512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4" name="Straight Arrow Connector 21"/>
          <p:cNvCxnSpPr/>
          <p:nvPr/>
        </p:nvCxnSpPr>
        <p:spPr>
          <a:xfrm>
            <a:off x="846000" y="3958920"/>
            <a:ext cx="1029600" cy="657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338280" y="2412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TAURANT BUSINESS C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 (white backgrou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85720" y="167328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さいこ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Screen Shot 2013-07-30 at 06.11.27.png"/>
          <p:cNvPicPr/>
          <p:nvPr/>
        </p:nvPicPr>
        <p:blipFill>
          <a:blip r:embed="rId1"/>
          <a:stretch/>
        </p:blipFill>
        <p:spPr>
          <a:xfrm>
            <a:off x="3397320" y="888840"/>
            <a:ext cx="2919240" cy="18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creen Shot 2013-07-30 at 06.40.52.png"/>
          <p:cNvPicPr/>
          <p:nvPr/>
        </p:nvPicPr>
        <p:blipFill>
          <a:blip r:embed="rId2"/>
          <a:stretch/>
        </p:blipFill>
        <p:spPr>
          <a:xfrm>
            <a:off x="343080" y="2247840"/>
            <a:ext cx="2095200" cy="1041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784800" y="3478320"/>
            <a:ext cx="1706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text below should b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ignment should be Left si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65 CÔTE DU BEAVER HAL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TRÉAL (QC) H2Z 1S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: 514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I-KO.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2" descr="Screen Shot 2013-07-30 at 07.10.03.png"/>
          <p:cNvPicPr/>
          <p:nvPr/>
        </p:nvPicPr>
        <p:blipFill>
          <a:blip r:embed="rId3"/>
          <a:stretch/>
        </p:blipFill>
        <p:spPr>
          <a:xfrm>
            <a:off x="2438280" y="1673280"/>
            <a:ext cx="727200" cy="165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Screen Shot 2013-07-30 at 07.03.56.png"/>
          <p:cNvPicPr/>
          <p:nvPr/>
        </p:nvPicPr>
        <p:blipFill>
          <a:blip r:embed="rId4"/>
          <a:stretch/>
        </p:blipFill>
        <p:spPr>
          <a:xfrm>
            <a:off x="2649600" y="2144880"/>
            <a:ext cx="298440" cy="1144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3402720" y="2556000"/>
            <a:ext cx="34056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n you recreate 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ntern with chine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acter in i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y using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hinese-tools.com/tools/calligraphy.htm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 the text box Type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居酒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 the #2 Box Choose Syle #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52280" y="1521000"/>
            <a:ext cx="3245040" cy="1804680"/>
          </a:xfrm>
          <a:prstGeom prst="rect">
            <a:avLst/>
          </a:prstGeom>
          <a:noFill/>
          <a:ln w="9360">
            <a:solidFill>
              <a:srgbClr val="000000">
                <a:alpha val="88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313000" y="888840"/>
            <a:ext cx="97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V Spo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ilar to MiY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usiness C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21"/>
          <p:cNvCxnSpPr/>
          <p:nvPr/>
        </p:nvCxnSpPr>
        <p:spPr>
          <a:xfrm flipH="1">
            <a:off x="2945520" y="1442880"/>
            <a:ext cx="2520" cy="432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Board Sp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26920" y="14176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hoto (2).JPG"/>
          <p:cNvPicPr/>
          <p:nvPr/>
        </p:nvPicPr>
        <p:blipFill>
          <a:blip r:embed="rId1"/>
          <a:stretch/>
        </p:blipFill>
        <p:spPr>
          <a:xfrm rot="10800000">
            <a:off x="1010880" y="1269360"/>
            <a:ext cx="6194520" cy="46465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6"/>
          <p:cNvCxnSpPr/>
          <p:nvPr/>
        </p:nvCxnSpPr>
        <p:spPr>
          <a:xfrm>
            <a:off x="1150560" y="2733840"/>
            <a:ext cx="59000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TextBox 9"/>
          <p:cNvSpPr/>
          <p:nvPr/>
        </p:nvSpPr>
        <p:spPr>
          <a:xfrm>
            <a:off x="3681360" y="273384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326’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0"/>
          <p:cNvCxnSpPr/>
          <p:nvPr/>
        </p:nvCxnSpPr>
        <p:spPr>
          <a:xfrm>
            <a:off x="5133600" y="2292480"/>
            <a:ext cx="19170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2" name="TextBox 14"/>
          <p:cNvSpPr/>
          <p:nvPr/>
        </p:nvSpPr>
        <p:spPr>
          <a:xfrm>
            <a:off x="5769000" y="229392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18’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16"/>
          <p:cNvCxnSpPr/>
          <p:nvPr/>
        </p:nvCxnSpPr>
        <p:spPr>
          <a:xfrm>
            <a:off x="1505520" y="1969560"/>
            <a:ext cx="1080" cy="600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TextBox 18"/>
          <p:cNvSpPr/>
          <p:nvPr/>
        </p:nvSpPr>
        <p:spPr>
          <a:xfrm>
            <a:off x="1506600" y="215424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31’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19"/>
          <p:cNvCxnSpPr/>
          <p:nvPr/>
        </p:nvCxnSpPr>
        <p:spPr>
          <a:xfrm>
            <a:off x="5289120" y="3463920"/>
            <a:ext cx="10184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6" name="TextBox 21"/>
          <p:cNvSpPr/>
          <p:nvPr/>
        </p:nvSpPr>
        <p:spPr>
          <a:xfrm>
            <a:off x="5386320" y="346536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74’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6697800" y="347976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4’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23"/>
          <p:cNvCxnSpPr/>
          <p:nvPr/>
        </p:nvCxnSpPr>
        <p:spPr>
          <a:xfrm>
            <a:off x="6697440" y="3462480"/>
            <a:ext cx="353160" cy="3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0:10:48Z</dcterms:created>
  <dc:creator>S Ma</dc:creator>
  <dc:description/>
  <dc:language>en-US</dc:language>
  <cp:lastModifiedBy>S Ma</cp:lastModifiedBy>
  <dcterms:modified xsi:type="dcterms:W3CDTF">2013-08-14T15:48:06Z</dcterms:modified>
  <cp:revision>4</cp:revision>
  <dc:subject/>
  <dc:title>Slide 1</dc:title>
</cp:coreProperties>
</file>