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0781-B0B7-4BE6-A1E5-5B4E4C6A9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E6F2-B4EF-44C3-B8EF-86780915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C6529-4533-41C4-85C3-0D6240E3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F48B-3CEE-4806-9AE2-A1D6F9F1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45FC-997C-433B-9274-71CEEEEB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D3E4-7AD5-4F08-A534-E4E69FFD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24DF4-9E57-4D3C-83A7-19E2D296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BFEA7-3FA6-4F1F-9505-F63FFB4B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731AD-D2FE-42B0-ABE9-E10894A3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51450-63A9-4DF6-A881-316EA5D4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B4745-C9C7-4794-8C37-95314D1A2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B0DC2D-FF53-4529-A3F7-5F918EBA13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A43D-6317-4C15-8ED3-9BF8CB0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98312-A4A9-49BE-BF91-A1831FA4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39849-7587-4BA0-A548-5D1DB0CD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54446-4812-4859-9795-D8422994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6D99D-68CA-4E37-B4F3-FA7C9A5F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06E888-8724-42F1-B362-7B09FEE6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F2735-9DD0-42C8-9862-527D0477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553B9-3055-4418-94B8-7DA8E750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B7361-4876-43BF-91F3-4DFDB322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B9624-4188-4801-B5F4-AF5E80B4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2D2A4-B43D-497D-AFAC-AD1C1B53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62A1-8DFF-4909-90EB-7D24523A65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EB439-0AC7-4513-B6EB-4CE7D07646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1D3E82-5769-40D6-87A3-7BF947973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0D203-D1BF-431D-AB44-338E376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A21DB8-DBDE-4B61-98AD-A239146B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6BCEB7-8BF9-4A34-A036-CEC54912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4E4D1C-2C2E-49B6-BB3C-9983A5B4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A70798-2BC0-4B5B-B6D7-B3CC8DA5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834190-74BB-403D-9F60-D7C82E95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13A421-780C-4768-BF72-D0711E9F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94D5CD-F414-4928-BBFB-517573C5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6C447-EF9D-4905-B6EA-D646FF07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EE3901-9B29-498E-AEC8-583A721E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D12837-0901-4A5B-A6CF-D5CB89FDC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E9AE1-33EA-4B70-A9F3-8D00C0E95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B8950-4FA4-4421-8864-19BF2FC1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F6979-AFA9-4B61-A94C-E8DF6EE8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9405B-C307-46BE-8E2A-7E98340A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FD4A-629D-4226-B756-9BE883C3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DC036-D1F5-44D5-8154-3FBE2F8F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E6311-A899-4C80-9F05-8FEE0095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08B56-4F97-4882-93B9-968F17A6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E664B-4095-43C4-B03A-23C08C9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CB45F-17D8-498B-B763-6319D353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E8E08-DCC3-481E-BBA6-D184854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6FB03-53AB-43A4-8EB0-79F8F6EC2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52B8B3-8542-4606-B593-CDDFF9211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38AC3-4575-46E4-A898-7A12A25F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D1867B-217E-4625-9E55-37690AFB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C1052-4084-46FE-867B-F154B4C2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3EE63-C396-4010-8D85-0C4E932F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F330F-04F7-46F0-ABF6-058B220D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06045-2B40-43BE-B75B-7572170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7DD0A3-57F8-4BC7-A52E-2E78D08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399508-9147-448F-8962-03F9816F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7D6BA8-4DB3-4AC0-8702-D1B9C2E4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29B49E-05B9-4123-BAFF-1B97FFA4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601BB-DB8F-4B66-B8E5-CD2087308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B5AF2-7DD7-47C1-BE53-0BB9FF00F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9E37A-EF1E-4614-9F41-B98B8917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5521E-295D-4A01-A19D-D31BD58B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42FDE-A4AF-405F-89F9-2720275F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1684E-CEE0-4572-8183-CE9DBA1E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BA4F3-3CB6-4D79-B54A-8E678934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4F240-2687-4797-AB38-3D516EAD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77783-F86A-4C5C-8621-FEB4B455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E344C-FFBA-40B5-A5E9-4D6ADA1F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C496E-C0B9-4B28-ABD4-23C90EEA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DE5A2-B017-4475-98B2-7622350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64F39-5DAF-41DD-9EFC-AB09C7BC34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1E03F-C567-4A90-BE4E-0EBD6EFC11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DC46A-14E4-4215-8799-CEA3F93C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F25E2-7852-4478-B4B7-A20FF6EF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D1168-7665-4EC3-B94B-09E090CC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77028-A014-4C9B-956F-EC19A6B7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75E53-9CAC-4274-BA5C-201CDBAE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66B9C-FA13-4C50-8DA3-C49F0AC0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CEF4E-0DCB-4D9E-A860-71B09049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1E14B-95F8-4167-A23E-8BA2959F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11730-EFD5-4FC4-B08A-D9682C47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57EE5-B248-4028-9DFB-202592B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5904-5D6E-4332-810B-E3C8E30DC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5F9919-AEDA-4778-8A79-FA3D3128B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8CCA83-BBF4-49DF-9F2A-5E047817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F2B2BA-AD52-4C16-AA39-15D9B3CE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2C4299-D731-4751-BC70-8C12841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A4F064-2FAC-4514-90FF-06FC57D1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993612-D1B8-4325-BD4D-A3B19BF5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FA2148-DA54-4772-A384-C05FD5ED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1FCA7-F602-4D3A-A72D-883EF115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1B9F12-DD55-440F-838C-BC808284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809F52-A142-40B2-A820-4D3D8D5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293644-68C9-4CBC-AEA5-A343D6EF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34AD3C-9CC3-4F80-8892-B3D01DA0C0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A9A85-152B-4D58-8A1A-4CC005B39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A3B71-336B-42B0-996C-83FD418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090A3-C363-4012-829D-37596283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D813E-B1F1-4F2C-8639-72E56843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43DBB-02AB-44B3-A2A5-75CD9855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426D9-9A03-456E-BFF2-D01F0656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A1467-4A6B-4844-8B16-F1A60A09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467E2-82C0-46BD-BFC3-6719AE5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E0D3C-0B15-4220-8C31-C6512450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85E40-C2B2-4EE8-BE20-EBD1A790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D767D-6364-4140-A331-E2387D87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CCB72-6974-4CB2-BF6A-008EE88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DD3F5-AAA4-4BF8-85FD-8A2AB9EC4F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26820-898D-4C45-A74E-A81FCD348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738B6-92FD-4938-BF89-FF40392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F41D5-74E4-495A-B27E-B5A84CDC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163A6-2E60-446B-B836-1E701F40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9AA86-0470-498C-AA0C-F4A78A6E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1B525-52B5-48BF-8922-1E341648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01D09-1418-467F-AAFF-A5021370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844CF-184F-4762-975E-62C2C7B6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5241F-858D-429A-9CA2-50404A5C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1DA07-459B-4A92-8E90-5B8E028B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492D6-8983-4877-90A4-C2AB59F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EE890-5A36-4F54-9BD3-D517D77EEF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A3693F-88BE-4D90-9487-EE6723860C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C4364A-AAF9-4E84-9092-C2DAE2CD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9FE151-F4FD-4175-B127-8F57A2C0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982C2D-9D9F-43AB-8B1D-737A910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BF5CAB-0A15-49A8-93EC-7DB2EBF9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4D1BDA-9610-4D21-AD2F-D8CE97CC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3C1CF1-130F-456A-9659-A2D5C23A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600B67-30DA-4356-8F3D-991C3757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68AC7B-5912-4167-A891-1C79AA6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7D8776-650D-4E98-A09D-6310EB8A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43D4C1-C70C-4302-A3B6-3E1101C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96C5F4-26C0-477E-A4BE-941C24DC2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AC28-85AD-4694-9BA0-A836E8C87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2A1B-6C93-4183-9574-029E80F7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F2FE-3125-4DF4-972E-566159D8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40A-D3A2-49A3-96FE-1A7DC492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A7B7-F2B8-4323-B23F-516FB2C3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88F7-8525-49B8-8F53-7230F5A1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B62E-3FD0-4E0F-BCEC-E847265B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AE92-DBFC-40D7-9A62-8B770B7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B4B0-6CAE-4E41-9260-8A13CE77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0C20-E76D-47EB-98D9-3C60D9E2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4160-B226-44B8-B2D1-5D0A377E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273D-BDA8-4A90-B26F-79553FC1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ED03-C04D-44ED-8A67-D9639090E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01634-1CB3-4C53-B925-15BFE91BD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8D6C8-C473-44D8-9FB8-6A3C5618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BADDA-8E00-4779-B72B-D2289555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0FE4-7A47-4A47-8733-A99DF419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D1A8D-B33C-487B-A874-FD7A215B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7A680-2307-427A-827F-9A8F918E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4CC73-EEB9-4CF6-962A-93C209E9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274E2-375B-483C-AEE7-E6F5B1B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CEE83-DBAF-4F5A-8EB4-C79D64BE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C68A8-90E8-46D9-BA2E-59494FE7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66860-5462-47C0-B6AE-2FB22ABD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BAE25-22C6-48D5-B1C5-872C6437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BF794-90F4-442D-A058-B8CD715F3B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76A45-DD73-480C-A28D-F76DC5F28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07EF-BEE1-45F4-B98C-A49F0051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F7C45-A3A0-4B3A-B538-106496D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61C93-05EE-461C-B4F7-D68B4CA6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733B1-56F5-4D94-9DC3-4F620C21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B99AB-F017-40C8-823B-7FF2CA93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29FE8-DFCF-4BC9-90A9-6A60D323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47D6A-1DF0-4050-AB7A-A2ED3C72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41733-133F-4C40-8167-73993C45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2D87F-08C5-415A-90B5-A371AE9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2E82A-E2EE-48F3-BB9A-1064B28F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9142F-0386-441A-B71D-58699EB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2490-C659-4FAE-B375-015BDE59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8FC46-8ADB-4557-BB50-710D737D5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6C9D-1F26-4832-BB0F-AEA614088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ED77-4D8E-4BB8-8CA3-16E8CDFA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CFEA-98ED-4801-8655-A542EE8F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33CE-5596-48A3-8843-E579E5F3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D9C4-A738-45BE-9709-AFE954F2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62B9-A317-4878-9C79-7BD3B7E6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33BAC-5D5A-433B-9470-55DA2504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573B-4159-413E-ADE9-9B589D08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10EA-16E8-4B66-A393-92B992B7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4E8C-57E3-4870-81E3-FB854718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6EEC-E575-411E-8BA5-E628B71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2EC0-1585-4A6E-A34B-66C1C57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B8E6-A445-45EE-A264-F3A12D1F85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9EE88-264D-4C6C-BA93-A69729930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E515D-054F-4E5D-867B-E9C1433E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A0467-8692-4743-826E-F86F4569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BE51D-7F80-4F20-810D-676CA2BB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8AD41-DDE9-4BAE-B7CE-FE0634ED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1114E-C588-4509-B690-34785D45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3C0F8-98D8-4F80-AD2B-C7BAEBFF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3D56-0269-4AA3-AF97-7A212AE2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4F608-2A1E-49A8-8AEA-07F59881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7B220-EB5C-4276-919E-04C06A49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13455-1393-43D3-8ECF-4A8C80D3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DE47D-898A-4B00-B0F2-78C8281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535B3-7A99-48E4-AF22-FAC764AB30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EF4AA-101D-467A-8F65-FE2E84C5E8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A0818-86E6-4F24-8503-B9EA2F82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8B2974-BA7D-44C3-90A1-2E956510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71325-93A5-44DD-9668-F93D46F4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F3DC9B-CF83-43FE-95BE-D57EF694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8491-26DF-40B5-A983-BCE92197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71280" y="228240"/>
            <a:ext cx="74818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69011F-8246-4275-B67D-2692B982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148F2E-3F9D-4348-A7A2-156CC68A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E526F-0BCB-402E-BA49-71D53C5B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F5DDB-05FA-4BE3-98FB-1D6266D5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90720" y="3291840"/>
            <a:ext cx="7767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BEB319-1BE9-47DE-83EF-8B01D110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71240" y="114300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9072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971240" y="329184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3502D3-30E0-4327-A8A1-E975B22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1692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43480" y="114300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907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1692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243480" y="329184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DC2E04-AFCD-41DD-989E-DD7798359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AE8D-4C61-42B7-B10C-7A62D20F1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2E226-E237-48A6-8157-9AF4A56A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A30D-EAEA-44A2-B2F5-CBE24D7F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NFIDENTIAL – DO NOT CIRC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D49A25-B978-45BC-8F22-732E095BE076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6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388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9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2419C7-5128-4C97-9734-E2AE08C226F4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99FB42-7081-49E3-B3B8-138C3EFEB041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431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1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3CDE57-2062-4FC6-B980-3B9CB782C787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2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DA6AD0-F7DE-4485-BFA0-54D912B0D7B6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73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474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3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FDC5A4-EAD5-4EE8-B24A-3F4719477849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24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FAB8AA-A6E8-4147-BA7A-BDD218795B08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517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06EF7E-009C-4FBF-8F8E-AE92F101DEF4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933C54-81CF-464B-9136-177F55241448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560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7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ACA3D7-5404-44AA-B93B-9FE13B2B6EF4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28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EA234A-60E3-4495-A366-77DE52CE7021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603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9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A1647B-2F17-4885-AD08-4C9E1A54D445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sldNum" idx="30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AD7EAD-81FB-4D88-ABA5-A18AC0D741CC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646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31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75290D-6C0E-4819-9374-E9CA73DCDF56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32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AD0984D-7EFC-4749-A9B7-01C0C6CF6F1D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689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3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FE7D98-21CA-4A4A-9C80-86F93F338947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sldNum" idx="34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60B4EE-32D7-472F-B524-DE4EB9D030FA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732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35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D24DE7-B41E-49E5-A7D0-22ACEC898BAF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sldNum" idx="36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4FE4C2-F9E9-4D25-ADA3-F5245716066E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775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37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3DC654-991C-4FDF-B284-5FD3BC4E2CC1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sldNum" idx="38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3820E4-75A8-4741-814C-9975C2677B65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205A1A-D957-4DD1-8D48-8046D2C0963C}" type="datetime">
              <a:rPr b="0" lang="en-HK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153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ONFIDENTIAL - DO NOT CIRCU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1333440" y="2895480"/>
            <a:ext cx="7010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1344600" y="4572000"/>
            <a:ext cx="7010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2133720" y="6553080"/>
            <a:ext cx="701028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2133720" y="0"/>
            <a:ext cx="70102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820" name="Picture 10" descr="icicibanktop"/>
          <p:cNvPicPr/>
          <p:nvPr/>
        </p:nvPicPr>
        <p:blipFill>
          <a:blip r:embed="rId3"/>
          <a:stretch/>
        </p:blipFill>
        <p:spPr>
          <a:xfrm>
            <a:off x="1219320" y="533520"/>
            <a:ext cx="4952880" cy="109692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4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39"/>
          </p:nvPr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8EC91C-5EFD-452A-A19D-CC0E49B7248D}" type="datetime">
              <a:rPr b="0" lang="en-HK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40"/>
          </p:nvPr>
        </p:nvSpPr>
        <p:spPr>
          <a:xfrm>
            <a:off x="3124080" y="6153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ONFIDENTIAL - DO NOT CIRCU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85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Interlinkages.eps"/>
          <p:cNvPicPr/>
          <p:nvPr/>
        </p:nvPicPr>
        <p:blipFill>
          <a:blip r:embed="rId3"/>
          <a:stretch/>
        </p:blipFill>
        <p:spPr>
          <a:xfrm>
            <a:off x="-36360" y="765000"/>
            <a:ext cx="9144000" cy="1897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20FEBE-9BB5-431E-8626-8B3C742D96A9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1A7D93-01F9-4DEB-B466-3F6A26C37378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129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NFIDENTIAL – DO NOT CIRC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1CCFE0-AB10-45BB-BC6B-3AAECED5D472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172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865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96FE7C-5627-4CA0-BFC5-807590971BB1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94B8FA-989F-4C37-95DA-4721B4466C24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216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7163D9-8ECE-41DE-A1F6-33FCDF4344C6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2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DC4CC3-C15A-49C4-832F-B79CC5C15752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259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187179-6919-4B25-9C0F-D2BA5701E202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4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E76674-007A-4273-BC5D-9148826E26F5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302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5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1F17E0-DDCD-48BF-838C-1441D8D4B850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6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ACB4137-33F3-47A2-ACD5-74EB90DFE61A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345" name="Picture 2" descr="Interlinkages.eps"/>
          <p:cNvPicPr/>
          <p:nvPr/>
        </p:nvPicPr>
        <p:blipFill>
          <a:blip r:embed="rId2"/>
          <a:stretch/>
        </p:blipFill>
        <p:spPr>
          <a:xfrm>
            <a:off x="6934320" y="6308640"/>
            <a:ext cx="2084400" cy="4334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67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1" marL="738360" indent="-28116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71280" y="228240"/>
            <a:ext cx="74818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7"/>
          </p:nvPr>
        </p:nvSpPr>
        <p:spPr>
          <a:xfrm>
            <a:off x="1045800" y="6573600"/>
            <a:ext cx="51814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HK" sz="1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3B7FF0-CD34-48A1-8FC2-019373AAA1F9}" type="datetime">
              <a:rPr b="0" lang="en-HK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0" y="6552720"/>
            <a:ext cx="106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0B36D3-47F7-4E39-85CA-65983236CA07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Geographical Reach –Corporate Deals Placed 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990720" y="1501920"/>
            <a:ext cx="776736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  <a:p>
            <a:pPr marL="338040" indent="-338040">
              <a:spcBef>
                <a:spcPts val="601"/>
              </a:spcBef>
              <a:buClr>
                <a:srgbClr val="97291e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ff"/>
              </a:solidFill>
              <a:latin typeface="Zurich BT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0" y="6553080"/>
            <a:ext cx="106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F15C24-D885-4666-9535-2D17AE71E7DF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fld>
            <a:endParaRPr b="1" lang="en-US" sz="10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864" name="Group 44" descr=""/>
          <p:cNvPicPr/>
          <p:nvPr/>
        </p:nvPicPr>
        <p:blipFill>
          <a:blip r:embed="rId1"/>
          <a:stretch/>
        </p:blipFill>
        <p:spPr>
          <a:xfrm>
            <a:off x="85680" y="1182600"/>
            <a:ext cx="8948880" cy="48402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257" descr="blue"/>
          <p:cNvPicPr/>
          <p:nvPr/>
        </p:nvPicPr>
        <p:blipFill>
          <a:blip r:embed="rId2"/>
          <a:stretch/>
        </p:blipFill>
        <p:spPr>
          <a:xfrm>
            <a:off x="1679400" y="2862360"/>
            <a:ext cx="338400" cy="2746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257" descr="blue"/>
          <p:cNvPicPr/>
          <p:nvPr/>
        </p:nvPicPr>
        <p:blipFill>
          <a:blip r:embed="rId3"/>
          <a:stretch/>
        </p:blipFill>
        <p:spPr>
          <a:xfrm>
            <a:off x="7034040" y="3548160"/>
            <a:ext cx="341640" cy="2808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265" descr="yellow"/>
          <p:cNvPicPr/>
          <p:nvPr/>
        </p:nvPicPr>
        <p:blipFill>
          <a:blip r:embed="rId4"/>
          <a:stretch/>
        </p:blipFill>
        <p:spPr>
          <a:xfrm>
            <a:off x="6802560" y="4084560"/>
            <a:ext cx="341280" cy="27936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263" descr="red"/>
          <p:cNvPicPr/>
          <p:nvPr/>
        </p:nvPicPr>
        <p:blipFill>
          <a:blip r:embed="rId5"/>
          <a:stretch/>
        </p:blipFill>
        <p:spPr>
          <a:xfrm>
            <a:off x="5530680" y="3573360"/>
            <a:ext cx="338400" cy="2653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10"/>
          <p:cNvSpPr/>
          <p:nvPr/>
        </p:nvSpPr>
        <p:spPr>
          <a:xfrm>
            <a:off x="2003040" y="294336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Zurich BT"/>
              </a:rPr>
              <a:t>US 10.0</a:t>
            </a:r>
            <a:endParaRPr b="1" lang="en-US" sz="1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0" name="TextBox 25"/>
          <p:cNvSpPr/>
          <p:nvPr/>
        </p:nvSpPr>
        <p:spPr>
          <a:xfrm>
            <a:off x="5774760" y="36226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ubai 27.6</a:t>
            </a:r>
            <a:endParaRPr b="1" lang="en-US" sz="1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1" name="TextBox 12"/>
          <p:cNvSpPr/>
          <p:nvPr/>
        </p:nvSpPr>
        <p:spPr>
          <a:xfrm>
            <a:off x="4221360" y="33498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16165d"/>
                </a:solidFill>
                <a:latin typeface="Zurich BT"/>
              </a:rPr>
              <a:t>Morocco 8.4</a:t>
            </a:r>
            <a:endParaRPr b="1" lang="en-US" sz="1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2" name="TextBox 37"/>
          <p:cNvSpPr/>
          <p:nvPr/>
        </p:nvSpPr>
        <p:spPr>
          <a:xfrm>
            <a:off x="7009200" y="41641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32946a"/>
                </a:solidFill>
                <a:latin typeface="Arial"/>
              </a:rPr>
              <a:t>Singapore 6.0</a:t>
            </a:r>
            <a:endParaRPr b="1" lang="en-US" sz="1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3" name="TextBox 14"/>
          <p:cNvSpPr/>
          <p:nvPr/>
        </p:nvSpPr>
        <p:spPr>
          <a:xfrm>
            <a:off x="7274160" y="361620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Zurich BT"/>
              </a:rPr>
              <a:t>Hong Kong 13.0</a:t>
            </a:r>
            <a:endParaRPr b="1" lang="en-US" sz="12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874" name="Picture 257" descr="blue"/>
          <p:cNvPicPr/>
          <p:nvPr/>
        </p:nvPicPr>
        <p:blipFill>
          <a:blip r:embed="rId6"/>
          <a:stretch/>
        </p:blipFill>
        <p:spPr>
          <a:xfrm>
            <a:off x="3981600" y="3286080"/>
            <a:ext cx="345960" cy="279360"/>
          </a:xfrm>
          <a:prstGeom prst="rect">
            <a:avLst/>
          </a:prstGeom>
          <a:ln w="0">
            <a:noFill/>
          </a:ln>
        </p:spPr>
      </p:pic>
      <p:sp>
        <p:nvSpPr>
          <p:cNvPr id="875" name="TextBox 68"/>
          <p:cNvSpPr/>
          <p:nvPr/>
        </p:nvSpPr>
        <p:spPr>
          <a:xfrm>
            <a:off x="611280" y="6264360"/>
            <a:ext cx="360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4d"/>
                </a:solidFill>
                <a:latin typeface="Zurich BT"/>
              </a:rPr>
              <a:t>Amount in USD million</a:t>
            </a:r>
            <a:endParaRPr b="1" lang="en-US" sz="11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6" name="TextBox 25"/>
          <p:cNvSpPr/>
          <p:nvPr/>
        </p:nvSpPr>
        <p:spPr>
          <a:xfrm>
            <a:off x="5606280" y="33242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Arial"/>
              </a:rPr>
              <a:t>Kuwait 80.0</a:t>
            </a:r>
            <a:endParaRPr b="1" lang="en-US" sz="1200" spc="-1" strike="noStrike">
              <a:solidFill>
                <a:srgbClr val="00004d"/>
              </a:solidFill>
              <a:latin typeface="Zurich BT"/>
            </a:endParaRPr>
          </a:p>
        </p:txBody>
      </p:sp>
      <p:pic>
        <p:nvPicPr>
          <p:cNvPr id="877" name="Picture 263" descr="red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5342040" y="3392640"/>
            <a:ext cx="338040" cy="2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laji</dc:creator>
  <dc:description/>
  <dc:language>en-US</dc:language>
  <cp:lastModifiedBy>anindita ghosh</cp:lastModifiedBy>
  <cp:lastPrinted>2015-03-05T02:14:52Z</cp:lastPrinted>
  <dcterms:modified xsi:type="dcterms:W3CDTF">2016-02-29T03:18:07Z</dcterms:modified>
  <cp:revision>2208</cp:revision>
  <dc:subject/>
  <dc:title>ICICI Bank: Opportunities for Partnership</dc:title>
</cp:coreProperties>
</file>